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8988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99200" cy="8989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099200" cy="898848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8480"/>
              <a:gd name="textAreaBottom" fmla="*/ 8988120 h 8988480"/>
            </a:gdLst>
            <a:ahLst/>
            <a:rect l="textAreaLeft" t="textAreaTop" r="textAreaRight" b="textAreaBottom"/>
            <a:pathLst>
              <a:path w="21600" h="27348">
                <a:moveTo>
                  <a:pt x="4" y="0"/>
                </a:moveTo>
                <a:arcTo wR="4" hR="4" stAng="16200000" swAng="-5400000"/>
                <a:lnTo>
                  <a:pt x="0" y="27344"/>
                </a:lnTo>
                <a:arcTo wR="4" hR="4" stAng="10800000" swAng="-5400000"/>
                <a:lnTo>
                  <a:pt x="21596" y="27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099200" cy="898992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8989920"/>
              <a:gd name="textAreaBottom" fmla="*/ 8989560 h 8989920"/>
            </a:gdLst>
            <a:ahLst/>
            <a:rect l="textAreaLeft" t="textAreaTop" r="textAreaRight" b="textAreaBottom"/>
            <a:pathLst>
              <a:path w="21600" h="27352">
                <a:moveTo>
                  <a:pt x="4" y="0"/>
                </a:moveTo>
                <a:arcTo wR="4" hR="4" stAng="16200000" swAng="-5400000"/>
                <a:lnTo>
                  <a:pt x="0" y="27348"/>
                </a:lnTo>
                <a:arcTo wR="4" hR="4" stAng="10800000" swAng="-5400000"/>
                <a:lnTo>
                  <a:pt x="21596" y="2735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25636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301400" y="682560"/>
            <a:ext cx="449244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346040" y="68580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914040" y="4266720"/>
            <a:ext cx="525780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769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3910680"/>
            <a:ext cx="7769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39106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6680" y="39106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000" y="15238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920" y="15238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39106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000" y="39106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920" y="3910680"/>
            <a:ext cx="2501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769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769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236160"/>
            <a:ext cx="776916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39106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6680" y="39106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523880"/>
            <a:ext cx="3791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910680"/>
            <a:ext cx="776916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36160"/>
            <a:ext cx="776916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23880"/>
            <a:ext cx="7769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5840" y="285480"/>
            <a:ext cx="8371080" cy="634356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Lenguaje de Programación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p. 1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40840" y="117360"/>
            <a:ext cx="879948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Unidad Central de Procesos: CPU (3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196920" y="1838160"/>
            <a:ext cx="2859120" cy="4216680"/>
          </a:xfrm>
          <a:custGeom>
            <a:avLst/>
            <a:gdLst>
              <a:gd name="textAreaLeft" fmla="*/ 360 w 2859120"/>
              <a:gd name="textAreaRight" fmla="*/ 2858760 w 2859120"/>
              <a:gd name="textAreaTop" fmla="*/ 360 h 4216680"/>
              <a:gd name="textAreaBottom" fmla="*/ 4216320 h 4216680"/>
            </a:gdLst>
            <a:ahLst/>
            <a:rect l="textAreaLeft" t="textAreaTop" r="textAreaRight" b="textAreaBottom"/>
            <a:pathLst>
              <a:path w="21600" h="31855">
                <a:moveTo>
                  <a:pt x="12" y="0"/>
                </a:moveTo>
                <a:arcTo wR="12" hR="12" stAng="16200000" swAng="-5400000"/>
                <a:lnTo>
                  <a:pt x="0" y="31843"/>
                </a:lnTo>
                <a:arcTo wR="12" hR="12" stAng="10800000" swAng="-5400000"/>
                <a:lnTo>
                  <a:pt x="21588" y="31855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b3b3b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1440" y="2271600"/>
            <a:ext cx="2724120" cy="382680"/>
          </a:xfrm>
          <a:prstGeom prst="roundRect">
            <a:avLst>
              <a:gd name="adj" fmla="val 417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4040" y="2978280"/>
            <a:ext cx="2713320" cy="374400"/>
          </a:xfrm>
          <a:prstGeom prst="roundRect">
            <a:avLst>
              <a:gd name="adj" fmla="val 421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0520" y="4148280"/>
            <a:ext cx="2706840" cy="390240"/>
          </a:xfrm>
          <a:prstGeom prst="roundRect">
            <a:avLst>
              <a:gd name="adj" fmla="val 403"/>
            </a:avLst>
          </a:prstGeom>
          <a:solidFill>
            <a:srgbClr val="00ffff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9880" y="3630600"/>
            <a:ext cx="2703600" cy="338040"/>
          </a:xfrm>
          <a:prstGeom prst="roundRect">
            <a:avLst>
              <a:gd name="adj" fmla="val 468"/>
            </a:avLst>
          </a:prstGeom>
          <a:solidFill>
            <a:srgbClr val="ffcc99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gistro de Instrucció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21120" y="2419200"/>
            <a:ext cx="4906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rección de la próxima instr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67160" y="2895480"/>
            <a:ext cx="554364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unta a la próxima i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aparece como opera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ede ser modificado por instrucciones de transferencia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.: Jmp 2000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mbia el contenido de IP por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126960" y="4336920"/>
            <a:ext cx="274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40840" y="117360"/>
            <a:ext cx="879948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Unidad Central de Procesos: CPU (4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196920" y="1838160"/>
            <a:ext cx="2859120" cy="4216680"/>
          </a:xfrm>
          <a:custGeom>
            <a:avLst/>
            <a:gdLst>
              <a:gd name="textAreaLeft" fmla="*/ 360 w 2859120"/>
              <a:gd name="textAreaRight" fmla="*/ 2858760 w 2859120"/>
              <a:gd name="textAreaTop" fmla="*/ 360 h 4216680"/>
              <a:gd name="textAreaBottom" fmla="*/ 4216320 h 4216680"/>
            </a:gdLst>
            <a:ahLst/>
            <a:rect l="textAreaLeft" t="textAreaTop" r="textAreaRight" b="textAreaBottom"/>
            <a:pathLst>
              <a:path w="21600" h="31855">
                <a:moveTo>
                  <a:pt x="12" y="0"/>
                </a:moveTo>
                <a:arcTo wR="12" hR="12" stAng="16200000" swAng="-5400000"/>
                <a:lnTo>
                  <a:pt x="0" y="31843"/>
                </a:lnTo>
                <a:arcTo wR="12" hR="12" stAng="10800000" swAng="-5400000"/>
                <a:lnTo>
                  <a:pt x="21588" y="31855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b3b3b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1440" y="2271600"/>
            <a:ext cx="2724120" cy="382680"/>
          </a:xfrm>
          <a:prstGeom prst="roundRect">
            <a:avLst>
              <a:gd name="adj" fmla="val 417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4040" y="2978280"/>
            <a:ext cx="2713320" cy="374400"/>
          </a:xfrm>
          <a:prstGeom prst="roundRect">
            <a:avLst>
              <a:gd name="adj" fmla="val 421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0520" y="4148280"/>
            <a:ext cx="2706840" cy="390240"/>
          </a:xfrm>
          <a:prstGeom prst="roundRect">
            <a:avLst>
              <a:gd name="adj" fmla="val 403"/>
            </a:avLst>
          </a:prstGeom>
          <a:solidFill>
            <a:srgbClr val="00ffff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7920" y="4675320"/>
            <a:ext cx="2703240" cy="412560"/>
          </a:xfrm>
          <a:prstGeom prst="roundRect">
            <a:avLst>
              <a:gd name="adj" fmla="val 384"/>
            </a:avLst>
          </a:prstGeom>
          <a:solidFill>
            <a:srgbClr val="00ffff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gistro de estad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9880" y="3630600"/>
            <a:ext cx="2703600" cy="338040"/>
          </a:xfrm>
          <a:prstGeom prst="roundRect">
            <a:avLst>
              <a:gd name="adj" fmla="val 468"/>
            </a:avLst>
          </a:prstGeom>
          <a:solidFill>
            <a:srgbClr val="ffcc99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gistro de Instrucció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37120" y="3790800"/>
            <a:ext cx="473868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nderas de resultado de la última instrucción ejecu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da bandera puede estar arriba o abajo (1 ó 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mplo: si el resultado fue negativo, cero, si se dividió por cer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60440" y="4906800"/>
            <a:ext cx="911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40840" y="117360"/>
            <a:ext cx="879948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Unidad Central de Procesos: CPU (5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196920" y="1838160"/>
            <a:ext cx="2859120" cy="4216680"/>
          </a:xfrm>
          <a:custGeom>
            <a:avLst/>
            <a:gdLst>
              <a:gd name="textAreaLeft" fmla="*/ 360 w 2859120"/>
              <a:gd name="textAreaRight" fmla="*/ 2858760 w 2859120"/>
              <a:gd name="textAreaTop" fmla="*/ 360 h 4216680"/>
              <a:gd name="textAreaBottom" fmla="*/ 4216320 h 4216680"/>
            </a:gdLst>
            <a:ahLst/>
            <a:rect l="textAreaLeft" t="textAreaTop" r="textAreaRight" b="textAreaBottom"/>
            <a:pathLst>
              <a:path w="21600" h="31855">
                <a:moveTo>
                  <a:pt x="12" y="0"/>
                </a:moveTo>
                <a:arcTo wR="12" hR="12" stAng="16200000" swAng="-5400000"/>
                <a:lnTo>
                  <a:pt x="0" y="31843"/>
                </a:lnTo>
                <a:arcTo wR="12" hR="12" stAng="10800000" swAng="-5400000"/>
                <a:lnTo>
                  <a:pt x="21588" y="31855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b3b3b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1440" y="2271600"/>
            <a:ext cx="2724120" cy="382680"/>
          </a:xfrm>
          <a:prstGeom prst="roundRect">
            <a:avLst>
              <a:gd name="adj" fmla="val 417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4040" y="2978280"/>
            <a:ext cx="2713320" cy="374400"/>
          </a:xfrm>
          <a:prstGeom prst="roundRect">
            <a:avLst>
              <a:gd name="adj" fmla="val 421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0520" y="4148280"/>
            <a:ext cx="2706840" cy="390240"/>
          </a:xfrm>
          <a:prstGeom prst="roundRect">
            <a:avLst>
              <a:gd name="adj" fmla="val 403"/>
            </a:avLst>
          </a:prstGeom>
          <a:solidFill>
            <a:srgbClr val="00ffff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7920" y="4675320"/>
            <a:ext cx="2703240" cy="412560"/>
          </a:xfrm>
          <a:prstGeom prst="roundRect">
            <a:avLst>
              <a:gd name="adj" fmla="val 384"/>
            </a:avLst>
          </a:prstGeom>
          <a:solidFill>
            <a:srgbClr val="00ffff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gistro de estad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6120" y="5264280"/>
            <a:ext cx="2722680" cy="412560"/>
          </a:xfrm>
          <a:prstGeom prst="roundRect">
            <a:avLst>
              <a:gd name="adj" fmla="val 384"/>
            </a:avLst>
          </a:prstGeom>
          <a:solidFill>
            <a:srgbClr val="00ffff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9880" y="3630600"/>
            <a:ext cx="2703600" cy="338040"/>
          </a:xfrm>
          <a:prstGeom prst="roundRect">
            <a:avLst>
              <a:gd name="adj" fmla="val 468"/>
            </a:avLst>
          </a:prstGeom>
          <a:solidFill>
            <a:srgbClr val="ffcc99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gistro de Instrucció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37120" y="5265720"/>
            <a:ext cx="3449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rección del tope de p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193560" y="5408640"/>
            <a:ext cx="878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98760" y="1943280"/>
            <a:ext cx="5459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pila es una estructura que permite almacenar y retirar datos sólo del t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 usa  para trabajar con “subprogram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pilas pueden estar en cualquier parte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553080" y="626760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1200" y="4730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Ciclo de ejecución: CPU (6)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4320" y="2325600"/>
            <a:ext cx="87087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s Instrucciones del programa “viajan” por el bus de datos y llegan al “Registro de  Instrucción” de la CPU donde son “ejecutad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s instrucciones son llevadas secuencialmente a la C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procesador  realiza el “Ciclo de Ejecución de instrucciones”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0920" y="4637160"/>
            <a:ext cx="4104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er instrucción apuntada por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65960" y="5216400"/>
            <a:ext cx="1824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crementar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451320" y="5821200"/>
            <a:ext cx="2452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cutar instr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25920" y="4978440"/>
            <a:ext cx="18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24480" y="5513400"/>
            <a:ext cx="144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25920" y="6167520"/>
            <a:ext cx="18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1842840" y="6435720"/>
            <a:ext cx="2685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881360" y="4363920"/>
            <a:ext cx="1440" cy="21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47880" y="4324320"/>
            <a:ext cx="267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492800" y="4324320"/>
            <a:ext cx="144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553080" y="626760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1200" y="4730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Instrucciones de máqu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34880" y="2292480"/>
            <a:ext cx="849168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 movimiento, copia el contenido de una celda  de memoria o registro en otra celda o registro. Ej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ov AX, (2000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itméticas y lógicas, suman, restan dividen, etc. Ej.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AX, 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 trasferencia de control, cambian el contenido de IP cambiando el lugar de la RAM desde el cual secuencialmente las instrucciones. Ej.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mp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Modos de direccionamiento (1)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8840" y="1860480"/>
            <a:ext cx="5921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el operando es un registro que contiene el dato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2600" y="2760840"/>
            <a:ext cx="4240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media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el operando es el d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16640" y="2646360"/>
            <a:ext cx="154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 AX,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72000" y="2997360"/>
            <a:ext cx="302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7596360" y="2995200"/>
            <a:ext cx="1569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32720" y="2421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64440" y="1828800"/>
            <a:ext cx="1753920" cy="382680"/>
          </a:xfrm>
          <a:prstGeom prst="roundRect">
            <a:avLst>
              <a:gd name="adj" fmla="val 41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97520" y="1919160"/>
            <a:ext cx="329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19640" y="2276640"/>
            <a:ext cx="331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Modos de direccionamiento (2)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840" y="1860480"/>
            <a:ext cx="5921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el operando es un registro que contiene el dato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6120" y="3524400"/>
            <a:ext cx="3854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rec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el operando es la dirección el d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24360" y="234936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12800" y="2924280"/>
            <a:ext cx="2058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 AX, (2000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46880" y="3700440"/>
            <a:ext cx="1741320" cy="401760"/>
          </a:xfrm>
          <a:prstGeom prst="roundRect">
            <a:avLst>
              <a:gd name="adj" fmla="val 3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5080" y="4094280"/>
            <a:ext cx="1741680" cy="401400"/>
          </a:xfrm>
          <a:prstGeom prst="roundRect">
            <a:avLst>
              <a:gd name="adj" fmla="val 3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97160" y="379080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364440" y="1828800"/>
            <a:ext cx="1753920" cy="382680"/>
          </a:xfrm>
          <a:prstGeom prst="roundRect">
            <a:avLst>
              <a:gd name="adj" fmla="val 41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97520" y="1919160"/>
            <a:ext cx="329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419640" y="3355920"/>
            <a:ext cx="237636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553080" y="626760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Modos de direccionamiento (3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8840" y="1860480"/>
            <a:ext cx="5921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l operando es un registro que contiene el dato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2880" y="4703760"/>
            <a:ext cx="5378760" cy="16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ido o indirec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l operando es la dirección de la dirección del d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 celda cuya dirección aparece en el operando  se le denomina punt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56000" y="2349360"/>
            <a:ext cx="936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00360" y="3573360"/>
            <a:ext cx="22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X, ((2000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46880" y="4816440"/>
            <a:ext cx="174132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45080" y="5210280"/>
            <a:ext cx="174168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97160" y="490680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46880" y="5969160"/>
            <a:ext cx="174132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45080" y="636264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897160" y="605952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2" name=""/>
          <p:cNvCxnSpPr>
            <a:stCxn id="646" idx="3"/>
            <a:endCxn id="649" idx="3"/>
          </p:cNvCxnSpPr>
          <p:nvPr/>
        </p:nvCxnSpPr>
        <p:spPr>
          <a:xfrm>
            <a:off x="8187840" y="5018040"/>
            <a:ext cx="2520" cy="1153440"/>
          </a:xfrm>
          <a:prstGeom prst="bentConnector3">
            <a:avLst>
              <a:gd name="adj1" fmla="val 143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3" name=""/>
          <p:cNvSpPr/>
          <p:nvPr/>
        </p:nvSpPr>
        <p:spPr>
          <a:xfrm>
            <a:off x="6364440" y="1828800"/>
            <a:ext cx="1753920" cy="382680"/>
          </a:xfrm>
          <a:prstGeom prst="roundRect">
            <a:avLst>
              <a:gd name="adj" fmla="val 41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97520" y="1919160"/>
            <a:ext cx="329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/>
          <p:nvPr/>
        </p:nvCxnSpPr>
        <p:spPr>
          <a:xfrm>
            <a:off x="7308360" y="5660640"/>
            <a:ext cx="2520" cy="26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656" name=""/>
          <p:cNvSpPr/>
          <p:nvPr/>
        </p:nvSpPr>
        <p:spPr>
          <a:xfrm flipV="1">
            <a:off x="2700360" y="4003560"/>
            <a:ext cx="1727280" cy="5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Modos de direccionamiento (4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00360" y="2637000"/>
            <a:ext cx="22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X, ((2000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446880" y="2997360"/>
            <a:ext cx="174132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445080" y="339084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97160" y="308772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46880" y="4149720"/>
            <a:ext cx="174132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45080" y="4543560"/>
            <a:ext cx="174168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97160" y="424008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59" idx="3"/>
            <a:endCxn id="662" idx="3"/>
          </p:cNvCxnSpPr>
          <p:nvPr/>
        </p:nvCxnSpPr>
        <p:spPr>
          <a:xfrm>
            <a:off x="8187840" y="3197160"/>
            <a:ext cx="2520" cy="1153440"/>
          </a:xfrm>
          <a:prstGeom prst="bentConnector3">
            <a:avLst>
              <a:gd name="adj1" fmla="val 139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66" name=""/>
          <p:cNvSpPr/>
          <p:nvPr/>
        </p:nvSpPr>
        <p:spPr>
          <a:xfrm>
            <a:off x="6364440" y="1828800"/>
            <a:ext cx="1753920" cy="382680"/>
          </a:xfrm>
          <a:prstGeom prst="roundRect">
            <a:avLst>
              <a:gd name="adj" fmla="val 41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7520" y="1919160"/>
            <a:ext cx="329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/>
          <p:nvPr/>
        </p:nvCxnSpPr>
        <p:spPr>
          <a:xfrm>
            <a:off x="7308360" y="3841560"/>
            <a:ext cx="2520" cy="26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669" name=""/>
          <p:cNvSpPr/>
          <p:nvPr/>
        </p:nvSpPr>
        <p:spPr>
          <a:xfrm>
            <a:off x="2698920" y="3016080"/>
            <a:ext cx="128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200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49480" y="2637000"/>
            <a:ext cx="543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/>
          <p:nvPr/>
        </p:nvCxnSpPr>
        <p:spPr>
          <a:xfrm>
            <a:off x="7308360" y="4960800"/>
            <a:ext cx="2520" cy="26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672" name=""/>
          <p:cNvSpPr/>
          <p:nvPr/>
        </p:nvSpPr>
        <p:spPr>
          <a:xfrm>
            <a:off x="612720" y="4292640"/>
            <a:ext cx="4466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strucción de transferencia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17400" y="5300640"/>
            <a:ext cx="81280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ótulo que representa la dirección en la que está almacenada la i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698560" y="3376440"/>
            <a:ext cx="104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mp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3080" y="4724280"/>
            <a:ext cx="39585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strucción que incrementa en 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7400" y="5835600"/>
            <a:ext cx="72122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modo de direccionamientos hay en este program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é ocurre al repetirse la instrucción almacenada en uno ysiguient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uantas veces se ejecut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Modos de direccionamiento (5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446880" y="2997360"/>
            <a:ext cx="174132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45080" y="339084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7160" y="308772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46880" y="4149720"/>
            <a:ext cx="174132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45080" y="4543560"/>
            <a:ext cx="174168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97160" y="424008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78" idx="3"/>
            <a:endCxn id="682" idx="3"/>
          </p:cNvCxnSpPr>
          <p:nvPr/>
        </p:nvCxnSpPr>
        <p:spPr>
          <a:xfrm flipH="1">
            <a:off x="8186400" y="3196800"/>
            <a:ext cx="2160" cy="1546920"/>
          </a:xfrm>
          <a:prstGeom prst="bentConnector3">
            <a:avLst>
              <a:gd name="adj1" fmla="val -147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85" name=""/>
          <p:cNvSpPr/>
          <p:nvPr/>
        </p:nvSpPr>
        <p:spPr>
          <a:xfrm>
            <a:off x="6364440" y="1828800"/>
            <a:ext cx="1753920" cy="382680"/>
          </a:xfrm>
          <a:prstGeom prst="roundRect">
            <a:avLst>
              <a:gd name="adj" fmla="val 41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97520" y="1919160"/>
            <a:ext cx="329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/>
          <p:nvPr/>
        </p:nvCxnSpPr>
        <p:spPr>
          <a:xfrm>
            <a:off x="7308360" y="3841560"/>
            <a:ext cx="2520" cy="26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cxnSp>
        <p:nvCxnSpPr>
          <p:cNvPr id="688" name=""/>
          <p:cNvCxnSpPr/>
          <p:nvPr/>
        </p:nvCxnSpPr>
        <p:spPr>
          <a:xfrm>
            <a:off x="7308360" y="4960800"/>
            <a:ext cx="2520" cy="26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689" name=""/>
          <p:cNvSpPr/>
          <p:nvPr/>
        </p:nvSpPr>
        <p:spPr>
          <a:xfrm>
            <a:off x="2700360" y="2637000"/>
            <a:ext cx="22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 AX, ((2000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98920" y="3016080"/>
            <a:ext cx="128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 (200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49480" y="2637000"/>
            <a:ext cx="543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98560" y="3376440"/>
            <a:ext cx="104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mp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4000" y="5877000"/>
            <a:ext cx="84470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e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ificar el programa para que el valor contenido por el registro AX se copie en las direcciones 3000 en ade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120" y="90360"/>
            <a:ext cx="883944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tructura del computador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90600" y="2104920"/>
            <a:ext cx="85532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istema Procesado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Realiza la ejecución de los pr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Periférico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Medios de almacenamiento de largo plazo y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ositivos Entrada/Salida  de información (E/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Modos de direccionamiento (6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97000" y="270828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95560" y="3102120"/>
            <a:ext cx="174132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47280" y="279864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97000" y="386064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95560" y="4254480"/>
            <a:ext cx="174132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47280" y="395136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5" idx="3"/>
            <a:endCxn id="698" idx="3"/>
          </p:cNvCxnSpPr>
          <p:nvPr/>
        </p:nvCxnSpPr>
        <p:spPr>
          <a:xfrm>
            <a:off x="3838680" y="2909520"/>
            <a:ext cx="2160" cy="1152720"/>
          </a:xfrm>
          <a:prstGeom prst="bentConnector3">
            <a:avLst>
              <a:gd name="adj1" fmla="val 211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02" name=""/>
          <p:cNvCxnSpPr/>
          <p:nvPr/>
        </p:nvCxnSpPr>
        <p:spPr>
          <a:xfrm>
            <a:off x="2959200" y="3552480"/>
            <a:ext cx="2160" cy="2689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cxnSp>
        <p:nvCxnSpPr>
          <p:cNvPr id="703" name=""/>
          <p:cNvCxnSpPr/>
          <p:nvPr/>
        </p:nvCxnSpPr>
        <p:spPr>
          <a:xfrm>
            <a:off x="2959200" y="4671720"/>
            <a:ext cx="2160" cy="2689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704" name=""/>
          <p:cNvSpPr/>
          <p:nvPr/>
        </p:nvSpPr>
        <p:spPr>
          <a:xfrm>
            <a:off x="324000" y="1628640"/>
            <a:ext cx="84470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re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ificar el programa para que el valor contenido por el registro de la dirección 3000 en adelante se copie en las direcciones 4000 en ade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207040" y="2724120"/>
            <a:ext cx="174132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05240" y="3117960"/>
            <a:ext cx="174168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57320" y="281448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07040" y="3876840"/>
            <a:ext cx="174132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05240" y="427032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657320" y="396720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3"/>
            <a:endCxn id="708" idx="3"/>
          </p:cNvCxnSpPr>
          <p:nvPr/>
        </p:nvCxnSpPr>
        <p:spPr>
          <a:xfrm>
            <a:off x="6948000" y="2925720"/>
            <a:ext cx="2520" cy="1153440"/>
          </a:xfrm>
          <a:prstGeom prst="bentConnector3">
            <a:avLst>
              <a:gd name="adj1" fmla="val 203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2" name=""/>
          <p:cNvCxnSpPr/>
          <p:nvPr/>
        </p:nvCxnSpPr>
        <p:spPr>
          <a:xfrm>
            <a:off x="6068520" y="3568320"/>
            <a:ext cx="2520" cy="26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cxnSp>
        <p:nvCxnSpPr>
          <p:cNvPr id="713" name=""/>
          <p:cNvCxnSpPr/>
          <p:nvPr/>
        </p:nvCxnSpPr>
        <p:spPr>
          <a:xfrm>
            <a:off x="6068520" y="4687560"/>
            <a:ext cx="2520" cy="26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Relación: variables - celdas de mem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97000" y="1916280"/>
            <a:ext cx="174168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095560" y="2309760"/>
            <a:ext cx="174132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547280" y="200664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97000" y="306864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95560" y="3462480"/>
            <a:ext cx="174132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47280" y="315900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"/>
          <p:cNvCxnSpPr>
            <a:stCxn id="715" idx="3"/>
            <a:endCxn id="718" idx="3"/>
          </p:cNvCxnSpPr>
          <p:nvPr/>
        </p:nvCxnSpPr>
        <p:spPr>
          <a:xfrm>
            <a:off x="3838680" y="2116080"/>
            <a:ext cx="2160" cy="1153440"/>
          </a:xfrm>
          <a:prstGeom prst="bentConnector3">
            <a:avLst>
              <a:gd name="adj1" fmla="val 156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2" name=""/>
          <p:cNvCxnSpPr/>
          <p:nvPr/>
        </p:nvCxnSpPr>
        <p:spPr>
          <a:xfrm>
            <a:off x="2959200" y="2760480"/>
            <a:ext cx="2160" cy="2689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cxnSp>
        <p:nvCxnSpPr>
          <p:cNvPr id="723" name=""/>
          <p:cNvCxnSpPr/>
          <p:nvPr/>
        </p:nvCxnSpPr>
        <p:spPr>
          <a:xfrm>
            <a:off x="2959200" y="3879720"/>
            <a:ext cx="2160" cy="26928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724" name=""/>
          <p:cNvSpPr/>
          <p:nvPr/>
        </p:nvSpPr>
        <p:spPr>
          <a:xfrm>
            <a:off x="5207040" y="1932120"/>
            <a:ext cx="174132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205240" y="232560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657320" y="202248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07040" y="3084480"/>
            <a:ext cx="174132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205240" y="3478320"/>
            <a:ext cx="174168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657320" y="317484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4" idx="3"/>
            <a:endCxn id="727" idx="3"/>
          </p:cNvCxnSpPr>
          <p:nvPr/>
        </p:nvCxnSpPr>
        <p:spPr>
          <a:xfrm>
            <a:off x="6948000" y="2131920"/>
            <a:ext cx="2520" cy="1153440"/>
          </a:xfrm>
          <a:prstGeom prst="bentConnector3">
            <a:avLst>
              <a:gd name="adj1" fmla="val 157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6068520" y="2776320"/>
            <a:ext cx="2520" cy="26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cxnSp>
        <p:nvCxnSpPr>
          <p:cNvPr id="732" name=""/>
          <p:cNvCxnSpPr/>
          <p:nvPr/>
        </p:nvCxnSpPr>
        <p:spPr>
          <a:xfrm>
            <a:off x="6068520" y="3895560"/>
            <a:ext cx="2520" cy="26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733" name=""/>
          <p:cNvSpPr/>
          <p:nvPr/>
        </p:nvSpPr>
        <p:spPr>
          <a:xfrm>
            <a:off x="324000" y="494172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odas las celdas que se les puede cambiar el contenido se les llam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contienen direcciones se les llam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ntero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8960" y="43657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os lenguajes de alto ni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43720" y="609300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variables son punteros en el ejempl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040360" y="3924360"/>
            <a:ext cx="2340000" cy="107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87280" y="3924360"/>
            <a:ext cx="2340000" cy="25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98680" y="222732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49320" y="230976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133992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¿Cómo asignarle un conten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Variables &lt;-&gt; celdas de memoria (1)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9680" y="4727520"/>
            <a:ext cx="154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 AX,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05160" y="5146560"/>
            <a:ext cx="2058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 (2000), 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59280" y="4284720"/>
            <a:ext cx="900000" cy="360360"/>
          </a:xfrm>
          <a:prstGeom prst="leftRightArrow">
            <a:avLst>
              <a:gd name="adj1" fmla="val 50000"/>
              <a:gd name="adj2" fmla="val 497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59440" y="4248000"/>
            <a:ext cx="782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98680" y="261612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98680" y="3013200"/>
            <a:ext cx="174168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9440" y="35002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nguaje de máqui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90640" y="35002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nguaje alto niv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040360" y="5435640"/>
            <a:ext cx="234000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59280" y="5796000"/>
            <a:ext cx="900000" cy="360360"/>
          </a:xfrm>
          <a:prstGeom prst="leftRightArrow">
            <a:avLst>
              <a:gd name="adj1" fmla="val 50000"/>
              <a:gd name="adj2" fmla="val 497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23320" y="5761080"/>
            <a:ext cx="153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41480" y="504972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seudo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931360" y="5761080"/>
            <a:ext cx="305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70560" y="5975280"/>
            <a:ext cx="3636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47200" y="17733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59200" y="234936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00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quivale a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5040360" y="3924360"/>
            <a:ext cx="2340000" cy="107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87280" y="3924360"/>
            <a:ext cx="2340000" cy="25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298680" y="222084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749320" y="2309760"/>
            <a:ext cx="457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27600" y="1339920"/>
            <a:ext cx="80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¿Cómo asignarle un contenido que es el resultado de expre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Variables &lt;-&gt; celdas de memoria (2)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59680" y="4548240"/>
            <a:ext cx="1549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 AX,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81000" y="4965840"/>
            <a:ext cx="14209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 AX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59280" y="4284720"/>
            <a:ext cx="900000" cy="360360"/>
          </a:xfrm>
          <a:prstGeom prst="leftRightArrow">
            <a:avLst>
              <a:gd name="adj1" fmla="val 50000"/>
              <a:gd name="adj2" fmla="val 497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720760" y="4248000"/>
            <a:ext cx="1259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33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98680" y="2616120"/>
            <a:ext cx="1741680" cy="40176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98680" y="3013200"/>
            <a:ext cx="1741680" cy="401400"/>
          </a:xfrm>
          <a:prstGeom prst="roundRect">
            <a:avLst>
              <a:gd name="adj" fmla="val 39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39440" y="35002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nguaje de máqui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90640" y="353700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nguaje alto niv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40360" y="5400720"/>
            <a:ext cx="2340000" cy="107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59280" y="5796000"/>
            <a:ext cx="900000" cy="360360"/>
          </a:xfrm>
          <a:prstGeom prst="leftRightArrow">
            <a:avLst>
              <a:gd name="adj1" fmla="val 50000"/>
              <a:gd name="adj2" fmla="val 497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23320" y="5761080"/>
            <a:ext cx="153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41480" y="504972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seudo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908680" y="5761080"/>
            <a:ext cx="782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3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5470560" y="5975280"/>
            <a:ext cx="3636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47200" y="17733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62400" y="5362560"/>
            <a:ext cx="2058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 (2000), 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59200" y="234936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00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quivale a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5040360" y="3924360"/>
            <a:ext cx="2340000" cy="107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87280" y="3924360"/>
            <a:ext cx="2340000" cy="25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0160" y="202392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1200" y="47484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Variables &lt;-&gt; celdas de memoria (3)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60680" y="4965840"/>
            <a:ext cx="1364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59280" y="4284720"/>
            <a:ext cx="900000" cy="360360"/>
          </a:xfrm>
          <a:prstGeom prst="leftRightArrow">
            <a:avLst>
              <a:gd name="adj1" fmla="val 50000"/>
              <a:gd name="adj2" fmla="val 497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7080" y="4248000"/>
            <a:ext cx="1107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= 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39440" y="35002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nguaje de máqui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490640" y="353700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nguaje alto niv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40360" y="5400720"/>
            <a:ext cx="2340000" cy="107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59280" y="5796000"/>
            <a:ext cx="900000" cy="360360"/>
          </a:xfrm>
          <a:prstGeom prst="leftRightArrow">
            <a:avLst>
              <a:gd name="adj1" fmla="val 50000"/>
              <a:gd name="adj2" fmla="val 497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23320" y="5761080"/>
            <a:ext cx="153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641480" y="504972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seudo lengu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985000" y="5761080"/>
            <a:ext cx="630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5470560" y="5975280"/>
            <a:ext cx="3636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59200" y="235116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00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quivale a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5040360" y="3924360"/>
            <a:ext cx="2340000" cy="1305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87280" y="3213000"/>
            <a:ext cx="2340000" cy="251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1200" y="475560"/>
            <a:ext cx="879948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Variables puntero y modo diferi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59280" y="4284720"/>
            <a:ext cx="900000" cy="360360"/>
          </a:xfrm>
          <a:prstGeom prst="leftRightArrow">
            <a:avLst>
              <a:gd name="adj1" fmla="val 50000"/>
              <a:gd name="adj2" fmla="val 497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219640" y="4248000"/>
            <a:ext cx="1728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=  &amp;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x  = *x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375080" y="353700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uaje 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58960" y="19890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ivale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83560" y="4086360"/>
            <a:ext cx="172584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v AX,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v (2000), 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 ((2000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58960" y="234936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ivale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120" y="90360"/>
            <a:ext cx="883944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tructura del computador (cont.)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8120" y="1049400"/>
            <a:ext cx="7383600" cy="5332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1040" y="1135080"/>
            <a:ext cx="7839360" cy="531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93560" y="1179360"/>
            <a:ext cx="7824960" cy="534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49440" y="1504800"/>
            <a:ext cx="7578720" cy="512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79400" y="1492200"/>
            <a:ext cx="7423200" cy="520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936720" y="1781280"/>
            <a:ext cx="7240320" cy="498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1130400" y="1820880"/>
            <a:ext cx="7435800" cy="49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8120" y="90360"/>
            <a:ext cx="883944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trutura del Sistema Procesador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90600" y="2104920"/>
            <a:ext cx="85532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emori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para almacenar programas y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P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Unidad Central de Procesos): para realizar las instrucciones del prog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ontroladores de E/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para controlar a los dispositivos perifé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us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ara transportar datos y programas entre Memoria, CPU y Contro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320" y="130320"/>
            <a:ext cx="879948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Estructura del Sistema Procesador (cont.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03200" y="4803840"/>
            <a:ext cx="4983120" cy="1028520"/>
            <a:chOff x="403200" y="4803840"/>
            <a:chExt cx="4983120" cy="1028520"/>
          </a:xfrm>
        </p:grpSpPr>
        <p:sp>
          <p:nvSpPr>
            <p:cNvPr id="59" name=""/>
            <p:cNvSpPr/>
            <p:nvPr/>
          </p:nvSpPr>
          <p:spPr>
            <a:xfrm>
              <a:off x="403200" y="4803840"/>
              <a:ext cx="4983120" cy="1028520"/>
            </a:xfrm>
            <a:custGeom>
              <a:avLst/>
              <a:gdLst/>
              <a:ahLst/>
              <a:rect l="l" t="t" r="r" b="b"/>
              <a:pathLst>
                <a:path w="13842" h="2856">
                  <a:moveTo>
                    <a:pt x="0" y="7"/>
                  </a:moveTo>
                  <a:lnTo>
                    <a:pt x="0" y="2840"/>
                  </a:lnTo>
                  <a:lnTo>
                    <a:pt x="13841" y="2855"/>
                  </a:lnTo>
                  <a:lnTo>
                    <a:pt x="13841" y="64"/>
                  </a:lnTo>
                  <a:lnTo>
                    <a:pt x="12999" y="64"/>
                  </a:lnTo>
                  <a:lnTo>
                    <a:pt x="12999" y="1979"/>
                  </a:lnTo>
                  <a:lnTo>
                    <a:pt x="8339" y="1979"/>
                  </a:lnTo>
                  <a:lnTo>
                    <a:pt x="8339" y="0"/>
                  </a:lnTo>
                  <a:lnTo>
                    <a:pt x="7504" y="2"/>
                  </a:lnTo>
                  <a:lnTo>
                    <a:pt x="7504" y="1996"/>
                  </a:lnTo>
                  <a:lnTo>
                    <a:pt x="857" y="1996"/>
                  </a:lnTo>
                  <a:lnTo>
                    <a:pt x="857" y="7"/>
                  </a:lnTo>
                  <a:lnTo>
                    <a:pt x="0" y="7"/>
                  </a:lnTo>
                </a:path>
              </a:pathLst>
            </a:custGeom>
            <a:solidFill>
              <a:srgbClr val="ff6633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87640" y="5510160"/>
              <a:ext cx="105516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us Da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58960" y="5226120"/>
            <a:ext cx="4983120" cy="1028520"/>
            <a:chOff x="858960" y="5226120"/>
            <a:chExt cx="4983120" cy="1028520"/>
          </a:xfrm>
        </p:grpSpPr>
        <p:sp>
          <p:nvSpPr>
            <p:cNvPr id="62" name=""/>
            <p:cNvSpPr/>
            <p:nvPr/>
          </p:nvSpPr>
          <p:spPr>
            <a:xfrm>
              <a:off x="858960" y="5226120"/>
              <a:ext cx="4983120" cy="1028520"/>
            </a:xfrm>
            <a:custGeom>
              <a:avLst/>
              <a:gdLst/>
              <a:ahLst/>
              <a:rect l="l" t="t" r="r" b="b"/>
              <a:pathLst>
                <a:path w="13842" h="2858">
                  <a:moveTo>
                    <a:pt x="0" y="6"/>
                  </a:moveTo>
                  <a:lnTo>
                    <a:pt x="0" y="2841"/>
                  </a:lnTo>
                  <a:lnTo>
                    <a:pt x="13841" y="2857"/>
                  </a:lnTo>
                  <a:lnTo>
                    <a:pt x="13839" y="64"/>
                  </a:lnTo>
                  <a:lnTo>
                    <a:pt x="12999" y="67"/>
                  </a:lnTo>
                  <a:lnTo>
                    <a:pt x="12997" y="1979"/>
                  </a:lnTo>
                  <a:lnTo>
                    <a:pt x="8336" y="1980"/>
                  </a:lnTo>
                  <a:lnTo>
                    <a:pt x="8336" y="1"/>
                  </a:lnTo>
                  <a:lnTo>
                    <a:pt x="7501" y="0"/>
                  </a:lnTo>
                  <a:lnTo>
                    <a:pt x="7503" y="1998"/>
                  </a:lnTo>
                  <a:lnTo>
                    <a:pt x="857" y="1996"/>
                  </a:lnTo>
                  <a:lnTo>
                    <a:pt x="854" y="9"/>
                  </a:lnTo>
                  <a:lnTo>
                    <a:pt x="0" y="6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63640" y="5908680"/>
              <a:ext cx="198180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us de Direc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87280" y="2313000"/>
            <a:ext cx="1482840" cy="3092400"/>
          </a:xfrm>
          <a:custGeom>
            <a:avLst/>
            <a:gdLst>
              <a:gd name="textAreaLeft" fmla="*/ 360 w 1482840"/>
              <a:gd name="textAreaRight" fmla="*/ 1482480 w 1482840"/>
              <a:gd name="textAreaTop" fmla="*/ 360 h 3092400"/>
              <a:gd name="textAreaBottom" fmla="*/ 3092040 h 3092400"/>
            </a:gdLst>
            <a:ahLst/>
            <a:rect l="textAreaLeft" t="textAreaTop" r="textAreaRight" b="textAreaBottom"/>
            <a:pathLst>
              <a:path w="21600" h="45040">
                <a:moveTo>
                  <a:pt x="23" y="0"/>
                </a:moveTo>
                <a:arcTo wR="23" hR="23" stAng="16200000" swAng="-5400000"/>
                <a:lnTo>
                  <a:pt x="0" y="45017"/>
                </a:lnTo>
                <a:arcTo wR="23" hR="23" stAng="10800000" swAng="-5400000"/>
                <a:lnTo>
                  <a:pt x="21577" y="45040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999999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99999"/>
                </a:solidFill>
                <a:latin typeface="Verdana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12920" y="5397480"/>
            <a:ext cx="4983120" cy="1239840"/>
            <a:chOff x="1312920" y="5397480"/>
            <a:chExt cx="4983120" cy="1239840"/>
          </a:xfrm>
        </p:grpSpPr>
        <p:sp>
          <p:nvSpPr>
            <p:cNvPr id="66" name=""/>
            <p:cNvSpPr/>
            <p:nvPr/>
          </p:nvSpPr>
          <p:spPr>
            <a:xfrm>
              <a:off x="1312920" y="5397480"/>
              <a:ext cx="4983120" cy="1239840"/>
            </a:xfrm>
            <a:custGeom>
              <a:avLst/>
              <a:gdLst/>
              <a:ahLst/>
              <a:rect l="l" t="t" r="r" b="b"/>
              <a:pathLst>
                <a:path w="13842" h="3446">
                  <a:moveTo>
                    <a:pt x="0" y="2"/>
                  </a:moveTo>
                  <a:lnTo>
                    <a:pt x="2" y="3428"/>
                  </a:lnTo>
                  <a:lnTo>
                    <a:pt x="13840" y="3445"/>
                  </a:lnTo>
                  <a:lnTo>
                    <a:pt x="13841" y="68"/>
                  </a:lnTo>
                  <a:lnTo>
                    <a:pt x="12999" y="52"/>
                  </a:lnTo>
                  <a:lnTo>
                    <a:pt x="13000" y="2569"/>
                  </a:lnTo>
                  <a:lnTo>
                    <a:pt x="8339" y="2569"/>
                  </a:lnTo>
                  <a:lnTo>
                    <a:pt x="8335" y="0"/>
                  </a:lnTo>
                  <a:lnTo>
                    <a:pt x="7509" y="0"/>
                  </a:lnTo>
                  <a:lnTo>
                    <a:pt x="7505" y="2586"/>
                  </a:lnTo>
                  <a:lnTo>
                    <a:pt x="858" y="2586"/>
                  </a:lnTo>
                  <a:lnTo>
                    <a:pt x="857" y="10"/>
                  </a:lnTo>
                  <a:lnTo>
                    <a:pt x="0" y="2"/>
                  </a:lnTo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38320" y="6329520"/>
              <a:ext cx="154440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us de 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973240" y="2324160"/>
            <a:ext cx="1482840" cy="3079800"/>
          </a:xfrm>
          <a:custGeom>
            <a:avLst/>
            <a:gdLst>
              <a:gd name="textAreaLeft" fmla="*/ 360 w 1482840"/>
              <a:gd name="textAreaRight" fmla="*/ 1482480 w 1482840"/>
              <a:gd name="textAreaTop" fmla="*/ 360 h 3079800"/>
              <a:gd name="textAreaBottom" fmla="*/ 3079440 h 3079800"/>
            </a:gdLst>
            <a:ahLst/>
            <a:rect l="textAreaLeft" t="textAreaTop" r="textAreaRight" b="textAreaBottom"/>
            <a:pathLst>
              <a:path w="21600" h="44857">
                <a:moveTo>
                  <a:pt x="23" y="0"/>
                </a:moveTo>
                <a:arcTo wR="23" hR="23" stAng="16200000" swAng="-5400000"/>
                <a:lnTo>
                  <a:pt x="0" y="44834"/>
                </a:lnTo>
                <a:arcTo wR="23" hR="23" stAng="10800000" swAng="-5400000"/>
                <a:lnTo>
                  <a:pt x="21577" y="4485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999999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7920" y="2347920"/>
            <a:ext cx="1482480" cy="3079800"/>
          </a:xfrm>
          <a:custGeom>
            <a:avLst/>
            <a:gdLst>
              <a:gd name="textAreaLeft" fmla="*/ 360 w 1482480"/>
              <a:gd name="textAreaRight" fmla="*/ 1482120 w 1482480"/>
              <a:gd name="textAreaTop" fmla="*/ 360 h 3079800"/>
              <a:gd name="textAreaBottom" fmla="*/ 3079440 h 3079800"/>
            </a:gdLst>
            <a:ahLst/>
            <a:rect l="textAreaLeft" t="textAreaTop" r="textAreaRight" b="textAreaBottom"/>
            <a:pathLst>
              <a:path w="21600" h="44868">
                <a:moveTo>
                  <a:pt x="23" y="0"/>
                </a:moveTo>
                <a:arcTo wR="23" hR="23" stAng="16200000" swAng="-5400000"/>
                <a:lnTo>
                  <a:pt x="0" y="44845"/>
                </a:lnTo>
                <a:arcTo wR="23" hR="23" stAng="10800000" swAng="-5400000"/>
                <a:lnTo>
                  <a:pt x="21577" y="44868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999999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on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1628640"/>
            <a:ext cx="1440" cy="514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454800" y="2060640"/>
            <a:ext cx="2509920" cy="2103480"/>
            <a:chOff x="6454800" y="2060640"/>
            <a:chExt cx="2509920" cy="2103480"/>
          </a:xfrm>
        </p:grpSpPr>
        <p:sp>
          <p:nvSpPr>
            <p:cNvPr id="72" name=""/>
            <p:cNvSpPr/>
            <p:nvPr/>
          </p:nvSpPr>
          <p:spPr>
            <a:xfrm>
              <a:off x="6454800" y="3460680"/>
              <a:ext cx="1023840" cy="703440"/>
            </a:xfrm>
            <a:custGeom>
              <a:avLst/>
              <a:gdLst/>
              <a:ahLst/>
              <a:rect l="l" t="t" r="r" b="b"/>
              <a:pathLst>
                <a:path w="2845" h="1952">
                  <a:moveTo>
                    <a:pt x="0" y="978"/>
                  </a:moveTo>
                  <a:lnTo>
                    <a:pt x="831" y="0"/>
                  </a:lnTo>
                  <a:lnTo>
                    <a:pt x="860" y="391"/>
                  </a:lnTo>
                  <a:lnTo>
                    <a:pt x="1985" y="391"/>
                  </a:lnTo>
                  <a:lnTo>
                    <a:pt x="2046" y="1"/>
                  </a:lnTo>
                  <a:lnTo>
                    <a:pt x="2844" y="977"/>
                  </a:lnTo>
                  <a:lnTo>
                    <a:pt x="2045" y="1951"/>
                  </a:lnTo>
                  <a:lnTo>
                    <a:pt x="2016" y="1625"/>
                  </a:lnTo>
                  <a:lnTo>
                    <a:pt x="802" y="1627"/>
                  </a:lnTo>
                  <a:lnTo>
                    <a:pt x="831" y="1951"/>
                  </a:lnTo>
                  <a:lnTo>
                    <a:pt x="0" y="978"/>
                  </a:lnTo>
                </a:path>
              </a:pathLst>
            </a:custGeom>
            <a:solidFill>
              <a:srgbClr val="3deb3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54600" y="3625920"/>
              <a:ext cx="13251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erifér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16720" y="2060640"/>
              <a:ext cx="2448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9120" y="1689120"/>
            <a:ext cx="6159600" cy="371520"/>
            <a:chOff x="249120" y="1689120"/>
            <a:chExt cx="6159600" cy="371520"/>
          </a:xfrm>
        </p:grpSpPr>
        <p:sp>
          <p:nvSpPr>
            <p:cNvPr id="76" name=""/>
            <p:cNvSpPr/>
            <p:nvPr/>
          </p:nvSpPr>
          <p:spPr>
            <a:xfrm flipH="1">
              <a:off x="249120" y="2054160"/>
              <a:ext cx="6159600" cy="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28000" y="1689120"/>
              <a:ext cx="24012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istema Proces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70200" y="3943080"/>
            <a:ext cx="1472760" cy="34020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22360" y="1778040"/>
            <a:ext cx="2357640" cy="4622760"/>
            <a:chOff x="1422360" y="1778040"/>
            <a:chExt cx="2357640" cy="4622760"/>
          </a:xfrm>
        </p:grpSpPr>
        <p:grpSp>
          <p:nvGrpSpPr>
            <p:cNvPr id="80" name=""/>
            <p:cNvGrpSpPr/>
            <p:nvPr/>
          </p:nvGrpSpPr>
          <p:grpSpPr>
            <a:xfrm>
              <a:off x="1442880" y="2467080"/>
              <a:ext cx="2337120" cy="236520"/>
              <a:chOff x="1442880" y="2467080"/>
              <a:chExt cx="2337120" cy="236520"/>
            </a:xfrm>
          </p:grpSpPr>
          <p:sp>
            <p:nvSpPr>
              <p:cNvPr id="81" name=""/>
              <p:cNvSpPr/>
              <p:nvPr/>
            </p:nvSpPr>
            <p:spPr>
              <a:xfrm>
                <a:off x="1442880" y="2467080"/>
                <a:ext cx="233712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476360" y="24861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57400" y="24829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351160" y="24796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39880" y="24796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30400" y="24829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16240" y="24796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06760" y="24764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65440" y="24861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441440" y="2232000"/>
              <a:ext cx="2336760" cy="236520"/>
              <a:chOff x="1441440" y="2232000"/>
              <a:chExt cx="2336760" cy="236520"/>
            </a:xfrm>
          </p:grpSpPr>
          <p:sp>
            <p:nvSpPr>
              <p:cNvPr id="91" name=""/>
              <p:cNvSpPr/>
              <p:nvPr/>
            </p:nvSpPr>
            <p:spPr>
              <a:xfrm>
                <a:off x="1441440" y="223200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76360" y="22510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57400" y="22478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351160" y="224460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39880" y="224460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30400" y="22478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16240" y="224460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05320" y="22417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65440" y="22510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442880" y="2011320"/>
              <a:ext cx="2337120" cy="236520"/>
              <a:chOff x="1442880" y="2011320"/>
              <a:chExt cx="2337120" cy="236520"/>
            </a:xfrm>
          </p:grpSpPr>
          <p:sp>
            <p:nvSpPr>
              <p:cNvPr id="101" name=""/>
              <p:cNvSpPr/>
              <p:nvPr/>
            </p:nvSpPr>
            <p:spPr>
              <a:xfrm>
                <a:off x="1442880" y="2011320"/>
                <a:ext cx="233712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76360" y="203184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57400" y="20289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351160" y="20257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39880" y="20257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30400" y="20271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216240" y="20257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06760" y="20224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65440" y="203184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442880" y="1778040"/>
              <a:ext cx="2337120" cy="236520"/>
              <a:chOff x="1442880" y="1778040"/>
              <a:chExt cx="2337120" cy="236520"/>
            </a:xfrm>
          </p:grpSpPr>
          <p:sp>
            <p:nvSpPr>
              <p:cNvPr id="111" name=""/>
              <p:cNvSpPr/>
              <p:nvPr/>
            </p:nvSpPr>
            <p:spPr>
              <a:xfrm>
                <a:off x="1442880" y="1778040"/>
                <a:ext cx="233712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76360" y="17971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57400" y="17938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51160" y="17906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39880" y="17906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30400" y="17938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16240" y="17906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06760" y="178740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65440" y="17971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434960" y="3389400"/>
              <a:ext cx="2337120" cy="236520"/>
              <a:chOff x="1434960" y="3389400"/>
              <a:chExt cx="2337120" cy="236520"/>
            </a:xfrm>
          </p:grpSpPr>
          <p:sp>
            <p:nvSpPr>
              <p:cNvPr id="121" name=""/>
              <p:cNvSpPr/>
              <p:nvPr/>
            </p:nvSpPr>
            <p:spPr>
              <a:xfrm>
                <a:off x="1434960" y="3389400"/>
                <a:ext cx="233712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71680" y="34099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50920" y="34052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44680" y="34020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33760" y="34020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25720" y="34052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09760" y="34020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498840" y="33987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58960" y="34099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434960" y="3154320"/>
              <a:ext cx="2337120" cy="236520"/>
              <a:chOff x="1434960" y="3154320"/>
              <a:chExt cx="2337120" cy="236520"/>
            </a:xfrm>
          </p:grpSpPr>
          <p:sp>
            <p:nvSpPr>
              <p:cNvPr id="131" name=""/>
              <p:cNvSpPr/>
              <p:nvPr/>
            </p:nvSpPr>
            <p:spPr>
              <a:xfrm>
                <a:off x="1434960" y="3154320"/>
                <a:ext cx="233712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71680" y="317484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50920" y="31701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43240" y="31687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33760" y="31669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25720" y="31701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09760" y="31669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98840" y="31640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58960" y="317484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434960" y="2935440"/>
              <a:ext cx="2337120" cy="236520"/>
              <a:chOff x="1434960" y="2935440"/>
              <a:chExt cx="2337120" cy="236520"/>
            </a:xfrm>
          </p:grpSpPr>
          <p:sp>
            <p:nvSpPr>
              <p:cNvPr id="141" name=""/>
              <p:cNvSpPr/>
              <p:nvPr/>
            </p:nvSpPr>
            <p:spPr>
              <a:xfrm>
                <a:off x="1434960" y="2935440"/>
                <a:ext cx="233712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71680" y="29559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0920" y="29512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44680" y="29480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33760" y="29480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25720" y="29512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9760" y="29480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498840" y="29448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58960" y="295416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34960" y="2700360"/>
              <a:ext cx="2337120" cy="236520"/>
              <a:chOff x="1434960" y="2700360"/>
              <a:chExt cx="2337120" cy="236520"/>
            </a:xfrm>
          </p:grpSpPr>
          <p:sp>
            <p:nvSpPr>
              <p:cNvPr id="151" name=""/>
              <p:cNvSpPr/>
              <p:nvPr/>
            </p:nvSpPr>
            <p:spPr>
              <a:xfrm>
                <a:off x="1434960" y="2700360"/>
                <a:ext cx="233712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71680" y="272088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050920" y="27162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44680" y="27147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33760" y="27129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25720" y="27162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9760" y="27129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498840" y="27097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758960" y="272088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430280" y="4317840"/>
              <a:ext cx="2336760" cy="236520"/>
              <a:chOff x="1430280" y="4317840"/>
              <a:chExt cx="2336760" cy="236520"/>
            </a:xfrm>
          </p:grpSpPr>
          <p:sp>
            <p:nvSpPr>
              <p:cNvPr id="161" name=""/>
              <p:cNvSpPr/>
              <p:nvPr/>
            </p:nvSpPr>
            <p:spPr>
              <a:xfrm>
                <a:off x="1430280" y="431784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65200" y="43387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44800" y="43354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38560" y="4332240"/>
                <a:ext cx="24732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27280" y="43322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17800" y="43340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05080" y="43322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94160" y="43275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54280" y="43387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430280" y="4083120"/>
              <a:ext cx="2336760" cy="236520"/>
              <a:chOff x="1430280" y="4083120"/>
              <a:chExt cx="2336760" cy="236520"/>
            </a:xfrm>
          </p:grpSpPr>
          <p:sp>
            <p:nvSpPr>
              <p:cNvPr id="171" name=""/>
              <p:cNvSpPr/>
              <p:nvPr/>
            </p:nvSpPr>
            <p:spPr>
              <a:xfrm>
                <a:off x="1430280" y="408312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65200" y="41036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44800" y="410040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38560" y="4097160"/>
                <a:ext cx="24732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27280" y="409716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17800" y="40989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03640" y="409716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92360" y="40942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52480" y="41036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430280" y="3863880"/>
              <a:ext cx="2336760" cy="236520"/>
              <a:chOff x="1430280" y="3863880"/>
              <a:chExt cx="2336760" cy="236520"/>
            </a:xfrm>
          </p:grpSpPr>
          <p:sp>
            <p:nvSpPr>
              <p:cNvPr id="181" name=""/>
              <p:cNvSpPr/>
              <p:nvPr/>
            </p:nvSpPr>
            <p:spPr>
              <a:xfrm>
                <a:off x="1430280" y="386388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65200" y="38847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44800" y="38797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38560" y="3878280"/>
                <a:ext cx="24732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27280" y="38768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17800" y="38797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05080" y="38768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94160" y="38736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754280" y="38847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1430280" y="3630600"/>
              <a:ext cx="2336760" cy="236520"/>
              <a:chOff x="1430280" y="3630600"/>
              <a:chExt cx="2336760" cy="236520"/>
            </a:xfrm>
          </p:grpSpPr>
          <p:sp>
            <p:nvSpPr>
              <p:cNvPr id="191" name=""/>
              <p:cNvSpPr/>
              <p:nvPr/>
            </p:nvSpPr>
            <p:spPr>
              <a:xfrm>
                <a:off x="1430280" y="363060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65200" y="36496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44800" y="36464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38560" y="3643200"/>
                <a:ext cx="24732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27280" y="364320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17800" y="36464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05080" y="364320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94160" y="363996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54280" y="36496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422360" y="5241960"/>
              <a:ext cx="2336760" cy="236520"/>
              <a:chOff x="1422360" y="5241960"/>
              <a:chExt cx="2336760" cy="236520"/>
            </a:xfrm>
          </p:grpSpPr>
          <p:sp>
            <p:nvSpPr>
              <p:cNvPr id="201" name=""/>
              <p:cNvSpPr/>
              <p:nvPr/>
            </p:nvSpPr>
            <p:spPr>
              <a:xfrm>
                <a:off x="1422360" y="524196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459080" y="5261040"/>
                <a:ext cx="24732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038320" y="52578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332080" y="52545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20800" y="52545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13120" y="52578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97160" y="52545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86240" y="52513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47800" y="52610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422360" y="5006880"/>
              <a:ext cx="2336760" cy="236520"/>
              <a:chOff x="1422360" y="5006880"/>
              <a:chExt cx="2336760" cy="236520"/>
            </a:xfrm>
          </p:grpSpPr>
          <p:sp>
            <p:nvSpPr>
              <p:cNvPr id="211" name=""/>
              <p:cNvSpPr/>
              <p:nvPr/>
            </p:nvSpPr>
            <p:spPr>
              <a:xfrm>
                <a:off x="1422360" y="500688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459080" y="5027760"/>
                <a:ext cx="24732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38320" y="50227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30280" y="50198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20800" y="50198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13120" y="50227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97160" y="50198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486240" y="50166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47800" y="50259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422360" y="4788000"/>
              <a:ext cx="2336760" cy="236520"/>
              <a:chOff x="1422360" y="4788000"/>
              <a:chExt cx="2336760" cy="236520"/>
            </a:xfrm>
          </p:grpSpPr>
          <p:sp>
            <p:nvSpPr>
              <p:cNvPr id="221" name=""/>
              <p:cNvSpPr/>
              <p:nvPr/>
            </p:nvSpPr>
            <p:spPr>
              <a:xfrm>
                <a:off x="1422360" y="478800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59080" y="4807080"/>
                <a:ext cx="24732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38320" y="48038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32080" y="48006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20800" y="48006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13120" y="48038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97160" y="48006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86240" y="47973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47800" y="48070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422360" y="4552920"/>
              <a:ext cx="2336760" cy="236520"/>
              <a:chOff x="1422360" y="4552920"/>
              <a:chExt cx="2336760" cy="23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22360" y="455292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59080" y="4573440"/>
                <a:ext cx="24732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38320" y="45687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32080" y="45655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620800" y="45655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13120" y="45687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97160" y="456552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86240" y="45626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47800" y="45720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422360" y="6164280"/>
              <a:ext cx="2336760" cy="236520"/>
              <a:chOff x="1422360" y="6164280"/>
              <a:chExt cx="2336760" cy="236520"/>
            </a:xfrm>
          </p:grpSpPr>
          <p:sp>
            <p:nvSpPr>
              <p:cNvPr id="241" name=""/>
              <p:cNvSpPr/>
              <p:nvPr/>
            </p:nvSpPr>
            <p:spPr>
              <a:xfrm>
                <a:off x="1422360" y="616428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59080" y="6184800"/>
                <a:ext cx="24732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38320" y="61801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32080" y="61768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0800" y="61768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13120" y="61801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97160" y="61768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86240" y="617364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47800" y="61833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22360" y="5929200"/>
              <a:ext cx="2336760" cy="236520"/>
              <a:chOff x="1422360" y="5929200"/>
              <a:chExt cx="2336760" cy="236520"/>
            </a:xfrm>
          </p:grpSpPr>
          <p:sp>
            <p:nvSpPr>
              <p:cNvPr id="251" name=""/>
              <p:cNvSpPr/>
              <p:nvPr/>
            </p:nvSpPr>
            <p:spPr>
              <a:xfrm>
                <a:off x="1422360" y="592920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59080" y="5950080"/>
                <a:ext cx="24732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038320" y="594504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30280" y="59436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20800" y="59421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13120" y="594504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97160" y="59421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86240" y="59389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747800" y="59500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422360" y="5710320"/>
              <a:ext cx="2336760" cy="236520"/>
              <a:chOff x="1422360" y="5710320"/>
              <a:chExt cx="2336760" cy="236520"/>
            </a:xfrm>
          </p:grpSpPr>
          <p:sp>
            <p:nvSpPr>
              <p:cNvPr id="261" name=""/>
              <p:cNvSpPr/>
              <p:nvPr/>
            </p:nvSpPr>
            <p:spPr>
              <a:xfrm>
                <a:off x="1422360" y="571032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59080" y="5730840"/>
                <a:ext cx="24732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038320" y="57261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32080" y="57229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20800" y="57229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13120" y="57261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97160" y="572292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86240" y="57196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47800" y="572940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422360" y="5475240"/>
              <a:ext cx="2336760" cy="236520"/>
              <a:chOff x="1422360" y="5475240"/>
              <a:chExt cx="2336760" cy="236520"/>
            </a:xfrm>
          </p:grpSpPr>
          <p:sp>
            <p:nvSpPr>
              <p:cNvPr id="271" name=""/>
              <p:cNvSpPr/>
              <p:nvPr/>
            </p:nvSpPr>
            <p:spPr>
              <a:xfrm>
                <a:off x="1422360" y="5475240"/>
                <a:ext cx="2336760" cy="2365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59080" y="5495760"/>
                <a:ext cx="24732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38320" y="54910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332080" y="548964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20800" y="548784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13120" y="549108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97160" y="548784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86240" y="5484960"/>
                <a:ext cx="247680" cy="2062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47800" y="5495760"/>
                <a:ext cx="247680" cy="2066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9400" y="96840"/>
            <a:ext cx="879948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Memoria (RAM), características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2880" y="1778040"/>
            <a:ext cx="2338560" cy="236520"/>
            <a:chOff x="1442880" y="1778040"/>
            <a:chExt cx="2338560" cy="236520"/>
          </a:xfrm>
        </p:grpSpPr>
        <p:sp>
          <p:nvSpPr>
            <p:cNvPr id="282" name=""/>
            <p:cNvSpPr/>
            <p:nvPr/>
          </p:nvSpPr>
          <p:spPr>
            <a:xfrm>
              <a:off x="1442880" y="1778040"/>
              <a:ext cx="2338560" cy="236520"/>
            </a:xfrm>
            <a:prstGeom prst="roundRect">
              <a:avLst>
                <a:gd name="adj" fmla="val 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77800" y="179856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7400" y="179388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51160" y="179064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39880" y="179064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32200" y="179388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18040" y="1790640"/>
              <a:ext cx="24732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08200" y="1787400"/>
              <a:ext cx="247680" cy="2066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66880" y="179712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80600" y="1922040"/>
            <a:ext cx="910080" cy="445320"/>
            <a:chOff x="480600" y="1922040"/>
            <a:chExt cx="910080" cy="445320"/>
          </a:xfrm>
        </p:grpSpPr>
        <p:sp>
          <p:nvSpPr>
            <p:cNvPr id="292" name=""/>
            <p:cNvSpPr/>
            <p:nvPr/>
          </p:nvSpPr>
          <p:spPr>
            <a:xfrm>
              <a:off x="480600" y="2027160"/>
              <a:ext cx="1530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62040" y="1922040"/>
              <a:ext cx="72864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93680" y="6083280"/>
            <a:ext cx="1181160" cy="340200"/>
            <a:chOff x="193680" y="6083280"/>
            <a:chExt cx="1181160" cy="340200"/>
          </a:xfrm>
        </p:grpSpPr>
        <p:sp>
          <p:nvSpPr>
            <p:cNvPr id="295" name=""/>
            <p:cNvSpPr/>
            <p:nvPr/>
          </p:nvSpPr>
          <p:spPr>
            <a:xfrm>
              <a:off x="193680" y="6083280"/>
              <a:ext cx="4075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6880" y="6249960"/>
              <a:ext cx="77796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422360" y="6176880"/>
            <a:ext cx="2338560" cy="236520"/>
            <a:chOff x="1422360" y="6176880"/>
            <a:chExt cx="2338560" cy="236520"/>
          </a:xfrm>
        </p:grpSpPr>
        <p:sp>
          <p:nvSpPr>
            <p:cNvPr id="298" name=""/>
            <p:cNvSpPr/>
            <p:nvPr/>
          </p:nvSpPr>
          <p:spPr>
            <a:xfrm>
              <a:off x="1422360" y="6176880"/>
              <a:ext cx="2338560" cy="236520"/>
            </a:xfrm>
            <a:prstGeom prst="roundRect">
              <a:avLst>
                <a:gd name="adj" fmla="val 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59080" y="6197760"/>
              <a:ext cx="24732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38320" y="6192720"/>
              <a:ext cx="247680" cy="2066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32080" y="618984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20800" y="618984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13120" y="6192720"/>
              <a:ext cx="247680" cy="2066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98960" y="618984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87680" y="618660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47800" y="6195960"/>
              <a:ext cx="247680" cy="20628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284720" y="4941720"/>
            <a:ext cx="4589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ando se lee o se copia el contenido de una celda, no se pierde el valor que estaba almacenado (lectura no destructiv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03800" y="2492280"/>
            <a:ext cx="45892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da celda de memoria está compuesta por subceldas biestables que pueden almacenar unos o ce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03800" y="3500280"/>
            <a:ext cx="4589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da celda tiene asociada un número o dirección que la id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4720" y="5877000"/>
            <a:ext cx="4176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s celdas siempre tienen valore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82920" y="4221000"/>
            <a:ext cx="41767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s celdas de memoria RAM se pueden “leer y escribir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4720" y="1773360"/>
            <a:ext cx="4589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 memoria está dividida en celdas de igual tam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 fill="hold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403280" y="1773360"/>
            <a:ext cx="2343240" cy="4680000"/>
          </a:xfrm>
          <a:custGeom>
            <a:avLst/>
            <a:gdLst>
              <a:gd name="textAreaLeft" fmla="*/ 360 w 2343240"/>
              <a:gd name="textAreaRight" fmla="*/ 2342880 w 2343240"/>
              <a:gd name="textAreaTop" fmla="*/ 360 h 4680000"/>
              <a:gd name="textAreaBottom" fmla="*/ 4679640 h 4680000"/>
            </a:gdLst>
            <a:ahLst/>
            <a:rect l="textAreaLeft" t="textAreaTop" r="textAreaRight" b="textAreaBottom"/>
            <a:pathLst>
              <a:path w="21600" h="43137">
                <a:moveTo>
                  <a:pt x="13" y="0"/>
                </a:moveTo>
                <a:arcTo wR="13" hR="13" stAng="16200000" swAng="-5400000"/>
                <a:lnTo>
                  <a:pt x="0" y="43124"/>
                </a:lnTo>
                <a:arcTo wR="13" hR="13" stAng="10800000" swAng="-5400000"/>
                <a:lnTo>
                  <a:pt x="21587" y="43137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422360" y="1778040"/>
            <a:ext cx="2355840" cy="4621320"/>
            <a:chOff x="1422360" y="1778040"/>
            <a:chExt cx="2355840" cy="4621320"/>
          </a:xfrm>
        </p:grpSpPr>
        <p:grpSp>
          <p:nvGrpSpPr>
            <p:cNvPr id="315" name=""/>
            <p:cNvGrpSpPr/>
            <p:nvPr/>
          </p:nvGrpSpPr>
          <p:grpSpPr>
            <a:xfrm>
              <a:off x="1442880" y="2467080"/>
              <a:ext cx="2335320" cy="234720"/>
              <a:chOff x="1442880" y="2467080"/>
              <a:chExt cx="2335320" cy="234720"/>
            </a:xfrm>
          </p:grpSpPr>
          <p:sp>
            <p:nvSpPr>
              <p:cNvPr id="316" name=""/>
              <p:cNvSpPr/>
              <p:nvPr/>
            </p:nvSpPr>
            <p:spPr>
              <a:xfrm>
                <a:off x="1442880" y="2467080"/>
                <a:ext cx="2335320" cy="2347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76000" y="248580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56680" y="248256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350440" y="247932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38800" y="247932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28960" y="248256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14800" y="247932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04960" y="24760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65080" y="248580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441440" y="2232000"/>
              <a:ext cx="2335320" cy="235080"/>
              <a:chOff x="1441440" y="2232000"/>
              <a:chExt cx="2335320" cy="235080"/>
            </a:xfrm>
          </p:grpSpPr>
          <p:sp>
            <p:nvSpPr>
              <p:cNvPr id="326" name=""/>
              <p:cNvSpPr/>
              <p:nvPr/>
            </p:nvSpPr>
            <p:spPr>
              <a:xfrm>
                <a:off x="1441440" y="223200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76000" y="22507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56680" y="22474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50440" y="224424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638800" y="224424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29320" y="22474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14800" y="224424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3880" y="22413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65080" y="22507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442880" y="2011320"/>
              <a:ext cx="2335320" cy="235080"/>
              <a:chOff x="1442880" y="2011320"/>
              <a:chExt cx="2335320" cy="235080"/>
            </a:xfrm>
          </p:grpSpPr>
          <p:sp>
            <p:nvSpPr>
              <p:cNvPr id="336" name=""/>
              <p:cNvSpPr/>
              <p:nvPr/>
            </p:nvSpPr>
            <p:spPr>
              <a:xfrm>
                <a:off x="1442880" y="201132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76000" y="203148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56680" y="20286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50440" y="20253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38800" y="20253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28960" y="20268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14800" y="20253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04960" y="20221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65080" y="203148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442880" y="1778040"/>
              <a:ext cx="2335320" cy="235080"/>
              <a:chOff x="1442880" y="1778040"/>
              <a:chExt cx="2335320" cy="235080"/>
            </a:xfrm>
          </p:grpSpPr>
          <p:sp>
            <p:nvSpPr>
              <p:cNvPr id="346" name=""/>
              <p:cNvSpPr/>
              <p:nvPr/>
            </p:nvSpPr>
            <p:spPr>
              <a:xfrm>
                <a:off x="1442880" y="177804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76000" y="17967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056680" y="17935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350440" y="17902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38800" y="17902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28960" y="17935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214800" y="17902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504960" y="178704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65080" y="17967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434960" y="3389400"/>
              <a:ext cx="2335320" cy="234720"/>
              <a:chOff x="1434960" y="3389400"/>
              <a:chExt cx="2335320" cy="234720"/>
            </a:xfrm>
          </p:grpSpPr>
          <p:sp>
            <p:nvSpPr>
              <p:cNvPr id="356" name=""/>
              <p:cNvSpPr/>
              <p:nvPr/>
            </p:nvSpPr>
            <p:spPr>
              <a:xfrm>
                <a:off x="1434960" y="3389400"/>
                <a:ext cx="2335320" cy="2347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71320" y="340956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50200" y="34048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43960" y="340164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32680" y="340164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24280" y="34048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208320" y="340164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497040" y="339840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58600" y="340956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434960" y="3154320"/>
              <a:ext cx="2335320" cy="235080"/>
              <a:chOff x="1434960" y="3154320"/>
              <a:chExt cx="2335320" cy="235080"/>
            </a:xfrm>
          </p:grpSpPr>
          <p:sp>
            <p:nvSpPr>
              <p:cNvPr id="366" name=""/>
              <p:cNvSpPr/>
              <p:nvPr/>
            </p:nvSpPr>
            <p:spPr>
              <a:xfrm>
                <a:off x="1434960" y="315432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471320" y="317448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50200" y="31698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42520" y="31683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2680" y="31665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24280" y="31698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08320" y="31665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97040" y="31636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58600" y="317448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434960" y="2935440"/>
              <a:ext cx="2335320" cy="234720"/>
              <a:chOff x="1434960" y="2935440"/>
              <a:chExt cx="2335320" cy="234720"/>
            </a:xfrm>
          </p:grpSpPr>
          <p:sp>
            <p:nvSpPr>
              <p:cNvPr id="376" name=""/>
              <p:cNvSpPr/>
              <p:nvPr/>
            </p:nvSpPr>
            <p:spPr>
              <a:xfrm>
                <a:off x="1434960" y="2935440"/>
                <a:ext cx="2335320" cy="2347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71320" y="295560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50200" y="295092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343960" y="29476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632680" y="29476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24280" y="295092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08320" y="29476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497040" y="294444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758600" y="29538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434960" y="2700360"/>
              <a:ext cx="2335320" cy="235080"/>
              <a:chOff x="1434960" y="2700360"/>
              <a:chExt cx="2335320" cy="235080"/>
            </a:xfrm>
          </p:grpSpPr>
          <p:sp>
            <p:nvSpPr>
              <p:cNvPr id="386" name=""/>
              <p:cNvSpPr/>
              <p:nvPr/>
            </p:nvSpPr>
            <p:spPr>
              <a:xfrm>
                <a:off x="1434960" y="270036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71320" y="272052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050200" y="271584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343960" y="27144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32680" y="27126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24280" y="271584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08320" y="27126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497040" y="27093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58600" y="272052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1430280" y="4317840"/>
              <a:ext cx="2335320" cy="235080"/>
              <a:chOff x="1430280" y="4317840"/>
              <a:chExt cx="2335320" cy="235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430280" y="431784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64840" y="43383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44080" y="43351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337840" y="4331880"/>
                <a:ext cx="24696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26200" y="43318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16720" y="43336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203640" y="43318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92720" y="43272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53920" y="43383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430280" y="4083120"/>
              <a:ext cx="2335320" cy="234720"/>
              <a:chOff x="1430280" y="4083120"/>
              <a:chExt cx="2335320" cy="234720"/>
            </a:xfrm>
          </p:grpSpPr>
          <p:sp>
            <p:nvSpPr>
              <p:cNvPr id="406" name=""/>
              <p:cNvSpPr/>
              <p:nvPr/>
            </p:nvSpPr>
            <p:spPr>
              <a:xfrm>
                <a:off x="1430280" y="4083120"/>
                <a:ext cx="2335320" cy="2347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464840" y="41032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44080" y="410004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37840" y="4096800"/>
                <a:ext cx="24696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26200" y="40968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16720" y="409860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202200" y="40968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90920" y="409392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52120" y="41032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1430280" y="3863880"/>
              <a:ext cx="2335320" cy="235080"/>
              <a:chOff x="1430280" y="3863880"/>
              <a:chExt cx="2335320" cy="235080"/>
            </a:xfrm>
          </p:grpSpPr>
          <p:sp>
            <p:nvSpPr>
              <p:cNvPr id="416" name=""/>
              <p:cNvSpPr/>
              <p:nvPr/>
            </p:nvSpPr>
            <p:spPr>
              <a:xfrm>
                <a:off x="1430280" y="386388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64840" y="38844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044080" y="38793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7840" y="3877920"/>
                <a:ext cx="24696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26200" y="38764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16720" y="38793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203640" y="38764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92720" y="387324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53920" y="38844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1430280" y="3630600"/>
              <a:ext cx="2335320" cy="235080"/>
              <a:chOff x="1430280" y="3630600"/>
              <a:chExt cx="2335320" cy="235080"/>
            </a:xfrm>
          </p:grpSpPr>
          <p:sp>
            <p:nvSpPr>
              <p:cNvPr id="426" name=""/>
              <p:cNvSpPr/>
              <p:nvPr/>
            </p:nvSpPr>
            <p:spPr>
              <a:xfrm>
                <a:off x="1430280" y="363060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64840" y="36493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044080" y="36460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37840" y="3642840"/>
                <a:ext cx="24696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26200" y="364284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16720" y="36460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203640" y="364284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492720" y="363960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753920" y="36493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422360" y="5241960"/>
              <a:ext cx="2335320" cy="235080"/>
              <a:chOff x="1422360" y="5241960"/>
              <a:chExt cx="2335320" cy="235080"/>
            </a:xfrm>
          </p:grpSpPr>
          <p:sp>
            <p:nvSpPr>
              <p:cNvPr id="436" name=""/>
              <p:cNvSpPr/>
              <p:nvPr/>
            </p:nvSpPr>
            <p:spPr>
              <a:xfrm>
                <a:off x="1422360" y="524196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58720" y="5260680"/>
                <a:ext cx="24696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37600" y="525744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331360" y="52542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19720" y="52542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12040" y="525744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95720" y="52542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84800" y="52509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47440" y="52606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422360" y="5006880"/>
              <a:ext cx="2335320" cy="235080"/>
              <a:chOff x="1422360" y="5006880"/>
              <a:chExt cx="2335320" cy="235080"/>
            </a:xfrm>
          </p:grpSpPr>
          <p:sp>
            <p:nvSpPr>
              <p:cNvPr id="446" name=""/>
              <p:cNvSpPr/>
              <p:nvPr/>
            </p:nvSpPr>
            <p:spPr>
              <a:xfrm>
                <a:off x="1422360" y="500688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458720" y="5027400"/>
                <a:ext cx="24696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7600" y="50223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329560" y="50194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19720" y="50194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12040" y="50223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95720" y="50194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84800" y="501624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747440" y="50256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1422360" y="4788000"/>
              <a:ext cx="2335320" cy="234720"/>
              <a:chOff x="1422360" y="4788000"/>
              <a:chExt cx="2335320" cy="234720"/>
            </a:xfrm>
          </p:grpSpPr>
          <p:sp>
            <p:nvSpPr>
              <p:cNvPr id="456" name=""/>
              <p:cNvSpPr/>
              <p:nvPr/>
            </p:nvSpPr>
            <p:spPr>
              <a:xfrm>
                <a:off x="1422360" y="4788000"/>
                <a:ext cx="2335320" cy="2347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58720" y="4806720"/>
                <a:ext cx="24696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037600" y="48034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31360" y="480024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19720" y="480024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912040" y="480348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95720" y="480024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484800" y="479700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747440" y="480672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422360" y="4552920"/>
              <a:ext cx="2335320" cy="235080"/>
              <a:chOff x="1422360" y="4552920"/>
              <a:chExt cx="2335320" cy="235080"/>
            </a:xfrm>
          </p:grpSpPr>
          <p:sp>
            <p:nvSpPr>
              <p:cNvPr id="466" name=""/>
              <p:cNvSpPr/>
              <p:nvPr/>
            </p:nvSpPr>
            <p:spPr>
              <a:xfrm>
                <a:off x="1422360" y="455292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58720" y="4573080"/>
                <a:ext cx="24696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037600" y="45684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31360" y="45651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19720" y="45651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12040" y="45684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95720" y="456516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84800" y="45622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47440" y="457164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422360" y="6164280"/>
              <a:ext cx="2335320" cy="235080"/>
              <a:chOff x="1422360" y="6164280"/>
              <a:chExt cx="2335320" cy="235080"/>
            </a:xfrm>
          </p:grpSpPr>
          <p:sp>
            <p:nvSpPr>
              <p:cNvPr id="476" name=""/>
              <p:cNvSpPr/>
              <p:nvPr/>
            </p:nvSpPr>
            <p:spPr>
              <a:xfrm>
                <a:off x="1422360" y="616428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58720" y="6184440"/>
                <a:ext cx="24696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37600" y="61797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331360" y="61765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19720" y="61765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912040" y="61797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95720" y="61765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84800" y="617328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47440" y="61830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422360" y="5929200"/>
              <a:ext cx="2335320" cy="235080"/>
              <a:chOff x="1422360" y="5929200"/>
              <a:chExt cx="2335320" cy="235080"/>
            </a:xfrm>
          </p:grpSpPr>
          <p:sp>
            <p:nvSpPr>
              <p:cNvPr id="486" name=""/>
              <p:cNvSpPr/>
              <p:nvPr/>
            </p:nvSpPr>
            <p:spPr>
              <a:xfrm>
                <a:off x="1422360" y="592920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58720" y="5949720"/>
                <a:ext cx="24696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037600" y="594468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29560" y="594324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619720" y="59418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912040" y="594468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95720" y="59418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484800" y="593856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47440" y="59497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1422360" y="5710320"/>
              <a:ext cx="2335320" cy="234720"/>
              <a:chOff x="1422360" y="5710320"/>
              <a:chExt cx="2335320" cy="234720"/>
            </a:xfrm>
          </p:grpSpPr>
          <p:sp>
            <p:nvSpPr>
              <p:cNvPr id="496" name=""/>
              <p:cNvSpPr/>
              <p:nvPr/>
            </p:nvSpPr>
            <p:spPr>
              <a:xfrm>
                <a:off x="1422360" y="5710320"/>
                <a:ext cx="2335320" cy="23472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458720" y="5730480"/>
                <a:ext cx="24696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037600" y="572580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31360" y="572256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19720" y="572256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12040" y="572580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95720" y="572256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84800" y="571932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747440" y="5729040"/>
                <a:ext cx="247320" cy="20448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422360" y="5475240"/>
              <a:ext cx="2335320" cy="235080"/>
              <a:chOff x="1422360" y="5475240"/>
              <a:chExt cx="2335320" cy="235080"/>
            </a:xfrm>
          </p:grpSpPr>
          <p:sp>
            <p:nvSpPr>
              <p:cNvPr id="506" name=""/>
              <p:cNvSpPr/>
              <p:nvPr/>
            </p:nvSpPr>
            <p:spPr>
              <a:xfrm>
                <a:off x="1422360" y="5475240"/>
                <a:ext cx="2335320" cy="235080"/>
              </a:xfrm>
              <a:prstGeom prst="roundRect">
                <a:avLst>
                  <a:gd name="adj" fmla="val 667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458720" y="5495400"/>
                <a:ext cx="24696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37600" y="54907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331360" y="548928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619720" y="548748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12040" y="549072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95720" y="548748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4800" y="5484600"/>
                <a:ext cx="247320" cy="20484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747440" y="5495400"/>
                <a:ext cx="247320" cy="205200"/>
              </a:xfrm>
              <a:prstGeom prst="roundRect">
                <a:avLst>
                  <a:gd name="adj" fmla="val 769"/>
                </a:avLst>
              </a:prstGeom>
              <a:solidFill>
                <a:srgbClr val="000000"/>
              </a:solidFill>
              <a:ln w="9360">
                <a:solidFill>
                  <a:srgbClr val="ff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39400" y="96840"/>
            <a:ext cx="879948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Memoria (RAM), uso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442880" y="1778040"/>
            <a:ext cx="2337120" cy="235080"/>
            <a:chOff x="1442880" y="1778040"/>
            <a:chExt cx="2337120" cy="235080"/>
          </a:xfrm>
        </p:grpSpPr>
        <p:sp>
          <p:nvSpPr>
            <p:cNvPr id="517" name=""/>
            <p:cNvSpPr/>
            <p:nvPr/>
          </p:nvSpPr>
          <p:spPr>
            <a:xfrm>
              <a:off x="1442880" y="1778040"/>
              <a:ext cx="2337120" cy="235080"/>
            </a:xfrm>
            <a:prstGeom prst="roundRect">
              <a:avLst>
                <a:gd name="adj" fmla="val 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77440" y="179820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56680" y="179352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50440" y="179028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38800" y="179028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31120" y="179352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16600" y="1790280"/>
              <a:ext cx="24696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06760" y="1787040"/>
              <a:ext cx="247320" cy="20520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66520" y="179676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80600" y="1924200"/>
            <a:ext cx="908280" cy="444240"/>
            <a:chOff x="480600" y="1924200"/>
            <a:chExt cx="908280" cy="444240"/>
          </a:xfrm>
        </p:grpSpPr>
        <p:sp>
          <p:nvSpPr>
            <p:cNvPr id="527" name=""/>
            <p:cNvSpPr/>
            <p:nvPr/>
          </p:nvSpPr>
          <p:spPr>
            <a:xfrm>
              <a:off x="480600" y="2028240"/>
              <a:ext cx="1530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61680" y="1924200"/>
              <a:ext cx="727200" cy="2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93680" y="6083280"/>
            <a:ext cx="1181160" cy="340200"/>
            <a:chOff x="193680" y="6083280"/>
            <a:chExt cx="1181160" cy="340200"/>
          </a:xfrm>
        </p:grpSpPr>
        <p:sp>
          <p:nvSpPr>
            <p:cNvPr id="530" name=""/>
            <p:cNvSpPr/>
            <p:nvPr/>
          </p:nvSpPr>
          <p:spPr>
            <a:xfrm>
              <a:off x="193680" y="6083280"/>
              <a:ext cx="4075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6880" y="6248880"/>
              <a:ext cx="77796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422360" y="6176880"/>
            <a:ext cx="2336760" cy="235080"/>
            <a:chOff x="1422360" y="6176880"/>
            <a:chExt cx="2336760" cy="235080"/>
          </a:xfrm>
        </p:grpSpPr>
        <p:sp>
          <p:nvSpPr>
            <p:cNvPr id="533" name=""/>
            <p:cNvSpPr/>
            <p:nvPr/>
          </p:nvSpPr>
          <p:spPr>
            <a:xfrm>
              <a:off x="1422360" y="6176880"/>
              <a:ext cx="2336760" cy="235080"/>
            </a:xfrm>
            <a:prstGeom prst="roundRect">
              <a:avLst>
                <a:gd name="adj" fmla="val 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58720" y="6197400"/>
              <a:ext cx="24696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37600" y="6192360"/>
              <a:ext cx="247320" cy="20520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1360" y="618948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19720" y="618948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911680" y="6192360"/>
              <a:ext cx="247320" cy="20520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97520" y="618948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85880" y="618624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47440" y="6195600"/>
              <a:ext cx="247320" cy="204840"/>
            </a:xfrm>
            <a:prstGeom prst="roundRect">
              <a:avLst>
                <a:gd name="adj" fmla="val 76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1415880" y="1766880"/>
            <a:ext cx="2379960" cy="4680000"/>
          </a:xfrm>
          <a:custGeom>
            <a:avLst/>
            <a:gdLst>
              <a:gd name="textAreaLeft" fmla="*/ 360 w 2379960"/>
              <a:gd name="textAreaRight" fmla="*/ 2379600 w 2379960"/>
              <a:gd name="textAreaTop" fmla="*/ 360 h 4680000"/>
              <a:gd name="textAreaBottom" fmla="*/ 4679640 h 4680000"/>
            </a:gdLst>
            <a:ahLst/>
            <a:rect l="textAreaLeft" t="textAreaTop" r="textAreaRight" b="textAreaBottom"/>
            <a:pathLst>
              <a:path w="21600" h="42472">
                <a:moveTo>
                  <a:pt x="14" y="0"/>
                </a:moveTo>
                <a:arcTo wR="14" hR="14" stAng="16200000" swAng="-5400000"/>
                <a:lnTo>
                  <a:pt x="0" y="42458"/>
                </a:lnTo>
                <a:arcTo wR="14" hR="14" stAng="10800000" swAng="-5400000"/>
                <a:lnTo>
                  <a:pt x="21586" y="42472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e6e64c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15880" y="1700280"/>
            <a:ext cx="2379960" cy="1585800"/>
          </a:xfrm>
          <a:prstGeom prst="roundRect">
            <a:avLst>
              <a:gd name="adj" fmla="val 9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03280" y="3284640"/>
            <a:ext cx="2379600" cy="1104840"/>
          </a:xfrm>
          <a:prstGeom prst="roundRect">
            <a:avLst>
              <a:gd name="adj" fmla="val 1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03280" y="4365720"/>
            <a:ext cx="2376720" cy="1079280"/>
          </a:xfrm>
          <a:prstGeom prst="roundRect">
            <a:avLst>
              <a:gd name="adj" fmla="val 1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560760" y="2804760"/>
            <a:ext cx="3813480" cy="2403360"/>
            <a:chOff x="3560760" y="2804760"/>
            <a:chExt cx="3813480" cy="2403360"/>
          </a:xfrm>
        </p:grpSpPr>
        <p:sp>
          <p:nvSpPr>
            <p:cNvPr id="547" name=""/>
            <p:cNvSpPr/>
            <p:nvPr/>
          </p:nvSpPr>
          <p:spPr>
            <a:xfrm>
              <a:off x="5358240" y="3019680"/>
              <a:ext cx="2016000" cy="1982520"/>
            </a:xfrm>
            <a:prstGeom prst="roundRect">
              <a:avLst>
                <a:gd name="adj" fmla="val 6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Impact"/>
                </a:rPr>
                <a:t>Instrucció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Impact"/>
                </a:rPr>
                <a:t>Instrucció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Impact"/>
                </a:rPr>
                <a:t>Instrucción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Impact"/>
                </a:rPr>
                <a:t>.........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Impact"/>
                </a:rPr>
                <a:t>Instrucción 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87400" y="2804760"/>
              <a:ext cx="1493280" cy="61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60760" y="4314240"/>
              <a:ext cx="1520280" cy="8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896360" y="1728720"/>
            <a:ext cx="3466440" cy="918720"/>
            <a:chOff x="4896360" y="1728720"/>
            <a:chExt cx="3466440" cy="918720"/>
          </a:xfrm>
        </p:grpSpPr>
        <p:sp>
          <p:nvSpPr>
            <p:cNvPr id="551" name=""/>
            <p:cNvSpPr/>
            <p:nvPr/>
          </p:nvSpPr>
          <p:spPr>
            <a:xfrm>
              <a:off x="4896360" y="1728720"/>
              <a:ext cx="3466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n lenguaje de máqu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531120" y="2259360"/>
              <a:ext cx="83880" cy="3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553080" y="624852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0840" y="117360"/>
            <a:ext cx="879948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Unidad Central de Procesos: CPU (1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195120" y="1838160"/>
            <a:ext cx="2859120" cy="4216680"/>
          </a:xfrm>
          <a:custGeom>
            <a:avLst/>
            <a:gdLst>
              <a:gd name="textAreaLeft" fmla="*/ 360 w 2859120"/>
              <a:gd name="textAreaRight" fmla="*/ 2858760 w 2859120"/>
              <a:gd name="textAreaTop" fmla="*/ 360 h 4216680"/>
              <a:gd name="textAreaBottom" fmla="*/ 4216320 h 4216680"/>
            </a:gdLst>
            <a:ahLst/>
            <a:rect l="textAreaLeft" t="textAreaTop" r="textAreaRight" b="textAreaBottom"/>
            <a:pathLst>
              <a:path w="21600" h="31855">
                <a:moveTo>
                  <a:pt x="12" y="0"/>
                </a:moveTo>
                <a:arcTo wR="12" hR="12" stAng="16200000" swAng="-5400000"/>
                <a:lnTo>
                  <a:pt x="0" y="31843"/>
                </a:lnTo>
                <a:arcTo wR="12" hR="12" stAng="10800000" swAng="-5400000"/>
                <a:lnTo>
                  <a:pt x="21588" y="31855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b3b3b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1440" y="2271600"/>
            <a:ext cx="2724120" cy="382680"/>
          </a:xfrm>
          <a:prstGeom prst="roundRect">
            <a:avLst>
              <a:gd name="adj" fmla="val 417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4040" y="2978280"/>
            <a:ext cx="2713320" cy="374400"/>
          </a:xfrm>
          <a:prstGeom prst="roundRect">
            <a:avLst>
              <a:gd name="adj" fmla="val 421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37120" y="2278080"/>
            <a:ext cx="2546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istro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228480" y="2444760"/>
            <a:ext cx="80964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195360" y="2546280"/>
            <a:ext cx="842760" cy="5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82840" y="3298680"/>
            <a:ext cx="559440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macenan los datos que son utilizados por las instrucciones de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arecen como operando en las instru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47840" y="5257800"/>
            <a:ext cx="57610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 AX, 33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eve un 33 al registro 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 BX, 10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eve un 10 al registro 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AX, BX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ma el contenido de AX con el de BX y                                     deja el resultado en 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620040" y="6113520"/>
            <a:ext cx="1904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40840" y="117360"/>
            <a:ext cx="8799480" cy="13176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Unidad Central de Procesos: CPU (2)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‏</a:t>
            </a:r>
            <a:endParaRPr b="0" lang="en-US" sz="36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96920" y="1838160"/>
            <a:ext cx="2859120" cy="4216680"/>
          </a:xfrm>
          <a:custGeom>
            <a:avLst/>
            <a:gdLst>
              <a:gd name="textAreaLeft" fmla="*/ 360 w 2859120"/>
              <a:gd name="textAreaRight" fmla="*/ 2858760 w 2859120"/>
              <a:gd name="textAreaTop" fmla="*/ 360 h 4216680"/>
              <a:gd name="textAreaBottom" fmla="*/ 4216320 h 4216680"/>
            </a:gdLst>
            <a:ahLst/>
            <a:rect l="textAreaLeft" t="textAreaTop" r="textAreaRight" b="textAreaBottom"/>
            <a:pathLst>
              <a:path w="21600" h="31855">
                <a:moveTo>
                  <a:pt x="12" y="0"/>
                </a:moveTo>
                <a:arcTo wR="12" hR="12" stAng="16200000" swAng="-5400000"/>
                <a:lnTo>
                  <a:pt x="0" y="31843"/>
                </a:lnTo>
                <a:arcTo wR="12" hR="12" stAng="10800000" swAng="-5400000"/>
                <a:lnTo>
                  <a:pt x="21588" y="31855"/>
                </a:lnTo>
                <a:arcTo wR="12" hR="12" stAng="5400000" swAng="-5400000"/>
                <a:lnTo>
                  <a:pt x="21600" y="12"/>
                </a:lnTo>
                <a:arcTo wR="12" hR="12" stAng="0" swAng="-5400000"/>
                <a:close/>
              </a:path>
            </a:pathLst>
          </a:custGeom>
          <a:solidFill>
            <a:srgbClr val="b3b3b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1440" y="2271600"/>
            <a:ext cx="2724120" cy="382680"/>
          </a:xfrm>
          <a:prstGeom prst="roundRect">
            <a:avLst>
              <a:gd name="adj" fmla="val 417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4040" y="2978280"/>
            <a:ext cx="2713320" cy="374400"/>
          </a:xfrm>
          <a:prstGeom prst="roundRect">
            <a:avLst>
              <a:gd name="adj" fmla="val 421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9880" y="3630600"/>
            <a:ext cx="2703600" cy="338040"/>
          </a:xfrm>
          <a:prstGeom prst="roundRect">
            <a:avLst>
              <a:gd name="adj" fmla="val 468"/>
            </a:avLst>
          </a:prstGeom>
          <a:solidFill>
            <a:srgbClr val="ffcc99"/>
          </a:solidFill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gistro de Instrucció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3142800" y="3846600"/>
            <a:ext cx="45900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6520" y="3106800"/>
            <a:ext cx="52815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macena la instrucción que se está ejecu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 invisible para el programa de máquina.(no aparece en la instrucción en forma explíci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lopez</cp:lastModifiedBy>
  <dcterms:modified xsi:type="dcterms:W3CDTF">2008-03-18T19:49:45Z</dcterms:modified>
  <cp:revision>3</cp:revision>
  <dc:subject/>
  <dc:title>Lenguaje de Programación cap. 1</dc:title>
</cp:coreProperties>
</file>