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99300" cy="8988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99200" cy="8989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099200" cy="898848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8988480"/>
              <a:gd name="textAreaBottom" fmla="*/ 8988120 h 8988480"/>
            </a:gdLst>
            <a:ahLst/>
            <a:rect l="textAreaLeft" t="textAreaTop" r="textAreaRight" b="textAreaBottom"/>
            <a:pathLst>
              <a:path w="21600" h="27348">
                <a:moveTo>
                  <a:pt x="4" y="0"/>
                </a:moveTo>
                <a:arcTo wR="4" hR="4" stAng="16200000" swAng="-5400000"/>
                <a:lnTo>
                  <a:pt x="0" y="27344"/>
                </a:lnTo>
                <a:arcTo wR="4" hR="4" stAng="10800000" swAng="-5400000"/>
                <a:lnTo>
                  <a:pt x="21596" y="2734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099200" cy="898992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8989920"/>
              <a:gd name="textAreaBottom" fmla="*/ 8989560 h 8989920"/>
            </a:gdLst>
            <a:ahLst/>
            <a:rect l="textAreaLeft" t="textAreaTop" r="textAreaRight" b="textAreaBottom"/>
            <a:pathLst>
              <a:path w="21600" h="27352">
                <a:moveTo>
                  <a:pt x="4" y="0"/>
                </a:moveTo>
                <a:arcTo wR="4" hR="4" stAng="16200000" swAng="-5400000"/>
                <a:lnTo>
                  <a:pt x="0" y="27348"/>
                </a:lnTo>
                <a:arcTo wR="4" hR="4" stAng="10800000" swAng="-5400000"/>
                <a:lnTo>
                  <a:pt x="21596" y="273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040" y="4267080"/>
            <a:ext cx="525636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301400" y="682560"/>
            <a:ext cx="449244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769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10680"/>
            <a:ext cx="7769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680" y="15238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106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6680" y="39106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501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000" y="1523880"/>
            <a:ext cx="2501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8920" y="1523880"/>
            <a:ext cx="2501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10680"/>
            <a:ext cx="2501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000" y="3910680"/>
            <a:ext cx="2501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8920" y="3910680"/>
            <a:ext cx="2501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7769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769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791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6680" y="1523880"/>
            <a:ext cx="3791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236160"/>
            <a:ext cx="776916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680" y="1523880"/>
            <a:ext cx="3791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106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791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680" y="15238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6680" y="39106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680" y="15238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10680"/>
            <a:ext cx="7769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23880"/>
            <a:ext cx="7769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90240"/>
            <a:ext cx="7772400" cy="590076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msmincho"/>
              </a:rPr>
              <a:t>Tipo de Datos Básico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Operadores aritméticos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86000" y="2209680"/>
          <a:ext cx="4994280" cy="21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09680"/>
                    <a:ext cx="499428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Operadores relacionales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82760" y="2209680"/>
          <a:ext cx="5031000" cy="18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209680"/>
                    <a:ext cx="503100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Operadores lógicos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505320" y="2133720"/>
          <a:ext cx="1979640" cy="107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133720"/>
                    <a:ext cx="197964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666880" y="4114800"/>
          <a:ext cx="4262400" cy="1343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4114800"/>
                    <a:ext cx="426240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971800" y="3581280"/>
            <a:ext cx="31240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Tabla de ver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Precedencias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362320" y="1676520"/>
          <a:ext cx="4811760" cy="267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76520"/>
                    <a:ext cx="4811760" cy="26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 existen más de un operador perteneciente a un mismo nivel, la prioridad va de izquierda a derech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587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Conversión de tipos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ando en una expresión se mezclan constantes y variables de un mismo tipo y variables de distinto tipos, se convierten a un tipo únic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compilador C convierte todos los operandos al tipo del mayor operan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Conversión de tipos (cont.)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‏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gl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ualquier char y  long int es convertido a int. Cualquier float es convertido a doubl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ara todos los pares de operandos, si uno de los operandos es long double, el otro operando se convierte a long dou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i no, si un operando es double, entonces el otro se convierte a dou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i no, si un operando es long, entonces el otro se convierte a lo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i no, si un operando es unsigned, entonces el otro se convierte a unsign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0">
              <a:spcBef>
                <a:spcPts val="587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0">
              <a:spcBef>
                <a:spcPts val="587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0">
              <a:spcBef>
                <a:spcPts val="587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spcBef>
                <a:spcPts val="68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2400" cy="14144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Conversión de tipos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Ejemplo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71400" y="1913040"/>
            <a:ext cx="8153640" cy="4379760"/>
            <a:chOff x="671400" y="1913040"/>
            <a:chExt cx="8153640" cy="4379760"/>
          </a:xfrm>
        </p:grpSpPr>
        <p:sp>
          <p:nvSpPr>
            <p:cNvPr id="109" name=""/>
            <p:cNvSpPr/>
            <p:nvPr/>
          </p:nvSpPr>
          <p:spPr>
            <a:xfrm>
              <a:off x="671400" y="1913040"/>
              <a:ext cx="8153640" cy="4379760"/>
            </a:xfrm>
            <a:prstGeom prst="roundRect">
              <a:avLst>
                <a:gd name="adj" fmla="val 3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1400" y="1913040"/>
              <a:ext cx="8153640" cy="43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msmincho"/>
                </a:rPr>
                <a:t>char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 ch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msmincho"/>
                </a:rPr>
                <a:t>in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 i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msmincho"/>
                </a:rPr>
                <a:t>float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 f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msmincho"/>
                </a:rPr>
                <a:t>double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 d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result= ( ch / i) + (f * d) - ( f + i 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int      double     dou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int       double     dou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            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dou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dou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14800" y="4732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195640" y="3665520"/>
            <a:ext cx="2973240" cy="2286000"/>
            <a:chOff x="2195640" y="3665520"/>
            <a:chExt cx="2973240" cy="2286000"/>
          </a:xfrm>
        </p:grpSpPr>
        <p:sp>
          <p:nvSpPr>
            <p:cNvPr id="113" name=""/>
            <p:cNvSpPr/>
            <p:nvPr/>
          </p:nvSpPr>
          <p:spPr>
            <a:xfrm>
              <a:off x="2576520" y="3665520"/>
              <a:ext cx="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5640" y="366552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95640" y="404640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5640" y="4275000"/>
              <a:ext cx="380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71800" y="3665520"/>
              <a:ext cx="1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90920" y="366552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90920" y="404640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90920" y="4275000"/>
              <a:ext cx="380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67440" y="3665520"/>
              <a:ext cx="1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86200" y="3665520"/>
              <a:ext cx="1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86200" y="4046400"/>
              <a:ext cx="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86200" y="4275000"/>
              <a:ext cx="381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47920" y="427500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43200" y="4275000"/>
              <a:ext cx="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14800" y="4275000"/>
              <a:ext cx="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47920" y="4732200"/>
              <a:ext cx="1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43200" y="4732200"/>
              <a:ext cx="1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47920" y="5037120"/>
              <a:ext cx="129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33720" y="503712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33720" y="549432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33720" y="5646600"/>
              <a:ext cx="1981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71800" y="5646600"/>
              <a:ext cx="1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rven para forzar que una variable sea de un cierto tip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 genera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spcBef>
                <a:spcPts val="68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spcBef>
                <a:spcPts val="68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spcBef>
                <a:spcPts val="68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3200400"/>
            <a:ext cx="2590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11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msmincho"/>
              </a:rPr>
              <a:t>(tipo)ex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05320" y="4419720"/>
            <a:ext cx="2133360" cy="1446120"/>
            <a:chOff x="3505320" y="4419720"/>
            <a:chExt cx="2133360" cy="1446120"/>
          </a:xfrm>
        </p:grpSpPr>
        <p:sp>
          <p:nvSpPr>
            <p:cNvPr id="139" name=""/>
            <p:cNvSpPr/>
            <p:nvPr/>
          </p:nvSpPr>
          <p:spPr>
            <a:xfrm>
              <a:off x="3505320" y="4419720"/>
              <a:ext cx="2133360" cy="1446120"/>
            </a:xfrm>
            <a:prstGeom prst="roundRect">
              <a:avLst>
                <a:gd name="adj" fmla="val 1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4419720"/>
              <a:ext cx="213336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msmincho"/>
                </a:rPr>
                <a:t>int i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msmincho"/>
                </a:rPr>
                <a:t>float x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x=(float) i/1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Moldes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Tipos de Datos Simples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8120" y="236808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stánda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har, int, float, double, void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finidos por usuari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um, struct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2400" cy="14144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Tipos de Datos Simples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Estándar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3960" y="1874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4000"/>
              </a:lnSpc>
              <a:spcBef>
                <a:spcPts val="437"/>
              </a:spcBef>
              <a:buClr>
                <a:srgbClr val="3333cc"/>
              </a:buClr>
              <a:buSzPct val="64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Es un carácter (alfanumérico), ocupa 1 byte (8 bits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100000"/>
              </a:lnSpc>
              <a:spcBef>
                <a:spcPts val="437"/>
              </a:spcBef>
              <a:buClr>
                <a:srgbClr val="3333cc"/>
              </a:buClr>
              <a:buSzPct val="64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es un numero entero, ocupa 2 byt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ango: [-32 768 , 32 767]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100000"/>
              </a:lnSpc>
              <a:spcBef>
                <a:spcPts val="437"/>
              </a:spcBef>
              <a:buClr>
                <a:srgbClr val="3333cc"/>
              </a:buClr>
              <a:buSzPct val="64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n números con decimales y/o exponentes, ocupa 4 byt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ango: [3.4e-38 , 3.4e38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100000"/>
              </a:lnSpc>
              <a:spcBef>
                <a:spcPts val="437"/>
              </a:spcBef>
              <a:buClr>
                <a:srgbClr val="3333cc"/>
              </a:buClr>
              <a:buSzPct val="64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n números con decimales y/o exponentes, ocupa 8 byt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ango: [1.7e-308 , 1.7e308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100000"/>
              </a:lnSpc>
              <a:spcBef>
                <a:spcPts val="437"/>
              </a:spcBef>
              <a:buClr>
                <a:srgbClr val="3333cc"/>
              </a:buClr>
              <a:buSzPct val="64000"/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0 byt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98800" y="4237200"/>
            <a:ext cx="2187720" cy="15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11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msmincho"/>
              </a:rPr>
              <a:t>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msmincho"/>
              </a:rPr>
              <a:t>un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msmincho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msmincho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Modificadores de tipo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utilizan para cambiar el significado del tipo base de modo que se ajuste a las necesidades de cada cas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antepone al identificador de tipo básic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dificador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0">
              <a:spcBef>
                <a:spcPts val="587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usan para controlar las formas en que se acceden o modifican las variab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spcBef>
                <a:spcPts val="68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s variables de tipo const  no pueden ser modificadas durante la ejecución del program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spcBef>
                <a:spcPts val="68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514600"/>
            <a:ext cx="10666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mincho"/>
              </a:rPr>
              <a:t>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4952880"/>
            <a:ext cx="44956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msmincho"/>
              </a:rPr>
              <a:t>const int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msmincho"/>
              </a:rPr>
              <a:t>cuenta = 44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Modificadores de acceso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69560"/>
            <a:ext cx="7772400" cy="14144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Tipos de Datos Simples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Estándar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1720" y="1887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587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spcBef>
                <a:spcPts val="587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0">
              <a:spcBef>
                <a:spcPts val="587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76440" y="2103480"/>
            <a:ext cx="5791320" cy="4121280"/>
            <a:chOff x="2476440" y="2103480"/>
            <a:chExt cx="5791320" cy="4121280"/>
          </a:xfrm>
        </p:grpSpPr>
        <p:sp>
          <p:nvSpPr>
            <p:cNvPr id="64" name=""/>
            <p:cNvSpPr/>
            <p:nvPr/>
          </p:nvSpPr>
          <p:spPr>
            <a:xfrm>
              <a:off x="2476440" y="2103480"/>
              <a:ext cx="5791320" cy="4121280"/>
            </a:xfrm>
            <a:prstGeom prst="roundRect">
              <a:avLst>
                <a:gd name="adj" fmla="val 37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76440" y="2103480"/>
              <a:ext cx="5791320" cy="39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msmincho"/>
                </a:rPr>
                <a:t>void 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main()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/*Declaración de variables: *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	</a:t>
              </a: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msmincho"/>
                </a:rPr>
                <a:t>int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 x1,x2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	</a:t>
              </a: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msmincho"/>
                </a:rPr>
                <a:t>float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 real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	</a:t>
              </a: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msmincho"/>
                </a:rPr>
                <a:t>char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 caracter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	</a:t>
              </a: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msmincho"/>
                </a:rPr>
                <a:t>unsigned int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 i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	</a:t>
              </a:r>
              <a:r>
                <a:rPr b="1" lang="en-GB" sz="1800" spc="-1" strike="noStrike">
                  <a:solidFill>
                    <a:srgbClr val="3333cc"/>
                  </a:solidFill>
                  <a:latin typeface="Courier New"/>
                  <a:ea typeface="msmincho"/>
                </a:rPr>
                <a:t>const char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 c = 'a'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/*codigo que hace uso de las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variables*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971800"/>
            <a:ext cx="167652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mincho"/>
              </a:rPr>
              <a:t>stru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mincho"/>
              </a:rPr>
              <a:t>un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  <a:ea typeface="msmincho"/>
              </a:rPr>
              <a:t>e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Tipos definidos por el usuario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usuario puede definir sus propio tipos de datos utilizand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spcBef>
                <a:spcPts val="68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spcBef>
                <a:spcPts val="68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a enumeración es un conjunto de constantes enteras con nombres que especifica todos los valores válidos que una variable de ese tipo puede ten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claració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0">
              <a:spcBef>
                <a:spcPts val="68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14400" y="3581280"/>
            <a:ext cx="7543800" cy="346320"/>
            <a:chOff x="914400" y="3581280"/>
            <a:chExt cx="7543800" cy="346320"/>
          </a:xfrm>
        </p:grpSpPr>
        <p:sp>
          <p:nvSpPr>
            <p:cNvPr id="73" name=""/>
            <p:cNvSpPr/>
            <p:nvPr/>
          </p:nvSpPr>
          <p:spPr>
            <a:xfrm>
              <a:off x="914400" y="3581280"/>
              <a:ext cx="7543800" cy="346320"/>
            </a:xfrm>
            <a:prstGeom prst="roundRect">
              <a:avLst>
                <a:gd name="adj" fmla="val 45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14400" y="3581280"/>
              <a:ext cx="75438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msmincho"/>
                </a:rPr>
                <a:t>enum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etiqueta {lista_de_enumeraciones} lista_de_variable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85800" y="4495680"/>
            <a:ext cx="8153280" cy="1590840"/>
            <a:chOff x="685800" y="4495680"/>
            <a:chExt cx="8153280" cy="1590840"/>
          </a:xfrm>
        </p:grpSpPr>
        <p:sp>
          <p:nvSpPr>
            <p:cNvPr id="76" name=""/>
            <p:cNvSpPr/>
            <p:nvPr/>
          </p:nvSpPr>
          <p:spPr>
            <a:xfrm>
              <a:off x="685800" y="4495680"/>
              <a:ext cx="8153280" cy="1590840"/>
            </a:xfrm>
            <a:prstGeom prst="roundRect">
              <a:avLst>
                <a:gd name="adj" fmla="val 9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4495680"/>
              <a:ext cx="81532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msmincho"/>
                </a:rPr>
                <a:t>enum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moneda {penique, niquel, dime, cuarto, medio_dólar, dolar }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Courier New"/>
                  <a:ea typeface="msmincho"/>
                </a:rPr>
                <a:t>enum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moneda dinero;  /*declara la variable dinero de tipo moneda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dinero=dolar;  /*Asigna el valor dolar a dinero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msmincho"/>
                </a:rPr>
                <a:t>dinero=5;     /*Asigna el valor sexto a dinero*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Enumeraciones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  <a:ea typeface="msmincho"/>
              </a:rPr>
              <a:t>Operadores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rigo Salas Fuentes</dc:creator>
  <dc:description/>
  <dc:language>en-US</dc:language>
  <cp:lastModifiedBy/>
  <cp:revision>0</cp:revision>
  <dc:subject/>
  <dc:title>Programación de Computadores IWI-131 Paralelo 06</dc:title>
</cp:coreProperties>
</file>