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99200" cy="8989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099200" cy="898992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8989920"/>
              <a:gd name="textAreaBottom" fmla="*/ 8989560 h 8989920"/>
            </a:gdLst>
            <a:ahLst/>
            <a:rect l="textAreaLeft" t="textAreaTop" r="textAreaRight" b="textAreaBottom"/>
            <a:pathLst>
              <a:path w="21600" h="27352">
                <a:moveTo>
                  <a:pt x="4" y="0"/>
                </a:moveTo>
                <a:arcTo wR="4" hR="4" stAng="16200000" swAng="-5400000"/>
                <a:lnTo>
                  <a:pt x="0" y="27348"/>
                </a:lnTo>
                <a:arcTo wR="4" hR="4" stAng="10800000" swAng="-5400000"/>
                <a:lnTo>
                  <a:pt x="21596" y="273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099200" cy="898992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8989920"/>
              <a:gd name="textAreaBottom" fmla="*/ 8989560 h 8989920"/>
            </a:gdLst>
            <a:ahLst/>
            <a:rect l="textAreaLeft" t="textAreaTop" r="textAreaRight" b="textAreaBottom"/>
            <a:pathLst>
              <a:path w="21600" h="27352">
                <a:moveTo>
                  <a:pt x="4" y="0"/>
                </a:moveTo>
                <a:arcTo wR="4" hR="4" stAng="16200000" swAng="-5400000"/>
                <a:lnTo>
                  <a:pt x="0" y="27348"/>
                </a:lnTo>
                <a:arcTo wR="4" hR="4" stAng="10800000" swAng="-5400000"/>
                <a:lnTo>
                  <a:pt x="21596" y="273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63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301400" y="682560"/>
            <a:ext cx="449244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769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11040"/>
            <a:ext cx="7769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11040"/>
            <a:ext cx="3791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6680" y="3911040"/>
            <a:ext cx="3791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5012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000" y="1523880"/>
            <a:ext cx="25012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920" y="1523880"/>
            <a:ext cx="25012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11040"/>
            <a:ext cx="25012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000" y="3911040"/>
            <a:ext cx="25012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920" y="3911040"/>
            <a:ext cx="25012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7769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769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236160"/>
            <a:ext cx="776916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11040"/>
            <a:ext cx="3791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6680" y="3911040"/>
            <a:ext cx="3791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11040"/>
            <a:ext cx="77691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23880"/>
            <a:ext cx="7769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1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11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11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11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49080"/>
            <a:ext cx="7772400" cy="573228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Recursividad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E95E7E-08F9-498C-999D-DD9861B91B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act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441440" y="2061000"/>
            <a:ext cx="1677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just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2880" y="199872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3*factorial(3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7960" y="2840400"/>
            <a:ext cx="196200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*factorial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5480" y="2787480"/>
            <a:ext cx="354168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2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2*factorial(2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B4F5CB-8FC3-4AB8-A864-E6ADFCF0F5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act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1441440" y="2061000"/>
            <a:ext cx="1677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just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2880" y="199872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3*factorial(3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47960" y="2840400"/>
            <a:ext cx="196200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*factorial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65480" y="2787480"/>
            <a:ext cx="354168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2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2*factorial(2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25920" y="3607200"/>
            <a:ext cx="1974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*factorial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2EDABA-65B8-47B8-A4F0-43E9AAB133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act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1441440" y="2061000"/>
            <a:ext cx="1677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just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2880" y="199872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3*factorial(3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840400"/>
            <a:ext cx="196200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*factorial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65480" y="2787480"/>
            <a:ext cx="354168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2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2*factorial(2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25920" y="3607200"/>
            <a:ext cx="1974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*factorial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3680" y="3544920"/>
            <a:ext cx="3541680" cy="79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1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1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1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011C42-3C1D-46D2-9696-0A25D82519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act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441440" y="2061000"/>
            <a:ext cx="1677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just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2880" y="199872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3*factorial(3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47960" y="2840400"/>
            <a:ext cx="196200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*factorial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5480" y="2787480"/>
            <a:ext cx="354168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2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2*factorial(2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25920" y="3607200"/>
            <a:ext cx="1974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*factorial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3680" y="3544920"/>
            <a:ext cx="3541680" cy="79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1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1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1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10160" y="4094280"/>
            <a:ext cx="1571760" cy="196200"/>
          </a:xfrm>
          <a:prstGeom prst="roundRect">
            <a:avLst>
              <a:gd name="adj" fmla="val 528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C8C3DD-7C40-40DE-8F44-D0EAC5196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act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1441440" y="2061000"/>
            <a:ext cx="1677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just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2880" y="199872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3*factorial(3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47960" y="2840400"/>
            <a:ext cx="196200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*factorial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65480" y="2787480"/>
            <a:ext cx="354168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2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2*factorial(2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25920" y="3607200"/>
            <a:ext cx="1974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*factorial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3680" y="3544920"/>
            <a:ext cx="3541680" cy="79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1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1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1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10160" y="4094280"/>
            <a:ext cx="1571760" cy="196200"/>
          </a:xfrm>
          <a:prstGeom prst="roundRect">
            <a:avLst>
              <a:gd name="adj" fmla="val 528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84880" y="5537520"/>
            <a:ext cx="2724120" cy="196200"/>
          </a:xfrm>
          <a:prstGeom prst="roundRect">
            <a:avLst>
              <a:gd name="adj" fmla="val 21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o Base alcanzad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753240" y="4503600"/>
            <a:ext cx="41436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2C6F12-49B6-49C8-96A3-8D0A846B7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act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441440" y="2061000"/>
            <a:ext cx="1677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just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2880" y="199872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3*factorial(3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40400"/>
            <a:ext cx="196200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*factorial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65480" y="2787480"/>
            <a:ext cx="354168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2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2*factorial(2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25920" y="3607200"/>
            <a:ext cx="1974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*factorial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873680" y="3544920"/>
            <a:ext cx="3541680" cy="791640"/>
            <a:chOff x="4873680" y="3544920"/>
            <a:chExt cx="3541680" cy="791640"/>
          </a:xfrm>
        </p:grpSpPr>
        <p:sp>
          <p:nvSpPr>
            <p:cNvPr id="131" name=""/>
            <p:cNvSpPr/>
            <p:nvPr/>
          </p:nvSpPr>
          <p:spPr>
            <a:xfrm>
              <a:off x="4873680" y="3544920"/>
              <a:ext cx="3541680" cy="79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49"/>
                </a:spcBef>
                <a:tabLst>
                  <a:tab algn="l" pos="0"/>
                  <a:tab algn="l" pos="339840"/>
                  <a:tab algn="l" pos="1254240"/>
                  <a:tab algn="l" pos="2168640"/>
                  <a:tab algn="l" pos="3083040"/>
                  <a:tab algn="l" pos="3997440"/>
                  <a:tab algn="l" pos="4911840"/>
                  <a:tab algn="l" pos="5826240"/>
                  <a:tab algn="l" pos="6740640"/>
                  <a:tab algn="l" pos="7655040"/>
                  <a:tab algn="l" pos="8569440"/>
                  <a:tab algn="l" pos="9483840"/>
                  <a:tab algn="l" pos="103982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factorial(1)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49"/>
                </a:spcBef>
                <a:tabLst>
                  <a:tab algn="l" pos="0"/>
                  <a:tab algn="l" pos="339840"/>
                  <a:tab algn="l" pos="1254240"/>
                  <a:tab algn="l" pos="2168640"/>
                  <a:tab algn="l" pos="3083040"/>
                  <a:tab algn="l" pos="3997440"/>
                  <a:tab algn="l" pos="4911840"/>
                  <a:tab algn="l" pos="5826240"/>
                  <a:tab algn="l" pos="6740640"/>
                  <a:tab algn="l" pos="7655040"/>
                  <a:tab algn="l" pos="8569440"/>
                  <a:tab algn="l" pos="9483840"/>
                  <a:tab algn="l" pos="103982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(1==0)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</a:rPr>
                <a:t>retur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1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49"/>
                </a:spcBef>
                <a:tabLst>
                  <a:tab algn="l" pos="0"/>
                  <a:tab algn="l" pos="339840"/>
                  <a:tab algn="l" pos="1254240"/>
                  <a:tab algn="l" pos="2168640"/>
                  <a:tab algn="l" pos="3083040"/>
                  <a:tab algn="l" pos="3997440"/>
                  <a:tab algn="l" pos="4911840"/>
                  <a:tab algn="l" pos="5826240"/>
                  <a:tab algn="l" pos="6740640"/>
                  <a:tab algn="l" pos="7655040"/>
                  <a:tab algn="l" pos="8569440"/>
                  <a:tab algn="l" pos="9483840"/>
                  <a:tab algn="l" pos="103982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</a:rPr>
                <a:t>else if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(1==1) </a:t>
              </a: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</a:rPr>
                <a:t>return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1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10160" y="4094280"/>
              <a:ext cx="1571760" cy="196200"/>
            </a:xfrm>
            <a:prstGeom prst="roundRect">
              <a:avLst>
                <a:gd name="adj" fmla="val 5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marL="339840" indent="-339840" algn="ctr">
                <a:lnSpc>
                  <a:spcPct val="92000"/>
                </a:lnSpc>
                <a:spcBef>
                  <a:spcPts val="349"/>
                </a:spcBef>
                <a:tabLst>
                  <a:tab algn="l" pos="0"/>
                  <a:tab algn="l" pos="339840"/>
                  <a:tab algn="l" pos="1254240"/>
                  <a:tab algn="l" pos="2168640"/>
                  <a:tab algn="l" pos="3083040"/>
                  <a:tab algn="l" pos="3997440"/>
                  <a:tab algn="l" pos="4911840"/>
                  <a:tab algn="l" pos="5826240"/>
                  <a:tab algn="l" pos="6740640"/>
                  <a:tab algn="l" pos="7655040"/>
                  <a:tab algn="l" pos="8569440"/>
                  <a:tab algn="l" pos="9483840"/>
                  <a:tab algn="l" pos="1039824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retur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C39FE1-65F7-4A57-A5C2-34D8042505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pas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1508040" y="1929600"/>
            <a:ext cx="1403280" cy="393480"/>
          </a:xfrm>
          <a:prstGeom prst="roundRect">
            <a:avLst>
              <a:gd name="adj" fmla="val 6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739800" indent="-28260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msmincho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17680" y="200016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3*factorial(3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0560" y="2709360"/>
            <a:ext cx="1909800" cy="393480"/>
          </a:xfrm>
          <a:prstGeom prst="roundRect">
            <a:avLst>
              <a:gd name="adj" fmla="val 6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739800" indent="-28260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msmincho"/>
              </a:rPr>
              <a:t>3*factorial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5880" y="2747880"/>
            <a:ext cx="354168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2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2*factorial(2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03680" y="3560760"/>
            <a:ext cx="1779480" cy="196920"/>
          </a:xfrm>
          <a:prstGeom prst="roundRect">
            <a:avLst>
              <a:gd name="adj" fmla="val 6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739800" indent="-28260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msmincho"/>
              </a:rPr>
              <a:t>2*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B7FAFB-38C6-46A7-9839-56DEBC8BD7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pas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1508040" y="1929600"/>
            <a:ext cx="1403280" cy="393480"/>
          </a:xfrm>
          <a:prstGeom prst="roundRect">
            <a:avLst>
              <a:gd name="adj" fmla="val 6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739800" indent="-28260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msmincho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7680" y="200016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3*factorial(3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49480" y="2782080"/>
            <a:ext cx="2090880" cy="196920"/>
          </a:xfrm>
          <a:prstGeom prst="roundRect">
            <a:avLst>
              <a:gd name="adj" fmla="val 6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739800" indent="-28260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msmincho"/>
              </a:rPr>
              <a:t>3*factorial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5880" y="2747880"/>
            <a:ext cx="354168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2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2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6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51A2E8-E28D-4B18-BB9E-6D0EF2A84E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pas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508040" y="1929600"/>
            <a:ext cx="1403280" cy="393480"/>
          </a:xfrm>
          <a:prstGeom prst="roundRect">
            <a:avLst>
              <a:gd name="adj" fmla="val 6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739800" indent="-28260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msmincho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17680" y="200016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3*factorial(3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60560" y="2806560"/>
            <a:ext cx="1909800" cy="196920"/>
          </a:xfrm>
          <a:prstGeom prst="roundRect">
            <a:avLst>
              <a:gd name="adj" fmla="val 6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739800" indent="-28260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msmincho"/>
              </a:rPr>
              <a:t>3*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E5763E-9F79-42C6-A2D8-9AAEEEAA1E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pas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1508040" y="2037240"/>
            <a:ext cx="1913040" cy="196920"/>
          </a:xfrm>
          <a:prstGeom prst="roundRect">
            <a:avLst>
              <a:gd name="adj" fmla="val 6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739800" indent="-28260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msmincho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17680" y="200016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A0175C-0381-4F49-BAE2-BDE83B8BCA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Recursividad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8360" y="1498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n funciones que se llaman a sí mism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ben retornar un va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ben tener expresiones en las que se llaman a sí mismas: “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iclo activ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ben incluir, en una sentencia de selección, una opción en la cual terminen la ejecución y no se llamen a sí mismas: “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aso ba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 no poseen un opción que les permita terminar su ejecución, se producirán llamadas hasta agotar los recursos de memoria del sistem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 se alcanza el “caso base” en una llamada del “ciclo activo”, entonces se inicia el “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iclo pasiv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o de retorn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E1A298-07EA-4938-B023-9A8B097838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pas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508040" y="2027160"/>
            <a:ext cx="1403280" cy="196920"/>
          </a:xfrm>
          <a:prstGeom prst="roundRect">
            <a:avLst>
              <a:gd name="adj" fmla="val 6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739800" indent="-28260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msmincho"/>
              </a:rPr>
              <a:t>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C7607F-A65C-4D6B-ABFF-1D6E984450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Recursividad código C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2009520"/>
            <a:ext cx="8839080" cy="384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Courier New"/>
              </a:rPr>
              <a:t>tipo_de_retorno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2200" spc="-1" strike="noStrike">
                <a:solidFill>
                  <a:srgbClr val="ff0000"/>
                </a:solidFill>
                <a:latin typeface="Courier New"/>
              </a:rPr>
              <a:t>nombre_funcion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(tipo </a:t>
            </a:r>
            <a:r>
              <a:rPr b="1" lang="en-GB" sz="2200" spc="-1" strike="noStrike">
                <a:solidFill>
                  <a:srgbClr val="00ae00"/>
                </a:solidFill>
                <a:latin typeface="Courier New"/>
              </a:rPr>
              <a:t>argumentos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79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if ( caso_base ) return valor_base;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...............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lnSpc>
                <a:spcPct val="79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</a:rPr>
              <a:t>nombre_funcion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2200" spc="-1" strike="noStrike">
                <a:solidFill>
                  <a:srgbClr val="00ae00"/>
                </a:solidFill>
                <a:latin typeface="Courier New"/>
              </a:rPr>
              <a:t>argumentos'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558120" y="6267600"/>
            <a:ext cx="19047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A27011-4008-4B81-91C1-161844BAF2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0480" y="422280"/>
            <a:ext cx="777240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Recursividad (ejempl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1400" y="2073240"/>
            <a:ext cx="777888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39800" indent="-282600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Obtener el factorial de un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asos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- el factorial de cero es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- factorial de uno es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- factorial de un número negativo lo hacemo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Ciclo ac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- llamar a partir del número en forma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39800"/>
                <a:tab algn="l" pos="1654200"/>
                <a:tab algn="l" pos="2568600"/>
                <a:tab algn="l" pos="3483000"/>
                <a:tab algn="l" pos="4397400"/>
                <a:tab algn="l" pos="5311800"/>
                <a:tab algn="l" pos="6226200"/>
                <a:tab algn="l" pos="7140600"/>
                <a:tab algn="l" pos="8055000"/>
                <a:tab algn="l" pos="8969400"/>
                <a:tab algn="l" pos="9883800"/>
                <a:tab algn="l" pos="10798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hasta llegar al caso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C1F77E-F0AB-4279-8B27-A9A25A9065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Recursividad (Ejemplo 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factorial(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n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n&lt;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n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n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n*factorial(n-1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x,fac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"Ingrese un número para calcularle el factorial = “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scan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"%d",&amp;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=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"%d!=%d\n",x,fac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B6E5D5-561E-4B28-B877-0E55F2FDA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act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4633920" y="2978280"/>
            <a:ext cx="181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1DD514-7B42-400D-B53E-6813A9A506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act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1441440" y="2061000"/>
            <a:ext cx="1677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just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FBDE29-668D-4FA3-8F72-B3CB8068AA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act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1441440" y="2061000"/>
            <a:ext cx="1677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just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2880" y="199872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3*factorial(3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15880" y="1230480"/>
            <a:ext cx="2759040" cy="110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2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lnSpc>
                <a:spcPct val="97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 = factorial(x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45D2B5-E5DB-4CE5-8207-0E6FD912D8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60240" y="291600"/>
            <a:ext cx="7772400" cy="8398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imulación: ciclo activ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1441440" y="2061000"/>
            <a:ext cx="167796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just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2880" y="1998720"/>
            <a:ext cx="3548160" cy="1042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actorial(3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0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(3==1)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7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3*factorial(3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47960" y="2840400"/>
            <a:ext cx="1962000" cy="196200"/>
          </a:xfrm>
          <a:prstGeom prst="roundRect">
            <a:avLst>
              <a:gd name="adj" fmla="val 5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39840" indent="-339840" algn="ctr">
              <a:lnSpc>
                <a:spcPct val="92000"/>
              </a:lnSpc>
              <a:spcBef>
                <a:spcPts val="349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*factorial(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rogramación de Computadores IWI-131 Paralelo 06</dc:title>
</cp:coreProperties>
</file>