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8988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440" y="152388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0720" y="152388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440" y="391104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0720" y="391104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0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0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36520"/>
            <a:ext cx="7770960" cy="59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0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585000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Declaraciones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Nombres de identificadore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dentificad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mbres usados para referirse a las variables, identificar  funciones o  etiquetas  definidos por el usuari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asta 32 caracter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l primer carácter puede ser letra o símbolo de subrayado, los restantes pueden ser letras, números o  símbolos de subrayad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 hace diferencia entre mayúsculas y minúscul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 pueden ser iguales a  palabras clave o nombres de funcines de librería 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912960" y="3605040"/>
          <a:ext cx="7213320" cy="211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3605040"/>
                    <a:ext cx="721332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Palabras reservada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3960" y="1757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on identificadores reservados del lenguaje. No pueden cambiars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 posee 32 palabras claves, 27 del estándar de Ritchie y Kernighan y 5 agregadas por la ANS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a lista de palabras reservadas de ANSI C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Declaración de constante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8800" y="1614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n valores que no pueden ser modificados por el programa. Pueden ser de cualquier tipo de dato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jemplos: ‘a’ ‘\n’ ‘8’  45000 123.45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ra declarar constantes se puede utilizar la directiva </a:t>
            </a:r>
            <a:r>
              <a:rPr b="1" lang="en-GB" sz="2800" spc="-1" strike="noStrike">
                <a:solidFill>
                  <a:srgbClr val="3333cc"/>
                </a:solidFill>
                <a:latin typeface="Courier New"/>
              </a:rPr>
              <a:t>#define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664000" y="5400720"/>
            <a:ext cx="3962160" cy="406440"/>
            <a:chOff x="2664000" y="5400720"/>
            <a:chExt cx="3962160" cy="406440"/>
          </a:xfrm>
        </p:grpSpPr>
        <p:sp>
          <p:nvSpPr>
            <p:cNvPr id="51" name=""/>
            <p:cNvSpPr/>
            <p:nvPr/>
          </p:nvSpPr>
          <p:spPr>
            <a:xfrm>
              <a:off x="2664000" y="5400720"/>
              <a:ext cx="3962160" cy="406440"/>
            </a:xfrm>
            <a:prstGeom prst="roundRect">
              <a:avLst>
                <a:gd name="adj" fmla="val 38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64000" y="5400720"/>
              <a:ext cx="396216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12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#define 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Maximo 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286000" y="3352680"/>
            <a:ext cx="3962520" cy="406440"/>
            <a:chOff x="2286000" y="3352680"/>
            <a:chExt cx="3962520" cy="406440"/>
          </a:xfrm>
        </p:grpSpPr>
        <p:sp>
          <p:nvSpPr>
            <p:cNvPr id="55" name=""/>
            <p:cNvSpPr/>
            <p:nvPr/>
          </p:nvSpPr>
          <p:spPr>
            <a:xfrm>
              <a:off x="2286000" y="3352680"/>
              <a:ext cx="3962520" cy="406440"/>
            </a:xfrm>
            <a:prstGeom prst="roundRect">
              <a:avLst>
                <a:gd name="adj" fmla="val 38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86000" y="3352680"/>
              <a:ext cx="396252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12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33"/>
                  </a:solidFill>
                  <a:latin typeface="Courier New"/>
                  <a:ea typeface="HG Mincho Light J"/>
                </a:rPr>
                <a:t>Tipo</a:t>
              </a:r>
              <a:r>
                <a:rPr b="1" lang="en-GB" sz="20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lista_de_variables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Declaración de variable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8040" y="15368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s variables deben ser declaradas antes de ser usadas en el programa y pueden cambiar su valor durante la ejecució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ipo: debe ser cualquier tipo de datos de 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sta_de_variables : uno o más identificadores separados por com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Alcance de Variable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locales: Declaradas dentro de las funcion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rámetros formales: se ingresan en la definición de parámetros de las funcion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globales: se declaran fuera de todas las funcion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Comentario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8400" y="1614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s comentarios van entre los símbolos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/*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*/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ueden ir ubicados en cualquier parte del program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084480" y="3884760"/>
            <a:ext cx="5092560" cy="2612880"/>
            <a:chOff x="3084480" y="3884760"/>
            <a:chExt cx="5092560" cy="2612880"/>
          </a:xfrm>
        </p:grpSpPr>
        <p:sp>
          <p:nvSpPr>
            <p:cNvPr id="66" name=""/>
            <p:cNvSpPr/>
            <p:nvPr/>
          </p:nvSpPr>
          <p:spPr>
            <a:xfrm>
              <a:off x="3084480" y="3909960"/>
              <a:ext cx="4897440" cy="2587680"/>
            </a:xfrm>
            <a:prstGeom prst="roundRect">
              <a:avLst>
                <a:gd name="adj" fmla="val 6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9600" y="3884760"/>
              <a:ext cx="4897440" cy="23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12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/* Este es un comentario y no se genera codigo de maquina a partir de el. Solo sirve para leer mejor el programa *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drigo Salas Fuentes</dc:creator>
  <dc:description/>
  <dc:language>en-US</dc:language>
  <cp:lastModifiedBy/>
  <cp:revision>0</cp:revision>
  <dc:subject/>
  <dc:title>Programación de Computadores IWI-131 Paralelo 06</dc:title>
</cp:coreProperties>
</file>