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7099200" cy="898848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8988480"/>
              <a:gd name="textAreaBottom" fmla="*/ 8988120 h 8988480"/>
            </a:gdLst>
            <a:ahLst/>
            <a:rect l="textAreaLeft" t="textAreaTop" r="textAreaRight" b="textAreaBottom"/>
            <a:pathLst>
              <a:path w="21600" h="27348">
                <a:moveTo>
                  <a:pt x="4" y="0"/>
                </a:moveTo>
                <a:arcTo wR="4" hR="4" stAng="16200000" swAng="-5400000"/>
                <a:lnTo>
                  <a:pt x="0" y="27344"/>
                </a:lnTo>
                <a:arcTo wR="4" hR="4" stAng="10800000" swAng="-5400000"/>
                <a:lnTo>
                  <a:pt x="21596" y="27348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346040" y="685440"/>
            <a:ext cx="4469040" cy="33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25636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391104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760" y="152388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7760" y="391104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440" y="152388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0720" y="152388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391104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440" y="391104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0720" y="391104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0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0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188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7760" y="1523880"/>
            <a:ext cx="379188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236520"/>
            <a:ext cx="7770960" cy="59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760" y="1523880"/>
            <a:ext cx="379188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188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152388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7760" y="391104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152388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0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5810400"/>
          </a:xfrm>
          <a:prstGeom prst="rect">
            <a:avLst/>
          </a:prstGeom>
          <a:solidFill>
            <a:srgbClr val="3333cc"/>
          </a:solidFill>
          <a:ln w="7632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Estructuras de control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Resolución de problemas y algoritmos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4E88C2-4C06-419E-84D7-081EABC8CE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7772400" cy="128124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Estructuras de Control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 Selección doble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1793880" y="2595600"/>
            <a:ext cx="25336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agrama de Flu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309760" y="3492360"/>
            <a:ext cx="1228680" cy="1220760"/>
            <a:chOff x="2309760" y="3492360"/>
            <a:chExt cx="1228680" cy="1220760"/>
          </a:xfrm>
        </p:grpSpPr>
        <p:sp>
          <p:nvSpPr>
            <p:cNvPr id="115" name=""/>
            <p:cNvSpPr/>
            <p:nvPr/>
          </p:nvSpPr>
          <p:spPr>
            <a:xfrm>
              <a:off x="2314440" y="3492360"/>
              <a:ext cx="1220760" cy="1220760"/>
            </a:xfrm>
            <a:custGeom>
              <a:avLst/>
              <a:gdLst/>
              <a:ahLst/>
              <a:rect l="l" t="t" r="r" b="b"/>
              <a:pathLst>
                <a:path w="3389" h="3389">
                  <a:moveTo>
                    <a:pt x="1694" y="0"/>
                  </a:moveTo>
                  <a:lnTo>
                    <a:pt x="3388" y="1694"/>
                  </a:lnTo>
                  <a:lnTo>
                    <a:pt x="1694" y="3388"/>
                  </a:lnTo>
                  <a:lnTo>
                    <a:pt x="0" y="1694"/>
                  </a:lnTo>
                  <a:lnTo>
                    <a:pt x="1694" y="0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09760" y="3797280"/>
              <a:ext cx="1228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ondi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924280" y="303516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24280" y="539748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33760" y="4102200"/>
            <a:ext cx="5335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67280" y="41022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67280" y="4940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922480" y="5397480"/>
            <a:ext cx="114624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10080" y="3645000"/>
            <a:ext cx="4572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04960" y="3645000"/>
            <a:ext cx="5335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8320" y="4470480"/>
            <a:ext cx="1501920" cy="380880"/>
          </a:xfrm>
          <a:prstGeom prst="roundRect">
            <a:avLst>
              <a:gd name="adj" fmla="val 417"/>
            </a:avLst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680" rIns="4680" tIns="4680" bIns="468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ntenci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52680" y="4102200"/>
            <a:ext cx="76176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52680" y="41022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52680" y="48639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52680" y="5397480"/>
            <a:ext cx="13716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63920" y="4540320"/>
            <a:ext cx="1501920" cy="380880"/>
          </a:xfrm>
          <a:prstGeom prst="roundRect">
            <a:avLst>
              <a:gd name="adj" fmla="val 417"/>
            </a:avLst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680" rIns="4680" tIns="4680" bIns="468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ntenci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300640" y="2749680"/>
            <a:ext cx="3041640" cy="1546200"/>
            <a:chOff x="5300640" y="2749680"/>
            <a:chExt cx="3041640" cy="1546200"/>
          </a:xfrm>
        </p:grpSpPr>
        <p:sp>
          <p:nvSpPr>
            <p:cNvPr id="132" name=""/>
            <p:cNvSpPr/>
            <p:nvPr/>
          </p:nvSpPr>
          <p:spPr>
            <a:xfrm>
              <a:off x="5300640" y="2749680"/>
              <a:ext cx="3041640" cy="1546200"/>
            </a:xfrm>
            <a:prstGeom prst="roundRect">
              <a:avLst>
                <a:gd name="adj" fmla="val 102"/>
              </a:avLst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00640" y="2749680"/>
              <a:ext cx="3041640" cy="15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4000"/>
                </a:lnSpc>
                <a:spcBef>
                  <a:spcPts val="400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if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(condición)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sentencia1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else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sentencia2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D93110-C35F-4E5E-BFB0-9651CF0599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Selección Múltiple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1297080" y="2057400"/>
            <a:ext cx="2651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agrama de Flu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84320" y="2522520"/>
            <a:ext cx="1220760" cy="1677960"/>
            <a:chOff x="184320" y="2522520"/>
            <a:chExt cx="1220760" cy="1677960"/>
          </a:xfrm>
        </p:grpSpPr>
        <p:grpSp>
          <p:nvGrpSpPr>
            <p:cNvPr id="138" name=""/>
            <p:cNvGrpSpPr/>
            <p:nvPr/>
          </p:nvGrpSpPr>
          <p:grpSpPr>
            <a:xfrm>
              <a:off x="184320" y="2979720"/>
              <a:ext cx="1220760" cy="1220760"/>
              <a:chOff x="184320" y="2979720"/>
              <a:chExt cx="1220760" cy="1220760"/>
            </a:xfrm>
          </p:grpSpPr>
          <p:sp>
            <p:nvSpPr>
              <p:cNvPr id="139" name=""/>
              <p:cNvSpPr/>
              <p:nvPr/>
            </p:nvSpPr>
            <p:spPr>
              <a:xfrm>
                <a:off x="184320" y="2979720"/>
                <a:ext cx="1220760" cy="1220760"/>
              </a:xfrm>
              <a:custGeom>
                <a:avLst/>
                <a:gdLst/>
                <a:ahLst/>
                <a:rect l="l" t="t" r="r" b="b"/>
                <a:pathLst>
                  <a:path w="3389" h="3389">
                    <a:moveTo>
                      <a:pt x="1694" y="0"/>
                    </a:moveTo>
                    <a:lnTo>
                      <a:pt x="3388" y="1694"/>
                    </a:lnTo>
                    <a:lnTo>
                      <a:pt x="1694" y="3388"/>
                    </a:lnTo>
                    <a:lnTo>
                      <a:pt x="0" y="1694"/>
                    </a:lnTo>
                    <a:lnTo>
                      <a:pt x="1694" y="0"/>
                    </a:lnTo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04840" y="3284640"/>
                <a:ext cx="117792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Condició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793800" y="252252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841320" y="4184640"/>
            <a:ext cx="4572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89160" y="3222720"/>
            <a:ext cx="7747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843200" y="2955960"/>
            <a:ext cx="1220760" cy="1220760"/>
            <a:chOff x="1843200" y="2955960"/>
            <a:chExt cx="1220760" cy="1220760"/>
          </a:xfrm>
        </p:grpSpPr>
        <p:sp>
          <p:nvSpPr>
            <p:cNvPr id="145" name=""/>
            <p:cNvSpPr/>
            <p:nvPr/>
          </p:nvSpPr>
          <p:spPr>
            <a:xfrm>
              <a:off x="1843200" y="2955960"/>
              <a:ext cx="1220760" cy="1220760"/>
            </a:xfrm>
            <a:custGeom>
              <a:avLst/>
              <a:gdLst/>
              <a:ahLst/>
              <a:rect l="l" t="t" r="r" b="b"/>
              <a:pathLst>
                <a:path w="3389" h="3389">
                  <a:moveTo>
                    <a:pt x="1694" y="0"/>
                  </a:moveTo>
                  <a:lnTo>
                    <a:pt x="3388" y="1694"/>
                  </a:lnTo>
                  <a:lnTo>
                    <a:pt x="1694" y="3388"/>
                  </a:lnTo>
                  <a:lnTo>
                    <a:pt x="0" y="1694"/>
                  </a:lnTo>
                  <a:lnTo>
                    <a:pt x="1694" y="0"/>
                  </a:lnTo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65160" y="3260880"/>
              <a:ext cx="1177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Condi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441600" y="2955960"/>
            <a:ext cx="1220760" cy="1220760"/>
            <a:chOff x="3441600" y="2955960"/>
            <a:chExt cx="1220760" cy="1220760"/>
          </a:xfrm>
        </p:grpSpPr>
        <p:sp>
          <p:nvSpPr>
            <p:cNvPr id="148" name=""/>
            <p:cNvSpPr/>
            <p:nvPr/>
          </p:nvSpPr>
          <p:spPr>
            <a:xfrm>
              <a:off x="3441600" y="2955960"/>
              <a:ext cx="1220760" cy="1220760"/>
            </a:xfrm>
            <a:custGeom>
              <a:avLst/>
              <a:gdLst/>
              <a:ahLst/>
              <a:rect l="l" t="t" r="r" b="b"/>
              <a:pathLst>
                <a:path w="3389" h="3389">
                  <a:moveTo>
                    <a:pt x="1694" y="0"/>
                  </a:moveTo>
                  <a:lnTo>
                    <a:pt x="3388" y="1694"/>
                  </a:lnTo>
                  <a:lnTo>
                    <a:pt x="1694" y="3388"/>
                  </a:lnTo>
                  <a:lnTo>
                    <a:pt x="0" y="1694"/>
                  </a:lnTo>
                  <a:lnTo>
                    <a:pt x="1694" y="0"/>
                  </a:lnTo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63920" y="3260880"/>
              <a:ext cx="1177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Condi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790560" y="41893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70320" y="416556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68720" y="416556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13200" y="3570120"/>
            <a:ext cx="44136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14440" y="3584520"/>
            <a:ext cx="42876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37160" y="3557520"/>
            <a:ext cx="753840" cy="1027080"/>
          </a:xfrm>
          <a:custGeom>
            <a:avLst/>
            <a:gdLst/>
            <a:ahLst/>
            <a:rect l="l" t="t" r="r" b="b"/>
            <a:pathLst>
              <a:path w="2095" h="2853">
                <a:moveTo>
                  <a:pt x="0" y="0"/>
                </a:moveTo>
                <a:lnTo>
                  <a:pt x="2094" y="0"/>
                </a:lnTo>
                <a:lnTo>
                  <a:pt x="2094" y="28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30680" y="3209760"/>
            <a:ext cx="7747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27520" y="3222720"/>
            <a:ext cx="7743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9680" y="4649760"/>
            <a:ext cx="1312920" cy="338040"/>
          </a:xfrm>
          <a:prstGeom prst="roundRect">
            <a:avLst>
              <a:gd name="adj" fmla="val 46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ntenci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9920" y="4649760"/>
            <a:ext cx="1312920" cy="338040"/>
          </a:xfrm>
          <a:prstGeom prst="roundRect">
            <a:avLst>
              <a:gd name="adj" fmla="val 46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ntencia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90960" y="4649760"/>
            <a:ext cx="1312920" cy="338040"/>
          </a:xfrm>
          <a:prstGeom prst="roundRect">
            <a:avLst>
              <a:gd name="adj" fmla="val 46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ntencia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08120" y="4648320"/>
            <a:ext cx="1312920" cy="338040"/>
          </a:xfrm>
          <a:prstGeom prst="roundRect">
            <a:avLst>
              <a:gd name="adj" fmla="val 46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ntenci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84440" y="4172040"/>
            <a:ext cx="4572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43240" y="4159080"/>
            <a:ext cx="4572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3160" y="4975200"/>
            <a:ext cx="1800" cy="441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51320" y="5016600"/>
            <a:ext cx="1800" cy="441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68840" y="5016600"/>
            <a:ext cx="1440" cy="441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47840" y="5003640"/>
            <a:ext cx="1800" cy="441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6120" y="5442120"/>
            <a:ext cx="4444920" cy="1440"/>
          </a:xfrm>
          <a:custGeom>
            <a:avLst/>
            <a:gdLst/>
            <a:ahLst/>
            <a:rect l="l" t="t" r="r" b="b"/>
            <a:pathLst>
              <a:path w="12349" h="1">
                <a:moveTo>
                  <a:pt x="0" y="0"/>
                </a:moveTo>
                <a:lnTo>
                  <a:pt x="12348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02040" y="5457960"/>
            <a:ext cx="1440" cy="441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60680" y="2219040"/>
            <a:ext cx="2768760" cy="3244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(condición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ntencia1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47ff"/>
                </a:solidFill>
                <a:latin typeface="Courier New"/>
              </a:rPr>
              <a:t>else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(condición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ntencia2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else if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(condición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ntencia3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else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ntencia4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B8B3505-9048-42DA-8D29-F6441AEFF9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59840"/>
            <a:ext cx="7772400" cy="128124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Estructuras de Control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Selectivas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erminar si un número entero es par o imp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488280" y="5572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A6F8B3-DB60-4B53-8542-67A0D24FCB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7772400" cy="128124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Estructuras de Control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Selección Múltiple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1790640" y="2050920"/>
            <a:ext cx="22100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agrama de Flu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69800" y="4780080"/>
            <a:ext cx="1067040" cy="407880"/>
            <a:chOff x="469800" y="4780080"/>
            <a:chExt cx="1067040" cy="407880"/>
          </a:xfrm>
        </p:grpSpPr>
        <p:sp>
          <p:nvSpPr>
            <p:cNvPr id="178" name=""/>
            <p:cNvSpPr/>
            <p:nvPr/>
          </p:nvSpPr>
          <p:spPr>
            <a:xfrm>
              <a:off x="507960" y="4794120"/>
              <a:ext cx="990720" cy="381240"/>
            </a:xfrm>
            <a:prstGeom prst="roundRect">
              <a:avLst>
                <a:gd name="adj" fmla="val 41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9800" y="4780080"/>
              <a:ext cx="106704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cción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247840" y="2889360"/>
            <a:ext cx="1220760" cy="1220760"/>
            <a:chOff x="2247840" y="2889360"/>
            <a:chExt cx="1220760" cy="1220760"/>
          </a:xfrm>
        </p:grpSpPr>
        <p:sp>
          <p:nvSpPr>
            <p:cNvPr id="181" name=""/>
            <p:cNvSpPr/>
            <p:nvPr/>
          </p:nvSpPr>
          <p:spPr>
            <a:xfrm>
              <a:off x="2247840" y="2889360"/>
              <a:ext cx="1220760" cy="1220760"/>
            </a:xfrm>
            <a:custGeom>
              <a:avLst/>
              <a:gdLst/>
              <a:ahLst/>
              <a:rect l="l" t="t" r="r" b="b"/>
              <a:pathLst>
                <a:path w="3389" h="3389">
                  <a:moveTo>
                    <a:pt x="1694" y="0"/>
                  </a:moveTo>
                  <a:lnTo>
                    <a:pt x="3388" y="1694"/>
                  </a:lnTo>
                  <a:lnTo>
                    <a:pt x="1694" y="3388"/>
                  </a:lnTo>
                  <a:lnTo>
                    <a:pt x="0" y="1694"/>
                  </a:lnTo>
                  <a:lnTo>
                    <a:pt x="1694" y="0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54320" y="3193920"/>
              <a:ext cx="1209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expres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2859120" y="243216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754280" y="4780080"/>
            <a:ext cx="1066680" cy="407880"/>
            <a:chOff x="1754280" y="4780080"/>
            <a:chExt cx="1066680" cy="407880"/>
          </a:xfrm>
        </p:grpSpPr>
        <p:sp>
          <p:nvSpPr>
            <p:cNvPr id="185" name=""/>
            <p:cNvSpPr/>
            <p:nvPr/>
          </p:nvSpPr>
          <p:spPr>
            <a:xfrm>
              <a:off x="1790640" y="4794120"/>
              <a:ext cx="990720" cy="381240"/>
            </a:xfrm>
            <a:prstGeom prst="roundRect">
              <a:avLst>
                <a:gd name="adj" fmla="val 41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754280" y="4780080"/>
              <a:ext cx="106668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cción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735360" y="4780080"/>
            <a:ext cx="1066680" cy="407880"/>
            <a:chOff x="3735360" y="4780080"/>
            <a:chExt cx="1066680" cy="407880"/>
          </a:xfrm>
        </p:grpSpPr>
        <p:sp>
          <p:nvSpPr>
            <p:cNvPr id="188" name=""/>
            <p:cNvSpPr/>
            <p:nvPr/>
          </p:nvSpPr>
          <p:spPr>
            <a:xfrm>
              <a:off x="3773520" y="4794120"/>
              <a:ext cx="990720" cy="381240"/>
            </a:xfrm>
            <a:prstGeom prst="roundRect">
              <a:avLst>
                <a:gd name="adj" fmla="val 41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35360" y="4780080"/>
              <a:ext cx="106668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cción 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 flipH="1">
            <a:off x="950760" y="3498840"/>
            <a:ext cx="12988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52560" y="3498840"/>
            <a:ext cx="1440" cy="1295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46400" y="3773520"/>
            <a:ext cx="306360" cy="1020600"/>
          </a:xfrm>
          <a:custGeom>
            <a:avLst/>
            <a:gdLst/>
            <a:ahLst/>
            <a:rect l="l" t="t" r="r" b="b"/>
            <a:pathLst>
              <a:path w="851" h="2836">
                <a:moveTo>
                  <a:pt x="850" y="0"/>
                </a:moveTo>
                <a:lnTo>
                  <a:pt x="15" y="1011"/>
                </a:lnTo>
                <a:lnTo>
                  <a:pt x="0" y="283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62480" y="3513240"/>
            <a:ext cx="806400" cy="1274760"/>
          </a:xfrm>
          <a:custGeom>
            <a:avLst/>
            <a:gdLst/>
            <a:ahLst/>
            <a:rect l="l" t="t" r="r" b="b"/>
            <a:pathLst>
              <a:path w="2239" h="3539">
                <a:moveTo>
                  <a:pt x="0" y="8"/>
                </a:moveTo>
                <a:lnTo>
                  <a:pt x="2238" y="0"/>
                </a:lnTo>
                <a:lnTo>
                  <a:pt x="2238" y="353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30320" y="3193920"/>
            <a:ext cx="3049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66960" y="3956040"/>
            <a:ext cx="304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95760" y="3117960"/>
            <a:ext cx="304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30320" y="517536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47840" y="517536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30720" y="517536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30320" y="5556240"/>
            <a:ext cx="32004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22600" y="554832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159520" y="2097000"/>
            <a:ext cx="3457440" cy="3929040"/>
            <a:chOff x="5159520" y="2097000"/>
            <a:chExt cx="3457440" cy="3929040"/>
          </a:xfrm>
        </p:grpSpPr>
        <p:sp>
          <p:nvSpPr>
            <p:cNvPr id="203" name=""/>
            <p:cNvSpPr/>
            <p:nvPr/>
          </p:nvSpPr>
          <p:spPr>
            <a:xfrm>
              <a:off x="5159520" y="2097000"/>
              <a:ext cx="3457440" cy="3552840"/>
            </a:xfrm>
            <a:custGeom>
              <a:avLst/>
              <a:gdLst>
                <a:gd name="textAreaLeft" fmla="*/ 360 w 3457440"/>
                <a:gd name="textAreaRight" fmla="*/ 3457080 w 3457440"/>
                <a:gd name="textAreaTop" fmla="*/ 360 h 3552840"/>
                <a:gd name="textAreaBottom" fmla="*/ 3552480 h 3552840"/>
              </a:gdLst>
              <a:ahLst/>
              <a:rect l="textAreaLeft" t="textAreaTop" r="textAreaRight" b="textAreaBottom"/>
              <a:pathLst>
                <a:path w="21600" h="22196">
                  <a:moveTo>
                    <a:pt x="9" y="0"/>
                  </a:moveTo>
                  <a:arcTo wR="9" hR="9" stAng="16200000" swAng="-5400000"/>
                  <a:lnTo>
                    <a:pt x="0" y="22187"/>
                  </a:lnTo>
                  <a:arcTo wR="9" hR="9" stAng="10800000" swAng="-5400000"/>
                  <a:lnTo>
                    <a:pt x="21591" y="22196"/>
                  </a:lnTo>
                  <a:arcTo wR="9" hR="9" stAng="5400000" swAng="-5400000"/>
                  <a:lnTo>
                    <a:pt x="21600" y="9"/>
                  </a:lnTo>
                  <a:arcTo wR="9" hR="9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59520" y="2097000"/>
              <a:ext cx="345744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switch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(expresión) 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case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caso1: acción1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       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reak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case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caso2: acción2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       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reak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.................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   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case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casoP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cción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       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reak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default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cciónN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3BA6C0-6526-4BEF-BB9D-3E58CCC5F8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7772400" cy="128124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Estructuras de Control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Repetitivas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74880"/>
            <a:ext cx="7772400" cy="18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iten la ejecución de un grupo de acciones una cierta cantidad de vec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BC65D2-2607-4331-AA54-56F8ED297F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7772400" cy="128124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Estructuras de Control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Iterativas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1095480" y="2116080"/>
            <a:ext cx="20858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agrama de Flu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643040" y="4653000"/>
            <a:ext cx="1200240" cy="407880"/>
            <a:chOff x="1643040" y="4653000"/>
            <a:chExt cx="1200240" cy="407880"/>
          </a:xfrm>
        </p:grpSpPr>
        <p:sp>
          <p:nvSpPr>
            <p:cNvPr id="212" name=""/>
            <p:cNvSpPr/>
            <p:nvPr/>
          </p:nvSpPr>
          <p:spPr>
            <a:xfrm>
              <a:off x="1747800" y="4667400"/>
              <a:ext cx="990720" cy="380880"/>
            </a:xfrm>
            <a:prstGeom prst="roundRect">
              <a:avLst>
                <a:gd name="adj" fmla="val 41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43040" y="4653000"/>
              <a:ext cx="120024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Sentenc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1514520" y="3067200"/>
            <a:ext cx="1228680" cy="1220760"/>
            <a:chOff x="1514520" y="3067200"/>
            <a:chExt cx="1228680" cy="1220760"/>
          </a:xfrm>
        </p:grpSpPr>
        <p:sp>
          <p:nvSpPr>
            <p:cNvPr id="215" name=""/>
            <p:cNvSpPr/>
            <p:nvPr/>
          </p:nvSpPr>
          <p:spPr>
            <a:xfrm>
              <a:off x="1519200" y="3067200"/>
              <a:ext cx="1220760" cy="1220760"/>
            </a:xfrm>
            <a:custGeom>
              <a:avLst/>
              <a:gdLst/>
              <a:ahLst/>
              <a:rect l="l" t="t" r="r" b="b"/>
              <a:pathLst>
                <a:path w="3389" h="3389">
                  <a:moveTo>
                    <a:pt x="1694" y="0"/>
                  </a:moveTo>
                  <a:lnTo>
                    <a:pt x="3388" y="1694"/>
                  </a:lnTo>
                  <a:lnTo>
                    <a:pt x="1694" y="3388"/>
                  </a:lnTo>
                  <a:lnTo>
                    <a:pt x="0" y="1694"/>
                  </a:lnTo>
                  <a:lnTo>
                    <a:pt x="1694" y="0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14520" y="3371760"/>
              <a:ext cx="12286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ondi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128680" y="261000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28680" y="4286160"/>
            <a:ext cx="4572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90800" y="3219480"/>
            <a:ext cx="5335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28680" y="4286160"/>
            <a:ext cx="1800" cy="3812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5000" y="3676680"/>
            <a:ext cx="914400" cy="1828800"/>
          </a:xfrm>
          <a:custGeom>
            <a:avLst/>
            <a:gdLst/>
            <a:ahLst/>
            <a:rect l="l" t="t" r="r" b="b"/>
            <a:pathLst>
              <a:path w="2541" h="5081">
                <a:moveTo>
                  <a:pt x="1482" y="0"/>
                </a:moveTo>
                <a:lnTo>
                  <a:pt x="2540" y="0"/>
                </a:lnTo>
                <a:lnTo>
                  <a:pt x="2540" y="5080"/>
                </a:lnTo>
                <a:lnTo>
                  <a:pt x="0" y="50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05000" y="55054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62000" y="3676680"/>
            <a:ext cx="1068480" cy="1600200"/>
          </a:xfrm>
          <a:custGeom>
            <a:avLst/>
            <a:gdLst/>
            <a:ahLst/>
            <a:rect l="l" t="t" r="r" b="b"/>
            <a:pathLst>
              <a:path w="2966" h="4446">
                <a:moveTo>
                  <a:pt x="2965" y="3810"/>
                </a:moveTo>
                <a:lnTo>
                  <a:pt x="2965" y="4445"/>
                </a:lnTo>
                <a:lnTo>
                  <a:pt x="0" y="4445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2000" y="367668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700520" y="2373480"/>
            <a:ext cx="2743200" cy="1920600"/>
            <a:chOff x="4700520" y="2373480"/>
            <a:chExt cx="2743200" cy="1920600"/>
          </a:xfrm>
        </p:grpSpPr>
        <p:sp>
          <p:nvSpPr>
            <p:cNvPr id="226" name=""/>
            <p:cNvSpPr/>
            <p:nvPr/>
          </p:nvSpPr>
          <p:spPr>
            <a:xfrm>
              <a:off x="4700520" y="2373480"/>
              <a:ext cx="2743200" cy="1458720"/>
            </a:xfrm>
            <a:prstGeom prst="roundRect">
              <a:avLst>
                <a:gd name="adj" fmla="val 106"/>
              </a:avLst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00520" y="2373480"/>
              <a:ext cx="27432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81000"/>
                </a:lnSpc>
                <a:spcBef>
                  <a:spcPts val="400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81000"/>
                </a:lnSpc>
                <a:spcBef>
                  <a:spcPts val="400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Courier New"/>
                </a:rPr>
                <a:t>while</a:t>
              </a: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 (condición)            sentencia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140B70-BA4F-489F-8F4A-55EA9A78F8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7772400" cy="128124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Estructuras de Control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Iterativas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ular la sumatoria de los primeros 100 enter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imir los n primeros enter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B667BBF-02F9-432D-8D76-D0C53C7E8A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7772400" cy="128124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Estructuras de Control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Iterativas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963800" y="3274920"/>
            <a:ext cx="1200240" cy="408240"/>
            <a:chOff x="1963800" y="3274920"/>
            <a:chExt cx="1200240" cy="408240"/>
          </a:xfrm>
        </p:grpSpPr>
        <p:sp>
          <p:nvSpPr>
            <p:cNvPr id="234" name=""/>
            <p:cNvSpPr/>
            <p:nvPr/>
          </p:nvSpPr>
          <p:spPr>
            <a:xfrm>
              <a:off x="2068560" y="3287880"/>
              <a:ext cx="990720" cy="380880"/>
            </a:xfrm>
            <a:prstGeom prst="roundRect">
              <a:avLst>
                <a:gd name="adj" fmla="val 41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63800" y="3274920"/>
              <a:ext cx="120024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Sentenc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1911240" y="4049640"/>
            <a:ext cx="1228680" cy="1220760"/>
            <a:chOff x="1911240" y="4049640"/>
            <a:chExt cx="1228680" cy="1220760"/>
          </a:xfrm>
        </p:grpSpPr>
        <p:sp>
          <p:nvSpPr>
            <p:cNvPr id="237" name=""/>
            <p:cNvSpPr/>
            <p:nvPr/>
          </p:nvSpPr>
          <p:spPr>
            <a:xfrm>
              <a:off x="1916280" y="4049640"/>
              <a:ext cx="1220760" cy="1220760"/>
            </a:xfrm>
            <a:custGeom>
              <a:avLst/>
              <a:gdLst/>
              <a:ahLst/>
              <a:rect l="l" t="t" r="r" b="b"/>
              <a:pathLst>
                <a:path w="3389" h="3389">
                  <a:moveTo>
                    <a:pt x="1694" y="0"/>
                  </a:moveTo>
                  <a:lnTo>
                    <a:pt x="3388" y="1694"/>
                  </a:lnTo>
                  <a:lnTo>
                    <a:pt x="1694" y="3388"/>
                  </a:lnTo>
                  <a:lnTo>
                    <a:pt x="0" y="1694"/>
                  </a:lnTo>
                  <a:lnTo>
                    <a:pt x="1694" y="0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911240" y="4354560"/>
              <a:ext cx="1228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ondi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2525760" y="28306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54360" y="5345280"/>
            <a:ext cx="6951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40160" y="3440160"/>
            <a:ext cx="5335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25760" y="366876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5760" y="526896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35240" y="3059280"/>
            <a:ext cx="306360" cy="1600200"/>
          </a:xfrm>
          <a:custGeom>
            <a:avLst/>
            <a:gdLst/>
            <a:ahLst/>
            <a:rect l="l" t="t" r="r" b="b"/>
            <a:pathLst>
              <a:path w="849" h="4446">
                <a:moveTo>
                  <a:pt x="0" y="4445"/>
                </a:moveTo>
                <a:lnTo>
                  <a:pt x="848" y="4445"/>
                </a:lnTo>
                <a:lnTo>
                  <a:pt x="84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2523600" y="3059280"/>
            <a:ext cx="91764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69960" y="2384280"/>
            <a:ext cx="20862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agrama de Flu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454640" y="2746440"/>
            <a:ext cx="3117600" cy="1628640"/>
            <a:chOff x="4454640" y="2746440"/>
            <a:chExt cx="3117600" cy="1628640"/>
          </a:xfrm>
        </p:grpSpPr>
        <p:sp>
          <p:nvSpPr>
            <p:cNvPr id="248" name=""/>
            <p:cNvSpPr/>
            <p:nvPr/>
          </p:nvSpPr>
          <p:spPr>
            <a:xfrm>
              <a:off x="4454640" y="2746440"/>
              <a:ext cx="3117600" cy="1523880"/>
            </a:xfrm>
            <a:prstGeom prst="roundRect">
              <a:avLst>
                <a:gd name="adj" fmla="val 102"/>
              </a:avLst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54640" y="2746440"/>
              <a:ext cx="3117600" cy="16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Courier New"/>
                </a:rPr>
                <a:t>do</a:t>
              </a: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sentencia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r>
                <a:rPr b="1" lang="en-GB" sz="1800" spc="-1" strike="noStrike">
                  <a:solidFill>
                    <a:srgbClr val="3333cc"/>
                  </a:solidFill>
                  <a:latin typeface="Courier New"/>
                </a:rPr>
                <a:t>while </a:t>
              </a: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(condición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B67B887-AC06-4423-962E-D972F693AC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Iteratición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ular el factorial de un núme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ular la raíz cuadrada de un núme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70481C-0208-494F-9E80-DB65D18ECC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7772400" cy="128124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Estructuras de Control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Iterativas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3367080" y="1828800"/>
            <a:ext cx="24177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agrama de Flu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672000" y="3711600"/>
            <a:ext cx="1900080" cy="407880"/>
            <a:chOff x="3672000" y="3711600"/>
            <a:chExt cx="1900080" cy="407880"/>
          </a:xfrm>
        </p:grpSpPr>
        <p:sp>
          <p:nvSpPr>
            <p:cNvPr id="257" name=""/>
            <p:cNvSpPr/>
            <p:nvPr/>
          </p:nvSpPr>
          <p:spPr>
            <a:xfrm>
              <a:off x="3672000" y="3726000"/>
              <a:ext cx="1900080" cy="380880"/>
            </a:xfrm>
            <a:prstGeom prst="roundRect">
              <a:avLst>
                <a:gd name="adj" fmla="val 41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672000" y="3711600"/>
              <a:ext cx="190008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Sentenc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539720" y="2430360"/>
            <a:ext cx="5924880" cy="693720"/>
            <a:chOff x="1539720" y="2430360"/>
            <a:chExt cx="5924880" cy="693720"/>
          </a:xfrm>
        </p:grpSpPr>
        <p:sp>
          <p:nvSpPr>
            <p:cNvPr id="260" name=""/>
            <p:cNvSpPr/>
            <p:nvPr/>
          </p:nvSpPr>
          <p:spPr>
            <a:xfrm>
              <a:off x="2527200" y="2430360"/>
              <a:ext cx="3948120" cy="693720"/>
            </a:xfrm>
            <a:custGeom>
              <a:avLst/>
              <a:gdLst/>
              <a:ahLst/>
              <a:rect l="l" t="t" r="r" b="b"/>
              <a:pathLst>
                <a:path w="10967" h="1926">
                  <a:moveTo>
                    <a:pt x="2740" y="0"/>
                  </a:moveTo>
                  <a:lnTo>
                    <a:pt x="8223" y="0"/>
                  </a:lnTo>
                  <a:lnTo>
                    <a:pt x="10966" y="963"/>
                  </a:lnTo>
                  <a:lnTo>
                    <a:pt x="8223" y="1925"/>
                  </a:lnTo>
                  <a:lnTo>
                    <a:pt x="2740" y="1925"/>
                  </a:lnTo>
                  <a:lnTo>
                    <a:pt x="0" y="963"/>
                  </a:lnTo>
                  <a:lnTo>
                    <a:pt x="2740" y="0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539720" y="2432160"/>
              <a:ext cx="592488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Variable: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nicio,condición,increm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4548240" y="311472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48240" y="41068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185920" y="2774880"/>
            <a:ext cx="1468440" cy="1157400"/>
          </a:xfrm>
          <a:custGeom>
            <a:avLst/>
            <a:gdLst/>
            <a:ahLst/>
            <a:rect l="l" t="t" r="r" b="b"/>
            <a:pathLst>
              <a:path w="4081" h="3215">
                <a:moveTo>
                  <a:pt x="4080" y="3213"/>
                </a:moveTo>
                <a:lnTo>
                  <a:pt x="0" y="3214"/>
                </a:lnTo>
                <a:lnTo>
                  <a:pt x="4" y="8"/>
                </a:lnTo>
                <a:lnTo>
                  <a:pt x="87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268280" y="5086440"/>
            <a:ext cx="6589800" cy="1766880"/>
            <a:chOff x="1268280" y="5086440"/>
            <a:chExt cx="6589800" cy="1766880"/>
          </a:xfrm>
        </p:grpSpPr>
        <p:sp>
          <p:nvSpPr>
            <p:cNvPr id="266" name=""/>
            <p:cNvSpPr/>
            <p:nvPr/>
          </p:nvSpPr>
          <p:spPr>
            <a:xfrm>
              <a:off x="1268280" y="5086440"/>
              <a:ext cx="6589800" cy="1166760"/>
            </a:xfrm>
            <a:prstGeom prst="roundRect">
              <a:avLst>
                <a:gd name="adj" fmla="val 134"/>
              </a:avLst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68280" y="5086440"/>
              <a:ext cx="6589800" cy="17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81000"/>
                </a:lnSpc>
                <a:spcBef>
                  <a:spcPts val="349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Courier New"/>
                </a:rPr>
                <a:t>for</a:t>
              </a: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 (inicialización; condición; incremento )</a:t>
              </a: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81000"/>
                </a:lnSpc>
                <a:spcBef>
                  <a:spcPts val="349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                         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sentencia</a:t>
              </a: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C5FEBB-AE6C-4B6C-8F5F-CEC4F862F4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62040" y="2585880"/>
            <a:ext cx="1595520" cy="905040"/>
          </a:xfrm>
          <a:prstGeom prst="roundRect">
            <a:avLst>
              <a:gd name="adj" fmla="val 171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680" rIns="4680" tIns="4680" bIns="468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álisis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bl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78040" y="3184560"/>
            <a:ext cx="1436760" cy="879480"/>
          </a:xfrm>
          <a:prstGeom prst="roundRect">
            <a:avLst>
              <a:gd name="adj" fmla="val 176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680" rIns="4680" tIns="4680" bIns="468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eño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gorit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94160" y="3886200"/>
            <a:ext cx="1905120" cy="863640"/>
          </a:xfrm>
          <a:prstGeom prst="roundRect">
            <a:avLst>
              <a:gd name="adj" fmla="val 181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680" rIns="4680" tIns="4680" bIns="468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d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00800" y="4800600"/>
            <a:ext cx="1981080" cy="762120"/>
          </a:xfrm>
          <a:prstGeom prst="roundRect">
            <a:avLst>
              <a:gd name="adj" fmla="val 208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680" rIns="4680" tIns="4680" bIns="468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jecución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alid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3505320"/>
            <a:ext cx="1800" cy="3045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4051440"/>
            <a:ext cx="1800" cy="3045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380988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67080" y="4354560"/>
            <a:ext cx="10396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256360" y="4730760"/>
            <a:ext cx="9360" cy="450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518148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Resolución de problemas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6318360" y="4302000"/>
            <a:ext cx="1069920" cy="495360"/>
          </a:xfrm>
          <a:custGeom>
            <a:avLst/>
            <a:gdLst/>
            <a:ahLst/>
            <a:rect l="l" t="t" r="r" b="b"/>
            <a:pathLst>
              <a:path w="2972" h="1375">
                <a:moveTo>
                  <a:pt x="2958" y="1374"/>
                </a:moveTo>
                <a:lnTo>
                  <a:pt x="2971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603071-6395-458D-8BF1-AF409A2EFA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Iteración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ular la suma de los primeros 100 enter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553080" y="628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mincho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34452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msmincho"/>
              </a:rPr>
              <a:t>Definiciones de Algorit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0960" y="2108160"/>
            <a:ext cx="818820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un </a:t>
            </a:r>
            <a:r>
              <a:rPr b="1" lang="en-GB" sz="2800" spc="-1" strike="noStrike">
                <a:solidFill>
                  <a:srgbClr val="0000ff"/>
                </a:solidFill>
                <a:latin typeface="Comic Sans MS"/>
              </a:rPr>
              <a:t>procedimiento computaciona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ien definido que toma algún valor, o un conjunto de valores, com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ntrada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 produce algún valor, o un conjunto de valores, como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alida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una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Comic Sans MS"/>
              </a:rPr>
              <a:t>secuencia de paso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utacionales para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ransform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 entrada en la sal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una </a:t>
            </a:r>
            <a:r>
              <a:rPr b="1" lang="en-GB" sz="2800" spc="-1" strike="noStrike">
                <a:solidFill>
                  <a:srgbClr val="0000ff"/>
                </a:solidFill>
                <a:latin typeface="Comic Sans MS"/>
              </a:rPr>
              <a:t>herramienta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a solucionar un problema computacional bien especifi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553080" y="628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mincho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34452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msmincho"/>
              </a:rPr>
              <a:t>Estratégia: Dividir para gobern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0960" y="2108160"/>
            <a:ext cx="818820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39800" indent="-28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vidir el problema en sub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5530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mincho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74680"/>
            <a:ext cx="7772400" cy="128124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msmincho"/>
              </a:rPr>
              <a:t>Definición formal del problema de orde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04960"/>
            <a:ext cx="829296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39800" indent="-28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ntrada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uencia de n números  &lt;a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..,a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9800" indent="-28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alid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a permutación &lt;a'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a'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..,a'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 reordenamiento de la secuencia, tal 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9800" indent="-28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'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Arial"/>
              </a:rPr>
              <a:t>1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  a'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Arial"/>
              </a:rPr>
              <a:t>2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  ...  &lt;  a'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9800" indent="-28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jemplo instancia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9800" indent="-28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trada: &lt;5,3,1,6,0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9800" indent="-28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lida: &lt;0,1,3,5,6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11240" y="4724280"/>
            <a:ext cx="90720" cy="7776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47960" y="4761000"/>
            <a:ext cx="68040" cy="5400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33560" y="4724280"/>
            <a:ext cx="90720" cy="9072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39960" y="4724280"/>
            <a:ext cx="105120" cy="6516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AD7E480-2CDC-4A38-8E30-E072B7119E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7772400" cy="128124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Estructuras de Control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Secuencial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1585800" y="2203560"/>
            <a:ext cx="22748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agrama de Flu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66840" y="2817720"/>
            <a:ext cx="1201680" cy="381240"/>
          </a:xfrm>
          <a:prstGeom prst="roundRect">
            <a:avLst>
              <a:gd name="adj" fmla="val 417"/>
            </a:avLst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680" rIns="4680" tIns="4680" bIns="468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ció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33840" y="32004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33840" y="39607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33840" y="48006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46320" y="3564000"/>
            <a:ext cx="1201680" cy="380880"/>
          </a:xfrm>
          <a:prstGeom prst="roundRect">
            <a:avLst>
              <a:gd name="adj" fmla="val 417"/>
            </a:avLst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680" rIns="4680" tIns="4680" bIns="468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ció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85920" y="5176800"/>
            <a:ext cx="1201680" cy="380880"/>
          </a:xfrm>
          <a:prstGeom prst="roundRect">
            <a:avLst>
              <a:gd name="adj" fmla="val 417"/>
            </a:avLst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680" rIns="4680" tIns="4680" bIns="468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ción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30600" y="4417920"/>
            <a:ext cx="1440" cy="403200"/>
          </a:xfrm>
          <a:custGeom>
            <a:avLst/>
            <a:gdLst/>
            <a:ahLst/>
            <a:rect l="l" t="t" r="r" b="b"/>
            <a:pathLst>
              <a:path w="1" h="1120">
                <a:moveTo>
                  <a:pt x="0" y="0"/>
                </a:moveTo>
                <a:lnTo>
                  <a:pt x="0" y="1119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214960" y="2535120"/>
            <a:ext cx="2443320" cy="2522520"/>
            <a:chOff x="5214960" y="2535120"/>
            <a:chExt cx="2443320" cy="2522520"/>
          </a:xfrm>
        </p:grpSpPr>
        <p:sp>
          <p:nvSpPr>
            <p:cNvPr id="81" name=""/>
            <p:cNvSpPr/>
            <p:nvPr/>
          </p:nvSpPr>
          <p:spPr>
            <a:xfrm>
              <a:off x="5214960" y="2535120"/>
              <a:ext cx="2443320" cy="2470320"/>
            </a:xfrm>
            <a:custGeom>
              <a:avLst/>
              <a:gdLst>
                <a:gd name="textAreaLeft" fmla="*/ 360 w 2443320"/>
                <a:gd name="textAreaRight" fmla="*/ 2442960 w 2443320"/>
                <a:gd name="textAreaTop" fmla="*/ 360 h 2470320"/>
                <a:gd name="textAreaBottom" fmla="*/ 2469960 h 2470320"/>
              </a:gdLst>
              <a:ahLst/>
              <a:rect l="textAreaLeft" t="textAreaTop" r="textAreaRight" b="textAreaBottom"/>
              <a:pathLst>
                <a:path w="21600" h="21839">
                  <a:moveTo>
                    <a:pt x="14" y="0"/>
                  </a:moveTo>
                  <a:arcTo wR="14" hR="14" stAng="16200000" swAng="-5400000"/>
                  <a:lnTo>
                    <a:pt x="0" y="21825"/>
                  </a:lnTo>
                  <a:arcTo wR="14" hR="14" stAng="10800000" swAng="-5400000"/>
                  <a:lnTo>
                    <a:pt x="21586" y="21839"/>
                  </a:lnTo>
                  <a:arcTo wR="14" hR="14" stAng="5400000" swAng="-5400000"/>
                  <a:lnTo>
                    <a:pt x="21600" y="14"/>
                  </a:lnTo>
                  <a:arcTo wR="14" hR="14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435640" y="2536920"/>
              <a:ext cx="2119320" cy="25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4000"/>
                </a:lnSpc>
                <a:spcBef>
                  <a:spcPts val="400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main()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acción 1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acción 2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…</a:t>
              </a: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acción n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1378D20-1E61-4426-A3D3-8D61FDE009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7772400" cy="128124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Estructuras de Control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Secuencial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mar y multiplicar 2 númer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1606680" y="3164040"/>
            <a:ext cx="1201680" cy="380880"/>
          </a:xfrm>
          <a:prstGeom prst="roundRect">
            <a:avLst>
              <a:gd name="adj" fmla="val 417"/>
            </a:avLst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680" rIns="4680" tIns="4680" bIns="468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=y+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06800" y="354492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19280" y="3909960"/>
            <a:ext cx="1201680" cy="380880"/>
          </a:xfrm>
          <a:prstGeom prst="roundRect">
            <a:avLst>
              <a:gd name="adj" fmla="val 41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680" rIns="4680" tIns="4680" bIns="468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=y*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3720" y="3056040"/>
            <a:ext cx="4016520" cy="2655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in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nt x, y, z, w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 = y + z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 = y * z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7859BF-8617-42DF-92A9-6BC5D25334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7772400" cy="128124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Estructuras de Control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de Selección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400" y="2486160"/>
            <a:ext cx="7772400" cy="20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ció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en realizar difurcación de la secuencia de ejecución del algoritmo a través de una toma de decisión. Pueden ser simples, dobles o múltipl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7AB051-F105-42E7-A65B-B64916981D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7772400" cy="128124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Estructuras de Control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Selección Simple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917720" y="2585880"/>
            <a:ext cx="2938320" cy="3245040"/>
            <a:chOff x="1917720" y="2585880"/>
            <a:chExt cx="2938320" cy="3245040"/>
          </a:xfrm>
        </p:grpSpPr>
        <p:sp>
          <p:nvSpPr>
            <p:cNvPr id="96" name=""/>
            <p:cNvSpPr/>
            <p:nvPr/>
          </p:nvSpPr>
          <p:spPr>
            <a:xfrm>
              <a:off x="1917720" y="2585880"/>
              <a:ext cx="237816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iagrama de Flu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82840" y="4446720"/>
              <a:ext cx="1573200" cy="380880"/>
            </a:xfrm>
            <a:prstGeom prst="roundRect">
              <a:avLst>
                <a:gd name="adj" fmla="val 41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680" rIns="4680" tIns="4680" bIns="4680" anchor="ctr" anchorCtr="1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entenc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84560" y="3392640"/>
              <a:ext cx="1220760" cy="1220760"/>
            </a:xfrm>
            <a:custGeom>
              <a:avLst/>
              <a:gdLst/>
              <a:ahLst/>
              <a:rect l="l" t="t" r="r" b="b"/>
              <a:pathLst>
                <a:path w="3389" h="3389">
                  <a:moveTo>
                    <a:pt x="1694" y="0"/>
                  </a:moveTo>
                  <a:lnTo>
                    <a:pt x="3388" y="1694"/>
                  </a:lnTo>
                  <a:lnTo>
                    <a:pt x="1694" y="3388"/>
                  </a:lnTo>
                  <a:lnTo>
                    <a:pt x="0" y="1694"/>
                  </a:lnTo>
                  <a:lnTo>
                    <a:pt x="1694" y="0"/>
                  </a:lnTo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51080" y="3697200"/>
              <a:ext cx="12859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ondi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94040" y="293544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94040" y="4611600"/>
              <a:ext cx="1440" cy="1219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03520" y="4002120"/>
              <a:ext cx="53352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37040" y="400212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37040" y="484020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892240" y="5297400"/>
              <a:ext cx="1145880" cy="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79840" y="3544920"/>
              <a:ext cx="45720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s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36840" y="4611600"/>
              <a:ext cx="53352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197320" y="3041640"/>
            <a:ext cx="2873520" cy="1459080"/>
            <a:chOff x="5197320" y="3041640"/>
            <a:chExt cx="2873520" cy="1459080"/>
          </a:xfrm>
        </p:grpSpPr>
        <p:sp>
          <p:nvSpPr>
            <p:cNvPr id="109" name=""/>
            <p:cNvSpPr/>
            <p:nvPr/>
          </p:nvSpPr>
          <p:spPr>
            <a:xfrm>
              <a:off x="5222880" y="3146400"/>
              <a:ext cx="2806560" cy="974880"/>
            </a:xfrm>
            <a:prstGeom prst="roundRect">
              <a:avLst>
                <a:gd name="adj" fmla="val 162"/>
              </a:avLst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97320" y="3041640"/>
              <a:ext cx="2873520" cy="14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4000"/>
                </a:lnSpc>
                <a:spcBef>
                  <a:spcPts val="400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if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(condición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sentencia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1280" indent="-3412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drigo Salas Fuentes</dc:creator>
  <dc:description/>
  <dc:language>en-US</dc:language>
  <cp:lastModifiedBy/>
  <cp:revision>0</cp:revision>
  <dc:subject/>
  <dc:title>Programación de Computadores IWI-131 Paralelo 06</dc:title>
</cp:coreProperties>
</file>