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7677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09240"/>
            <a:ext cx="77677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0924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5960" y="390924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1640" y="152352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200" y="152352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0924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1640" y="390924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200" y="390924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7677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7677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236160"/>
            <a:ext cx="776772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0924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960" y="390924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09240"/>
            <a:ext cx="77677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7677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5810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azado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04880" y="324000"/>
            <a:ext cx="7770960" cy="760320"/>
            <a:chOff x="704880" y="324000"/>
            <a:chExt cx="7770960" cy="760320"/>
          </a:xfrm>
        </p:grpSpPr>
        <p:sp>
          <p:nvSpPr>
            <p:cNvPr id="268" name=""/>
            <p:cNvSpPr/>
            <p:nvPr/>
          </p:nvSpPr>
          <p:spPr>
            <a:xfrm>
              <a:off x="704880" y="324000"/>
              <a:ext cx="7770960" cy="76032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4880" y="382680"/>
              <a:ext cx="77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razado (8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04880" y="1162080"/>
            <a:ext cx="7770960" cy="5059440"/>
            <a:chOff x="704880" y="1162080"/>
            <a:chExt cx="7770960" cy="5059440"/>
          </a:xfrm>
        </p:grpSpPr>
        <p:sp>
          <p:nvSpPr>
            <p:cNvPr id="271" name=""/>
            <p:cNvSpPr/>
            <p:nvPr/>
          </p:nvSpPr>
          <p:spPr>
            <a:xfrm>
              <a:off x="704880" y="1162080"/>
              <a:ext cx="7770960" cy="505944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4880" y="1162080"/>
              <a:ext cx="777096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, int *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cambio(&amp;a,&amp;b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x, int *y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=*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x=*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3" name=""/>
          <p:cNvCxnSpPr/>
          <p:nvPr/>
        </p:nvCxnSpPr>
        <p:spPr>
          <a:xfrm>
            <a:off x="5657400" y="2107800"/>
            <a:ext cx="2275200" cy="25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095800" y="1177920"/>
            <a:ext cx="1800" cy="506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07400" y="1285920"/>
            <a:ext cx="20901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0480" y="3786120"/>
            <a:ext cx="77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/>
          <p:nvPr/>
        </p:nvCxnSpPr>
        <p:spPr>
          <a:xfrm>
            <a:off x="605952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"/>
          <p:cNvCxnSpPr/>
          <p:nvPr/>
        </p:nvCxnSpPr>
        <p:spPr>
          <a:xfrm>
            <a:off x="645588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750640" y="1749600"/>
            <a:ext cx="136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79040" y="1760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30480" y="1736640"/>
            <a:ext cx="96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>
            <a:off x="566424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/>
          <p:nvPr/>
        </p:nvCxnSpPr>
        <p:spPr>
          <a:xfrm>
            <a:off x="793224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5786640" y="21891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02800" y="2165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66120" y="2141640"/>
            <a:ext cx="101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 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70800" y="248904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06040" y="246852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66120" y="2465280"/>
            <a:ext cx="101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=2 b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572160" y="626760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04880" y="324000"/>
            <a:ext cx="7770960" cy="760320"/>
            <a:chOff x="704880" y="324000"/>
            <a:chExt cx="7770960" cy="760320"/>
          </a:xfrm>
        </p:grpSpPr>
        <p:sp>
          <p:nvSpPr>
            <p:cNvPr id="41" name=""/>
            <p:cNvSpPr/>
            <p:nvPr/>
          </p:nvSpPr>
          <p:spPr>
            <a:xfrm>
              <a:off x="704880" y="324000"/>
              <a:ext cx="7770960" cy="76032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04880" y="382680"/>
              <a:ext cx="77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Intercambio sin err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704880" y="1162080"/>
            <a:ext cx="7770960" cy="5059440"/>
            <a:chOff x="704880" y="1162080"/>
            <a:chExt cx="7770960" cy="5059440"/>
          </a:xfrm>
        </p:grpSpPr>
        <p:sp>
          <p:nvSpPr>
            <p:cNvPr id="44" name=""/>
            <p:cNvSpPr/>
            <p:nvPr/>
          </p:nvSpPr>
          <p:spPr>
            <a:xfrm>
              <a:off x="704880" y="1162080"/>
              <a:ext cx="7770960" cy="505944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4880" y="1162080"/>
              <a:ext cx="777096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#includ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voi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int *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int *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);       /* prototipo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mai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&amp;a,&amp;b);              /* llamada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retur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voi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*x, </a:t>
              </a: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*y){   /* declaración formal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=*x;       // *x, *y son nombres alternativos de a y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x=*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704880" y="324000"/>
            <a:ext cx="7770960" cy="760320"/>
            <a:chOff x="704880" y="324000"/>
            <a:chExt cx="7770960" cy="760320"/>
          </a:xfrm>
        </p:grpSpPr>
        <p:sp>
          <p:nvSpPr>
            <p:cNvPr id="47" name=""/>
            <p:cNvSpPr/>
            <p:nvPr/>
          </p:nvSpPr>
          <p:spPr>
            <a:xfrm>
              <a:off x="704880" y="324000"/>
              <a:ext cx="7770960" cy="76032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4880" y="382680"/>
              <a:ext cx="77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razado (1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704880" y="1162080"/>
            <a:ext cx="7770960" cy="5059440"/>
            <a:chOff x="704880" y="1162080"/>
            <a:chExt cx="7770960" cy="5059440"/>
          </a:xfrm>
        </p:grpSpPr>
        <p:sp>
          <p:nvSpPr>
            <p:cNvPr id="50" name=""/>
            <p:cNvSpPr/>
            <p:nvPr/>
          </p:nvSpPr>
          <p:spPr>
            <a:xfrm>
              <a:off x="704880" y="1162080"/>
              <a:ext cx="7770960" cy="505944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4880" y="1162080"/>
              <a:ext cx="777096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, int *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int a=1,b=2;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cambio(&amp;a,&amp;b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x, int *y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=*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x=*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" name=""/>
          <p:cNvCxnSpPr/>
          <p:nvPr/>
        </p:nvCxnSpPr>
        <p:spPr>
          <a:xfrm>
            <a:off x="5657400" y="2107800"/>
            <a:ext cx="2275200" cy="25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5095800" y="1177920"/>
            <a:ext cx="1800" cy="506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07400" y="1285920"/>
            <a:ext cx="20901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3716280"/>
            <a:ext cx="3381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605952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/>
          <p:nvPr/>
        </p:nvCxnSpPr>
        <p:spPr>
          <a:xfrm>
            <a:off x="645588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5750640" y="1749600"/>
            <a:ext cx="136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9040" y="1760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30480" y="1736640"/>
            <a:ext cx="96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/>
          <p:nvPr/>
        </p:nvCxnSpPr>
        <p:spPr>
          <a:xfrm>
            <a:off x="566424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/>
          <p:nvPr/>
        </p:nvCxnSpPr>
        <p:spPr>
          <a:xfrm>
            <a:off x="793224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5796360" y="219384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02800" y="2165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704880" y="324000"/>
            <a:ext cx="7770960" cy="760320"/>
            <a:chOff x="704880" y="324000"/>
            <a:chExt cx="7770960" cy="760320"/>
          </a:xfrm>
        </p:grpSpPr>
        <p:sp>
          <p:nvSpPr>
            <p:cNvPr id="68" name=""/>
            <p:cNvSpPr/>
            <p:nvPr/>
          </p:nvSpPr>
          <p:spPr>
            <a:xfrm>
              <a:off x="704880" y="324000"/>
              <a:ext cx="7770960" cy="76032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4880" y="382680"/>
              <a:ext cx="77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razado (2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04880" y="1162080"/>
            <a:ext cx="7770960" cy="5059440"/>
            <a:chOff x="704880" y="1162080"/>
            <a:chExt cx="7770960" cy="5059440"/>
          </a:xfrm>
        </p:grpSpPr>
        <p:sp>
          <p:nvSpPr>
            <p:cNvPr id="71" name=""/>
            <p:cNvSpPr/>
            <p:nvPr/>
          </p:nvSpPr>
          <p:spPr>
            <a:xfrm>
              <a:off x="704880" y="1162080"/>
              <a:ext cx="7770960" cy="505944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4880" y="1162080"/>
              <a:ext cx="777096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, int *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cambio(&amp;a,&amp;b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x, int *y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=*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x=*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" name=""/>
          <p:cNvCxnSpPr/>
          <p:nvPr/>
        </p:nvCxnSpPr>
        <p:spPr>
          <a:xfrm>
            <a:off x="5657400" y="2107800"/>
            <a:ext cx="2275200" cy="25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5095800" y="1177920"/>
            <a:ext cx="1800" cy="506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07400" y="1285920"/>
            <a:ext cx="20901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6960" y="3751200"/>
            <a:ext cx="3381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/>
          <p:nvPr/>
        </p:nvCxnSpPr>
        <p:spPr>
          <a:xfrm>
            <a:off x="605952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/>
          <p:nvPr/>
        </p:nvCxnSpPr>
        <p:spPr>
          <a:xfrm>
            <a:off x="645588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5750640" y="1749600"/>
            <a:ext cx="136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9040" y="1760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480" y="1736640"/>
            <a:ext cx="96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>
            <a:off x="566424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/>
          <p:nvPr/>
        </p:nvCxnSpPr>
        <p:spPr>
          <a:xfrm>
            <a:off x="793224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5786640" y="21891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02800" y="2165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66120" y="2141640"/>
            <a:ext cx="101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=1 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90480" y="3786120"/>
            <a:ext cx="4394160" cy="2428920"/>
          </a:xfrm>
          <a:prstGeom prst="roundRect">
            <a:avLst>
              <a:gd name="adj" fmla="val 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04880" y="324000"/>
            <a:ext cx="7770960" cy="760320"/>
            <a:chOff x="704880" y="324000"/>
            <a:chExt cx="7770960" cy="760320"/>
          </a:xfrm>
        </p:grpSpPr>
        <p:sp>
          <p:nvSpPr>
            <p:cNvPr id="91" name=""/>
            <p:cNvSpPr/>
            <p:nvPr/>
          </p:nvSpPr>
          <p:spPr>
            <a:xfrm>
              <a:off x="704880" y="324000"/>
              <a:ext cx="7770960" cy="76032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4880" y="382680"/>
              <a:ext cx="77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razado (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04880" y="1162080"/>
            <a:ext cx="7770960" cy="5059440"/>
            <a:chOff x="704880" y="1162080"/>
            <a:chExt cx="7770960" cy="5059440"/>
          </a:xfrm>
        </p:grpSpPr>
        <p:sp>
          <p:nvSpPr>
            <p:cNvPr id="94" name=""/>
            <p:cNvSpPr/>
            <p:nvPr/>
          </p:nvSpPr>
          <p:spPr>
            <a:xfrm>
              <a:off x="704880" y="1162080"/>
              <a:ext cx="7770960" cy="505944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4880" y="1162080"/>
              <a:ext cx="777096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, int *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intercambio(&amp;a,&amp;b);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x, int *y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=*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x=*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" name=""/>
          <p:cNvCxnSpPr/>
          <p:nvPr/>
        </p:nvCxnSpPr>
        <p:spPr>
          <a:xfrm>
            <a:off x="5657400" y="2107800"/>
            <a:ext cx="2275200" cy="25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5095800" y="1177920"/>
            <a:ext cx="1800" cy="506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7400" y="1285920"/>
            <a:ext cx="20901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0480" y="3786120"/>
            <a:ext cx="77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605952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/>
          <p:nvPr/>
        </p:nvCxnSpPr>
        <p:spPr>
          <a:xfrm>
            <a:off x="645588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5750640" y="1749600"/>
            <a:ext cx="136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9040" y="1760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30480" y="1736640"/>
            <a:ext cx="96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566424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/>
          <p:nvPr/>
        </p:nvCxnSpPr>
        <p:spPr>
          <a:xfrm>
            <a:off x="793224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5786640" y="21891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02800" y="2165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6120" y="2141640"/>
            <a:ext cx="101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 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6054480" y="4844520"/>
            <a:ext cx="18644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/>
          <p:nvPr/>
        </p:nvCxnSpPr>
        <p:spPr>
          <a:xfrm>
            <a:off x="6563880" y="435456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>
            <a:off x="7104240" y="435456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6148800" y="448632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55040" y="44607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6059520" y="435456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>
            <a:off x="7932240" y="435456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9" name=""/>
          <p:cNvGrpSpPr/>
          <p:nvPr/>
        </p:nvGrpSpPr>
        <p:grpSpPr>
          <a:xfrm>
            <a:off x="6109920" y="4913280"/>
            <a:ext cx="891720" cy="385920"/>
            <a:chOff x="6109920" y="4913280"/>
            <a:chExt cx="891720" cy="385920"/>
          </a:xfrm>
        </p:grpSpPr>
        <p:sp>
          <p:nvSpPr>
            <p:cNvPr id="120" name=""/>
            <p:cNvSpPr/>
            <p:nvPr/>
          </p:nvSpPr>
          <p:spPr>
            <a:xfrm>
              <a:off x="6109920" y="4925880"/>
              <a:ext cx="3740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&amp;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10680" y="4913280"/>
              <a:ext cx="3909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&amp;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194240" y="4438800"/>
            <a:ext cx="61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3720" y="3881520"/>
            <a:ext cx="26539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710320" y="1484280"/>
            <a:ext cx="743040" cy="373320"/>
            <a:chOff x="5710320" y="1484280"/>
            <a:chExt cx="743040" cy="373320"/>
          </a:xfrm>
        </p:grpSpPr>
        <p:sp>
          <p:nvSpPr>
            <p:cNvPr id="125" name=""/>
            <p:cNvSpPr/>
            <p:nvPr/>
          </p:nvSpPr>
          <p:spPr>
            <a:xfrm>
              <a:off x="5710320" y="1484280"/>
              <a:ext cx="37440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*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78600" y="1484280"/>
              <a:ext cx="3747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*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0480" y="3786120"/>
            <a:ext cx="4394160" cy="2428920"/>
          </a:xfrm>
          <a:prstGeom prst="roundRect">
            <a:avLst>
              <a:gd name="adj" fmla="val 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4880" y="324000"/>
            <a:ext cx="7770960" cy="760320"/>
            <a:chOff x="704880" y="324000"/>
            <a:chExt cx="7770960" cy="760320"/>
          </a:xfrm>
        </p:grpSpPr>
        <p:sp>
          <p:nvSpPr>
            <p:cNvPr id="129" name=""/>
            <p:cNvSpPr/>
            <p:nvPr/>
          </p:nvSpPr>
          <p:spPr>
            <a:xfrm>
              <a:off x="704880" y="324000"/>
              <a:ext cx="7770960" cy="76032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4880" y="382680"/>
              <a:ext cx="77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razado (4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4880" y="1162080"/>
            <a:ext cx="7770960" cy="5059440"/>
            <a:chOff x="704880" y="1162080"/>
            <a:chExt cx="7770960" cy="5059440"/>
          </a:xfrm>
        </p:grpSpPr>
        <p:sp>
          <p:nvSpPr>
            <p:cNvPr id="132" name=""/>
            <p:cNvSpPr/>
            <p:nvPr/>
          </p:nvSpPr>
          <p:spPr>
            <a:xfrm>
              <a:off x="704880" y="1162080"/>
              <a:ext cx="7770960" cy="505944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4880" y="1162080"/>
              <a:ext cx="777096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, int *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intercambio(&amp;a,&amp;b);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x, int *y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temp=*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x=*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4" name=""/>
          <p:cNvCxnSpPr/>
          <p:nvPr/>
        </p:nvCxnSpPr>
        <p:spPr>
          <a:xfrm>
            <a:off x="5657400" y="2107800"/>
            <a:ext cx="2275200" cy="25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5095800" y="1177920"/>
            <a:ext cx="1800" cy="506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07400" y="1285920"/>
            <a:ext cx="20901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0480" y="3786120"/>
            <a:ext cx="77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605952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645588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5750640" y="1749600"/>
            <a:ext cx="136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9040" y="1760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30480" y="1736640"/>
            <a:ext cx="96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/>
          <p:nvPr/>
        </p:nvCxnSpPr>
        <p:spPr>
          <a:xfrm>
            <a:off x="566424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/>
          <p:nvPr/>
        </p:nvCxnSpPr>
        <p:spPr>
          <a:xfrm>
            <a:off x="793224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5786640" y="21891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2165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66120" y="2141640"/>
            <a:ext cx="101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 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/>
          <p:nvPr/>
        </p:nvCxnSpPr>
        <p:spPr>
          <a:xfrm>
            <a:off x="6054480" y="4844520"/>
            <a:ext cx="18644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"/>
          <p:cNvCxnSpPr/>
          <p:nvPr/>
        </p:nvCxnSpPr>
        <p:spPr>
          <a:xfrm>
            <a:off x="6563880" y="435456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7104240" y="435456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148800" y="448632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44607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>
            <a:off x="6059520" y="435456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/>
          <p:nvPr/>
        </p:nvCxnSpPr>
        <p:spPr>
          <a:xfrm>
            <a:off x="7932240" y="435456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6109920" y="4925880"/>
            <a:ext cx="374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10680" y="4913280"/>
            <a:ext cx="390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94240" y="4438800"/>
            <a:ext cx="61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93720" y="3881520"/>
            <a:ext cx="26539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0440" y="1461960"/>
            <a:ext cx="305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75720" y="1461960"/>
            <a:ext cx="305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22050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17274 0.39282 E">
                                      <p:cBhvr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90480" y="3786120"/>
            <a:ext cx="4394160" cy="2428920"/>
          </a:xfrm>
          <a:prstGeom prst="roundRect">
            <a:avLst>
              <a:gd name="adj" fmla="val 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04880" y="324000"/>
            <a:ext cx="7770960" cy="760320"/>
            <a:chOff x="704880" y="324000"/>
            <a:chExt cx="7770960" cy="760320"/>
          </a:xfrm>
        </p:grpSpPr>
        <p:sp>
          <p:nvSpPr>
            <p:cNvPr id="166" name=""/>
            <p:cNvSpPr/>
            <p:nvPr/>
          </p:nvSpPr>
          <p:spPr>
            <a:xfrm>
              <a:off x="704880" y="324000"/>
              <a:ext cx="7770960" cy="76032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4880" y="382680"/>
              <a:ext cx="77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razado (5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04880" y="1162080"/>
            <a:ext cx="7770960" cy="5059440"/>
            <a:chOff x="704880" y="1162080"/>
            <a:chExt cx="7770960" cy="5059440"/>
          </a:xfrm>
        </p:grpSpPr>
        <p:sp>
          <p:nvSpPr>
            <p:cNvPr id="169" name=""/>
            <p:cNvSpPr/>
            <p:nvPr/>
          </p:nvSpPr>
          <p:spPr>
            <a:xfrm>
              <a:off x="704880" y="1162080"/>
              <a:ext cx="7770960" cy="505944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880" y="1162080"/>
              <a:ext cx="777096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, int *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intercambio(&amp;a,&amp;b);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x, int *y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=*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*x=*y;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1" name=""/>
          <p:cNvCxnSpPr/>
          <p:nvPr/>
        </p:nvCxnSpPr>
        <p:spPr>
          <a:xfrm>
            <a:off x="5657400" y="2107800"/>
            <a:ext cx="2275200" cy="25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5800" y="1177920"/>
            <a:ext cx="1800" cy="506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07400" y="1285920"/>
            <a:ext cx="20901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0480" y="3786120"/>
            <a:ext cx="77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/>
          <p:nvPr/>
        </p:nvCxnSpPr>
        <p:spPr>
          <a:xfrm>
            <a:off x="605952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>
            <a:off x="645588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750640" y="1749600"/>
            <a:ext cx="136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9040" y="1760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0480" y="1736640"/>
            <a:ext cx="96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>
            <a:off x="566424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>
            <a:off x="793224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5786640" y="21891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02800" y="219384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66120" y="2141640"/>
            <a:ext cx="101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 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/>
          <p:nvPr/>
        </p:nvCxnSpPr>
        <p:spPr>
          <a:xfrm>
            <a:off x="6054480" y="4844520"/>
            <a:ext cx="18644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/>
          <p:nvPr/>
        </p:nvCxnSpPr>
        <p:spPr>
          <a:xfrm>
            <a:off x="6563880" y="435456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/>
          <p:nvPr/>
        </p:nvCxnSpPr>
        <p:spPr>
          <a:xfrm>
            <a:off x="7104240" y="435456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148800" y="448632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55040" y="44607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/>
          <p:nvPr/>
        </p:nvCxnSpPr>
        <p:spPr>
          <a:xfrm>
            <a:off x="6059520" y="435456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/>
          <p:nvPr/>
        </p:nvCxnSpPr>
        <p:spPr>
          <a:xfrm>
            <a:off x="7932240" y="435456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6109920" y="4925880"/>
            <a:ext cx="374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10680" y="4913280"/>
            <a:ext cx="390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4240" y="4438800"/>
            <a:ext cx="61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93720" y="3881520"/>
            <a:ext cx="26539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80440" y="1461960"/>
            <a:ext cx="305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75720" y="1461960"/>
            <a:ext cx="305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3320" y="491652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7640" y="2193840"/>
            <a:ext cx="144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602 L -0.04722 0.04815 E">
                                      <p:cBhvr>
                                        <p:cTn id="5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90480" y="3786120"/>
            <a:ext cx="4394160" cy="2428920"/>
          </a:xfrm>
          <a:prstGeom prst="roundRect">
            <a:avLst>
              <a:gd name="adj" fmla="val 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04880" y="324000"/>
            <a:ext cx="7770960" cy="760320"/>
            <a:chOff x="704880" y="324000"/>
            <a:chExt cx="7770960" cy="760320"/>
          </a:xfrm>
        </p:grpSpPr>
        <p:sp>
          <p:nvSpPr>
            <p:cNvPr id="204" name=""/>
            <p:cNvSpPr/>
            <p:nvPr/>
          </p:nvSpPr>
          <p:spPr>
            <a:xfrm>
              <a:off x="704880" y="324000"/>
              <a:ext cx="7770960" cy="76032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4880" y="382680"/>
              <a:ext cx="77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razado (6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04880" y="1162080"/>
            <a:ext cx="7770960" cy="5059440"/>
            <a:chOff x="704880" y="1162080"/>
            <a:chExt cx="7770960" cy="5059440"/>
          </a:xfrm>
        </p:grpSpPr>
        <p:sp>
          <p:nvSpPr>
            <p:cNvPr id="207" name=""/>
            <p:cNvSpPr/>
            <p:nvPr/>
          </p:nvSpPr>
          <p:spPr>
            <a:xfrm>
              <a:off x="704880" y="1162080"/>
              <a:ext cx="7770960" cy="505944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80" y="1162080"/>
              <a:ext cx="777096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, int *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intercambio(&amp;a,&amp;b);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x, int *y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=*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x=*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Courier New"/>
                </a:rPr>
                <a:t>*y=temp;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9" name=""/>
          <p:cNvCxnSpPr/>
          <p:nvPr/>
        </p:nvCxnSpPr>
        <p:spPr>
          <a:xfrm>
            <a:off x="5657400" y="2107800"/>
            <a:ext cx="2275200" cy="25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5095800" y="1177920"/>
            <a:ext cx="1800" cy="506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07400" y="1285920"/>
            <a:ext cx="20901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0480" y="3786120"/>
            <a:ext cx="77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/>
          <p:nvPr/>
        </p:nvCxnSpPr>
        <p:spPr>
          <a:xfrm>
            <a:off x="605952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/>
          <p:nvPr/>
        </p:nvCxnSpPr>
        <p:spPr>
          <a:xfrm>
            <a:off x="645588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750640" y="1749600"/>
            <a:ext cx="136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9040" y="1760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30480" y="1736640"/>
            <a:ext cx="96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/>
          <p:nvPr/>
        </p:nvCxnSpPr>
        <p:spPr>
          <a:xfrm>
            <a:off x="566424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/>
          <p:nvPr/>
        </p:nvCxnSpPr>
        <p:spPr>
          <a:xfrm>
            <a:off x="793224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5786640" y="21891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02800" y="2165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66120" y="2141640"/>
            <a:ext cx="101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 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/>
          <p:nvPr/>
        </p:nvCxnSpPr>
        <p:spPr>
          <a:xfrm>
            <a:off x="6054480" y="4844520"/>
            <a:ext cx="18644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/>
          <p:nvPr/>
        </p:nvCxnSpPr>
        <p:spPr>
          <a:xfrm>
            <a:off x="6563880" y="435456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/>
          <p:nvPr/>
        </p:nvCxnSpPr>
        <p:spPr>
          <a:xfrm>
            <a:off x="7104240" y="435456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6148800" y="448632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55040" y="44607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6059520" y="435456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/>
          <p:nvPr/>
        </p:nvCxnSpPr>
        <p:spPr>
          <a:xfrm>
            <a:off x="7932240" y="435456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6109920" y="4925880"/>
            <a:ext cx="374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10680" y="4913280"/>
            <a:ext cx="3909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94240" y="4438800"/>
            <a:ext cx="612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93720" y="3881520"/>
            <a:ext cx="26539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80440" y="1461960"/>
            <a:ext cx="305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75720" y="1461960"/>
            <a:ext cx="305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93320" y="491652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70800" y="248904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80720" y="492912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3.33333E-006 L -0.12639 -0.36134 E">
                                      <p:cBhvr>
                                        <p:cTn id="6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04880" y="324000"/>
            <a:ext cx="7770960" cy="760320"/>
            <a:chOff x="704880" y="324000"/>
            <a:chExt cx="7770960" cy="760320"/>
          </a:xfrm>
        </p:grpSpPr>
        <p:sp>
          <p:nvSpPr>
            <p:cNvPr id="242" name=""/>
            <p:cNvSpPr/>
            <p:nvPr/>
          </p:nvSpPr>
          <p:spPr>
            <a:xfrm>
              <a:off x="704880" y="324000"/>
              <a:ext cx="7770960" cy="76032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4880" y="382680"/>
              <a:ext cx="77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razado (7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04880" y="1162080"/>
            <a:ext cx="7770960" cy="5059440"/>
            <a:chOff x="704880" y="1162080"/>
            <a:chExt cx="7770960" cy="5059440"/>
          </a:xfrm>
        </p:grpSpPr>
        <p:sp>
          <p:nvSpPr>
            <p:cNvPr id="245" name=""/>
            <p:cNvSpPr/>
            <p:nvPr/>
          </p:nvSpPr>
          <p:spPr>
            <a:xfrm>
              <a:off x="704880" y="1162080"/>
              <a:ext cx="7770960" cy="505944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4880" y="1162080"/>
              <a:ext cx="777096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, int *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cambio(&amp;a,&amp;b)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f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 intercambio(int *x, int *y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emp=*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x=*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7" name=""/>
          <p:cNvCxnSpPr/>
          <p:nvPr/>
        </p:nvCxnSpPr>
        <p:spPr>
          <a:xfrm>
            <a:off x="5657400" y="2107800"/>
            <a:ext cx="2275200" cy="25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/>
          <p:nvPr/>
        </p:nvCxnSpPr>
        <p:spPr>
          <a:xfrm>
            <a:off x="8477280" y="3692520"/>
            <a:ext cx="2160" cy="216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5095800" y="1177920"/>
            <a:ext cx="1800" cy="506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07400" y="1285920"/>
            <a:ext cx="209016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0480" y="3786120"/>
            <a:ext cx="77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/>
          <p:nvPr/>
        </p:nvCxnSpPr>
        <p:spPr>
          <a:xfrm>
            <a:off x="605952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/>
          <p:nvPr/>
        </p:nvCxnSpPr>
        <p:spPr>
          <a:xfrm>
            <a:off x="645588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750640" y="1749600"/>
            <a:ext cx="1364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9040" y="1760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0480" y="1736640"/>
            <a:ext cx="968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/>
          <p:nvPr/>
        </p:nvCxnSpPr>
        <p:spPr>
          <a:xfrm>
            <a:off x="5664240" y="1619280"/>
            <a:ext cx="2160" cy="14896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>
            <a:off x="7932240" y="1619280"/>
            <a:ext cx="2520" cy="1489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5786640" y="218916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02800" y="216540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66120" y="2141640"/>
            <a:ext cx="1014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1 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93720" y="3881520"/>
            <a:ext cx="26539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s locales de inter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70800" y="248904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06040" y="2468520"/>
            <a:ext cx="153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91560" y="4565520"/>
            <a:ext cx="297252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saparecen al terminar la función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2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lopez</cp:lastModifiedBy>
  <dcterms:modified xsi:type="dcterms:W3CDTF">2006-04-19T19:57:52Z</dcterms:modified>
  <cp:revision>3</cp:revision>
  <dc:subject/>
  <dc:title>Trazado</dc:title>
</cp:coreProperties>
</file>