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520"/>
            <a:ext cx="777096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8360"/>
            <a:ext cx="7772400" cy="595296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entencias Básica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1F79-71C7-47A8-B3CE-1EFA731153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2173320"/>
            <a:ext cx="777240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signo 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‘ es utilizado para asignar un valor a una variable  (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==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‘  para compara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52600" y="3795840"/>
            <a:ext cx="8076960" cy="376200"/>
            <a:chOff x="552600" y="3795840"/>
            <a:chExt cx="8076960" cy="376200"/>
          </a:xfrm>
        </p:grpSpPr>
        <p:sp>
          <p:nvSpPr>
            <p:cNvPr id="42" name=""/>
            <p:cNvSpPr/>
            <p:nvPr/>
          </p:nvSpPr>
          <p:spPr>
            <a:xfrm>
              <a:off x="552600" y="3795840"/>
              <a:ext cx="807696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2600" y="3795840"/>
              <a:ext cx="80769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Variable_destino = expres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Asignacion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22440" y="4257720"/>
            <a:ext cx="7885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imero, la expresión es evaluada  (puede incluir la Variable_destino). Luego, el valor obtenido en la evaluación es almacenado en la Variable_des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8A33-8685-4DC1-964D-391A47533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ntrada/Salida de dat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1360" y="20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ra utilizar adecuadamente la entrada y salida de datos por teclado y pantalla respectivamente, se debe incorporar la librerí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instrucción utilizada para desplegar datos por pantalla 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s instrucción utilizada para leer datos desde el teclado 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997360" y="2870280"/>
            <a:ext cx="3047760" cy="376200"/>
            <a:chOff x="2997360" y="2870280"/>
            <a:chExt cx="3047760" cy="376200"/>
          </a:xfrm>
        </p:grpSpPr>
        <p:sp>
          <p:nvSpPr>
            <p:cNvPr id="50" name=""/>
            <p:cNvSpPr/>
            <p:nvPr/>
          </p:nvSpPr>
          <p:spPr>
            <a:xfrm>
              <a:off x="2997360" y="2870280"/>
              <a:ext cx="304776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97360" y="2870280"/>
              <a:ext cx="30477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#include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 &lt;stdio.h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848040" y="4324320"/>
            <a:ext cx="1524240" cy="395280"/>
            <a:chOff x="3848040" y="4324320"/>
            <a:chExt cx="1524240" cy="395280"/>
          </a:xfrm>
        </p:grpSpPr>
        <p:sp>
          <p:nvSpPr>
            <p:cNvPr id="53" name=""/>
            <p:cNvSpPr/>
            <p:nvPr/>
          </p:nvSpPr>
          <p:spPr>
            <a:xfrm>
              <a:off x="3848040" y="4324320"/>
              <a:ext cx="1524240" cy="395280"/>
            </a:xfrm>
            <a:prstGeom prst="roundRect">
              <a:avLst>
                <a:gd name="adj" fmla="val 4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48040" y="4324320"/>
              <a:ext cx="15242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printf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22840" y="5681520"/>
            <a:ext cx="1523880" cy="376560"/>
            <a:chOff x="3822840" y="5681520"/>
            <a:chExt cx="1523880" cy="376560"/>
          </a:xfrm>
        </p:grpSpPr>
        <p:sp>
          <p:nvSpPr>
            <p:cNvPr id="56" name=""/>
            <p:cNvSpPr/>
            <p:nvPr/>
          </p:nvSpPr>
          <p:spPr>
            <a:xfrm>
              <a:off x="3822840" y="5681520"/>
              <a:ext cx="1523880" cy="37656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22840" y="5681520"/>
              <a:ext cx="15238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scanf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46AB-6F7F-43DA-9B8D-A667E50091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rintf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16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523880" y="1922400"/>
            <a:ext cx="6782040" cy="376200"/>
            <a:chOff x="1523880" y="1922400"/>
            <a:chExt cx="6782040" cy="376200"/>
          </a:xfrm>
        </p:grpSpPr>
        <p:sp>
          <p:nvSpPr>
            <p:cNvPr id="62" name=""/>
            <p:cNvSpPr/>
            <p:nvPr/>
          </p:nvSpPr>
          <p:spPr>
            <a:xfrm>
              <a:off x="1523880" y="1922400"/>
              <a:ext cx="678204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3880" y="1922400"/>
              <a:ext cx="6782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const char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cadena, {lista de_variables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2209680" y="2417760"/>
          <a:ext cx="4660920" cy="311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17760"/>
                    <a:ext cx="466092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"/>
          <p:cNvGrpSpPr/>
          <p:nvPr/>
        </p:nvGrpSpPr>
        <p:grpSpPr>
          <a:xfrm>
            <a:off x="304920" y="5654520"/>
            <a:ext cx="8634240" cy="879480"/>
            <a:chOff x="304920" y="5654520"/>
            <a:chExt cx="8634240" cy="879480"/>
          </a:xfrm>
        </p:grpSpPr>
        <p:sp>
          <p:nvSpPr>
            <p:cNvPr id="67" name=""/>
            <p:cNvSpPr/>
            <p:nvPr/>
          </p:nvSpPr>
          <p:spPr>
            <a:xfrm>
              <a:off x="304920" y="5678640"/>
              <a:ext cx="8609040" cy="85536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960" y="5654520"/>
              <a:ext cx="85122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Courier New"/>
                </a:rPr>
                <a:t>Los códigos de los formatos que aparecen en la cadena, son reemplazados por los valores de las variables respetando el ord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1B9D-D457-429B-ACDE-1031D1E8B9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rintf() (cont.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09680" y="1832040"/>
          <a:ext cx="4740480" cy="31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32040"/>
                    <a:ext cx="474048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41280" y="5202360"/>
            <a:ext cx="8609040" cy="855720"/>
          </a:xfrm>
          <a:prstGeom prst="roundRect">
            <a:avLst>
              <a:gd name="adj" fmla="val 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0600" y="5153040"/>
            <a:ext cx="8512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urier New"/>
              </a:rPr>
              <a:t>Cuando aparecen en la cadena, son reemplazados por una acción en la salida. El “\” se usa para cambiar el significado del carácter sigu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A431-26A1-4567-B616-6BEAB38A2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scanf()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2057400"/>
            <a:ext cx="6782040" cy="376200"/>
            <a:chOff x="1523880" y="2057400"/>
            <a:chExt cx="6782040" cy="376200"/>
          </a:xfrm>
        </p:grpSpPr>
        <p:sp>
          <p:nvSpPr>
            <p:cNvPr id="79" name=""/>
            <p:cNvSpPr/>
            <p:nvPr/>
          </p:nvSpPr>
          <p:spPr>
            <a:xfrm>
              <a:off x="1523880" y="2057400"/>
              <a:ext cx="6782040" cy="376200"/>
            </a:xfrm>
            <a:prstGeom prst="roundRect">
              <a:avLst>
                <a:gd name="adj" fmla="val 42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2057400"/>
              <a:ext cx="67820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scanf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</a:rPr>
                <a:t>const char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cadena, &amp;lista de_variables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2209680" y="2698920"/>
          <a:ext cx="508320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698920"/>
                    <a:ext cx="50832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822-91DD-4EE0-96EA-9BF25B844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5800" y="1600200"/>
            <a:ext cx="8153280" cy="4630680"/>
            <a:chOff x="685800" y="1600200"/>
            <a:chExt cx="8153280" cy="4630680"/>
          </a:xfrm>
        </p:grpSpPr>
        <p:sp>
          <p:nvSpPr>
            <p:cNvPr id="86" name=""/>
            <p:cNvSpPr/>
            <p:nvPr/>
          </p:nvSpPr>
          <p:spPr>
            <a:xfrm>
              <a:off x="685800" y="1600200"/>
              <a:ext cx="8153280" cy="4630680"/>
            </a:xfrm>
            <a:prstGeom prst="roundRect">
              <a:avLst>
                <a:gd name="adj" fmla="val 32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1600200"/>
              <a:ext cx="8153280" cy="45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2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#includ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&lt;stdio.h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entero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floa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real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char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caracter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“Ingrese los siguientes datos: \n”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“Ingrese entero:\t”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scan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“%d”,&amp;enter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“\nIngrese un real y un carácter:\t”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scan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“%f %c”,&amp;real, &amp;caracter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(“\nLos valores ingresados son: %d %f %c”, entero, real, caracter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553080" y="62485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6AB-D82C-4887-809A-D3E9591812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jercici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- Realizar un algoritmo que permita calcular el volumen de un cilind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- Leer el radio de un círculo y calcular e imprimir su superficie y circunferenc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- Dados dos puntos {(1, 2), (10, 15), calcular el valor y de un punto cuyo valor x se lee desde tecla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rigo Salas Fuentes</dc:creator>
  <dc:description/>
  <dc:language>en-US</dc:language>
  <cp:lastModifiedBy/>
  <cp:revision>0</cp:revision>
  <dc:subject/>
  <dc:title>Programación de Computadores IWI-131 Paralelo 06</dc:title>
</cp:coreProperties>
</file>