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99200" cy="898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3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301400" y="682560"/>
            <a:ext cx="448956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914400" y="4266720"/>
            <a:ext cx="52545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659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240" y="391104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840" y="152388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391104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840" y="3911040"/>
            <a:ext cx="2500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59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7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240" y="1523880"/>
            <a:ext cx="37897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160"/>
            <a:ext cx="7765920" cy="59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523880"/>
            <a:ext cx="37897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7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240" y="391104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523880"/>
            <a:ext cx="3789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659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659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592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6560" indent="-27936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3200" y="585720"/>
            <a:ext cx="7772400" cy="57196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dinámica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msmincho"/>
              </a:rPr>
              <a:t>c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msmincho"/>
              </a:rPr>
              <a:t>Estructura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8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6360" y="1295280"/>
            <a:ext cx="8928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/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 para acceder a los campos de la variable estructurada se debe usar "-&gt;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en vez de “.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072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03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108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35640"/>
            <a:ext cx="877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5472000"/>
            <a:ext cx="7113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1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5400720"/>
            <a:ext cx="162108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960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9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6360" y="1295280"/>
            <a:ext cx="89283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si la variable de tipo puntero se hace apuntar a otra variable estruc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por ejemplo a "a", la variable  estructurada, pedida en forma dinamic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queda sin la posibilidad de ser usada por el progra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=&amp;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2072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03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108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35640"/>
            <a:ext cx="877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08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180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4180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3440" y="5616720"/>
            <a:ext cx="292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6360" y="1295280"/>
            <a:ext cx="892836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la forma correcta es devolver dinamicamente la memor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free(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=&amp;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72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03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508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241800" y="5400720"/>
            <a:ext cx="1623960" cy="539640"/>
            <a:chOff x="3241800" y="5400720"/>
            <a:chExt cx="1623960" cy="539640"/>
          </a:xfrm>
        </p:grpSpPr>
        <p:sp>
          <p:nvSpPr>
            <p:cNvPr id="183" name=""/>
            <p:cNvSpPr/>
            <p:nvPr/>
          </p:nvSpPr>
          <p:spPr>
            <a:xfrm>
              <a:off x="3276720" y="5435640"/>
              <a:ext cx="877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1800" y="5400720"/>
              <a:ext cx="16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41800" y="5400720"/>
              <a:ext cx="7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21040" y="5616720"/>
              <a:ext cx="279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3440" y="5616720"/>
              <a:ext cx="292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5472000"/>
              <a:ext cx="5349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4880" y="151920"/>
            <a:ext cx="7772400" cy="12826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dinámic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459360" y="1819440"/>
            <a:ext cx="8309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msmincho"/>
              </a:rPr>
              <a:t>¿Qué hacer cuando las variables declaradas 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msmincho"/>
              </a:rPr>
              <a:t>insuficientes o cuando no se conoce anticip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ms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msmincho"/>
              </a:rPr>
              <a:t>cuanto almacenamiento será requerido por el progr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120" y="3730680"/>
            <a:ext cx="7956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1. Se crea una variable de tipo punt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2. Se le pide al sistema operativo que asigne más mem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3. El sistema operativo retorna la dirección a la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asig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4. Si la memoria asignada, no se usará más, se pu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devolver al sistema oper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1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36360" y="1295280"/>
            <a:ext cx="8928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15800" y="5400720"/>
            <a:ext cx="1928880" cy="539640"/>
            <a:chOff x="415800" y="5400720"/>
            <a:chExt cx="1928880" cy="539640"/>
          </a:xfrm>
        </p:grpSpPr>
        <p:sp>
          <p:nvSpPr>
            <p:cNvPr id="53" name=""/>
            <p:cNvSpPr/>
            <p:nvPr/>
          </p:nvSpPr>
          <p:spPr>
            <a:xfrm>
              <a:off x="720720" y="5400720"/>
              <a:ext cx="16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19280" y="5400720"/>
              <a:ext cx="7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8520" y="5616720"/>
              <a:ext cx="279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2720" y="5616720"/>
              <a:ext cx="291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5800" y="5472000"/>
              <a:ext cx="3621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41964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0" y="5435640"/>
            <a:ext cx="87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2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1295280"/>
            <a:ext cx="8928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//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se crea la variable estructurada estatica, "a" que tiene memoria asignad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la relacion entre el nombre "a" y la memoria asignada es perman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15800" y="5400720"/>
            <a:ext cx="1928880" cy="539640"/>
            <a:chOff x="415800" y="5400720"/>
            <a:chExt cx="1928880" cy="539640"/>
          </a:xfrm>
        </p:grpSpPr>
        <p:sp>
          <p:nvSpPr>
            <p:cNvPr id="64" name=""/>
            <p:cNvSpPr/>
            <p:nvPr/>
          </p:nvSpPr>
          <p:spPr>
            <a:xfrm>
              <a:off x="720720" y="5400720"/>
              <a:ext cx="16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19280" y="5400720"/>
              <a:ext cx="7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8520" y="5616720"/>
              <a:ext cx="279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2720" y="5616720"/>
              <a:ext cx="291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5800" y="5472000"/>
              <a:ext cx="3621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1964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0" y="5435640"/>
            <a:ext cx="87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3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6360" y="1295280"/>
            <a:ext cx="892836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se crea la variable de tipo puntero "b" para apuntar a variables estructurad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no hay memoria asignada de tipo estructurada, "b" apunta a nad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85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095640" y="4680000"/>
            <a:ext cx="1022400" cy="1111320"/>
            <a:chOff x="3095640" y="4680000"/>
            <a:chExt cx="1022400" cy="1111320"/>
          </a:xfrm>
        </p:grpSpPr>
        <p:sp>
          <p:nvSpPr>
            <p:cNvPr id="80" name=""/>
            <p:cNvSpPr/>
            <p:nvPr/>
          </p:nvSpPr>
          <p:spPr>
            <a:xfrm>
              <a:off x="3419640" y="5040360"/>
              <a:ext cx="17928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95640" y="4680000"/>
              <a:ext cx="3762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0" y="5435640"/>
              <a:ext cx="878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4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1295280"/>
            <a:ext cx="89283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se puede modificar u obtener el contenido de los campos de la variable "a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para ello se debe usar "." seguida del nombre del cam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85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0" y="5435640"/>
            <a:ext cx="87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364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5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1295280"/>
            <a:ext cx="892836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se pide, al sistema operativo, memoria  para una variable estructurad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la variable puntero "b" es usada para almacenar la direccion de la nu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memoria devuelta, esto significa que “b” queda apuntando a esta nu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variable estructurad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85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545080" y="5400720"/>
            <a:ext cx="1623960" cy="539640"/>
            <a:chOff x="5545080" y="5400720"/>
            <a:chExt cx="1623960" cy="539640"/>
          </a:xfrm>
        </p:grpSpPr>
        <p:sp>
          <p:nvSpPr>
            <p:cNvPr id="103" name=""/>
            <p:cNvSpPr/>
            <p:nvPr/>
          </p:nvSpPr>
          <p:spPr>
            <a:xfrm>
              <a:off x="5545080" y="5400720"/>
              <a:ext cx="16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3640" y="5400720"/>
              <a:ext cx="7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22880" y="5616720"/>
              <a:ext cx="279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7080" y="5616720"/>
              <a:ext cx="291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41964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5435640"/>
            <a:ext cx="87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41964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0" y="5435640"/>
            <a:ext cx="8780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6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36360" y="1295280"/>
            <a:ext cx="892836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se pide, al sistema operativo, memoria  para una variable estructurad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la variable puntero "b" es usada para almacenar la direccion de la nu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memoria devuelta, esto significa que “b” queda apuntando a esta nu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variable estructurad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85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364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545080" y="5400720"/>
            <a:ext cx="1623960" cy="539640"/>
            <a:chOff x="5545080" y="5400720"/>
            <a:chExt cx="1623960" cy="539640"/>
          </a:xfrm>
        </p:grpSpPr>
        <p:sp>
          <p:nvSpPr>
            <p:cNvPr id="122" name=""/>
            <p:cNvSpPr/>
            <p:nvPr/>
          </p:nvSpPr>
          <p:spPr>
            <a:xfrm>
              <a:off x="5545080" y="5400720"/>
              <a:ext cx="16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43640" y="5400720"/>
              <a:ext cx="7207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22880" y="5616720"/>
              <a:ext cx="279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77080" y="5616720"/>
              <a:ext cx="291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72400" cy="72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Memoria estática/dinámica 7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6360" y="1295280"/>
            <a:ext cx="8928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mai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struct str *b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5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b=(struct str *)</a:t>
            </a:r>
            <a:r>
              <a:rPr b="1" lang="en-GB" sz="1600" spc="-1" strike="noStrike">
                <a:solidFill>
                  <a:srgbClr val="000080"/>
                </a:solidFill>
                <a:latin typeface="Courier 10 Pitch"/>
              </a:rPr>
              <a:t>malloc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(sizeof(struct str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/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 para acceder a los campos de la variable estructurada se debe usar "-&gt;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</a:rPr>
              <a:t>// en vez de “.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-&gt;x=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10 Pitch"/>
              </a:rPr>
              <a:t>a.x=a.x+</a:t>
            </a:r>
            <a:r>
              <a:rPr b="1" lang="en-GB" sz="1600" spc="-1" strike="noStrike">
                <a:solidFill>
                  <a:srgbClr val="ff0000"/>
                </a:solidFill>
                <a:latin typeface="Courier 10 Pitch"/>
              </a:rPr>
              <a:t>b-&gt;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5400720"/>
            <a:ext cx="16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2072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032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272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5800" y="5472000"/>
            <a:ext cx="362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1080" y="504036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95640" y="4680000"/>
            <a:ext cx="3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35640"/>
            <a:ext cx="877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364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0" y="5400720"/>
            <a:ext cx="162108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5400720"/>
            <a:ext cx="72072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9600" y="5616720"/>
            <a:ext cx="279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616720"/>
            <a:ext cx="291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5472000"/>
            <a:ext cx="5349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rogramación de Computadores IWI-131 Paralelo 06</dc:title>
</cp:coreProperties>
</file>