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7099300" cy="8988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36520"/>
            <a:ext cx="777096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391104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36520"/>
            <a:ext cx="777096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7760" y="152388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7760" y="391104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36520"/>
            <a:ext cx="777096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440" y="152388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0720" y="152388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391104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440" y="391104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0720" y="391104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236520"/>
            <a:ext cx="777096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09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36520"/>
            <a:ext cx="777096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09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36520"/>
            <a:ext cx="777096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188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7760" y="1523880"/>
            <a:ext cx="379188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36520"/>
            <a:ext cx="777096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236520"/>
            <a:ext cx="7770960" cy="592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36520"/>
            <a:ext cx="777096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7760" y="1523880"/>
            <a:ext cx="379188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36520"/>
            <a:ext cx="777096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188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760" y="152388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7760" y="391104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36520"/>
            <a:ext cx="777096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760" y="152388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36520"/>
            <a:ext cx="777096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09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49080"/>
            <a:ext cx="7772400" cy="5732280"/>
          </a:xfrm>
          <a:prstGeom prst="rect">
            <a:avLst/>
          </a:prstGeom>
          <a:solidFill>
            <a:srgbClr val="3333cc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omic Sans MS"/>
              </a:rPr>
              <a:t>Funciones en lenguaje C</a:t>
            </a: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553080" y="624852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99134-73EE-4C20-A8C5-F033F4555A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Argumentos de funciones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6280" y="1521000"/>
            <a:ext cx="7772400" cy="22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n variables locales conocidas como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parámetros formales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 se utilizan como un medio para entregarle información a la función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4000" indent="-324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s  parámetros formales reciben sus valores iniciales desde los parámetros reales, es decir desde los valores que se les pasan a traveś de la llamada. Ejempl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"/>
          <p:cNvSpPr/>
          <p:nvPr/>
        </p:nvSpPr>
        <p:spPr>
          <a:xfrm>
            <a:off x="1648080" y="4226040"/>
            <a:ext cx="518256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main( 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000" spc="-1" strike="noStrike">
                <a:solidFill>
                  <a:srgbClr val="b80047"/>
                </a:solidFill>
                <a:latin typeface="Courier New"/>
              </a:rPr>
              <a:t>imprimeEntero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GB" sz="2000" spc="-1" strike="noStrike">
                <a:solidFill>
                  <a:srgbClr val="ff0000"/>
                </a:solidFill>
                <a:latin typeface="Courier New"/>
              </a:rPr>
              <a:t>5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void </a:t>
            </a:r>
            <a:r>
              <a:rPr b="0" lang="en-GB" sz="2000" spc="-1" strike="noStrike">
                <a:solidFill>
                  <a:srgbClr val="b84747"/>
                </a:solidFill>
                <a:latin typeface="Courier New"/>
              </a:rPr>
              <a:t>imprimeEntero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GB" sz="2000" spc="-1" strike="noStrike">
                <a:solidFill>
                  <a:srgbClr val="0000ff"/>
                </a:solidFill>
                <a:latin typeface="Courier New"/>
              </a:rPr>
              <a:t>int x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rintf(“%d\n”, x);/* x vale 5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749760" y="3992400"/>
            <a:ext cx="3101760" cy="636840"/>
            <a:chOff x="3749760" y="3992400"/>
            <a:chExt cx="3101760" cy="636840"/>
          </a:xfrm>
        </p:grpSpPr>
        <p:sp>
          <p:nvSpPr>
            <p:cNvPr id="71" name=""/>
            <p:cNvSpPr/>
            <p:nvPr/>
          </p:nvSpPr>
          <p:spPr>
            <a:xfrm>
              <a:off x="3749760" y="3992400"/>
              <a:ext cx="310176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Times New Roman"/>
                </a:rPr>
                <a:t>Parámetro real (llamad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4248000" y="4384800"/>
              <a:ext cx="65088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4947840" y="4603680"/>
            <a:ext cx="3199680" cy="782640"/>
            <a:chOff x="4947840" y="4603680"/>
            <a:chExt cx="3199680" cy="782640"/>
          </a:xfrm>
        </p:grpSpPr>
        <p:sp>
          <p:nvSpPr>
            <p:cNvPr id="74" name=""/>
            <p:cNvSpPr/>
            <p:nvPr/>
          </p:nvSpPr>
          <p:spPr>
            <a:xfrm>
              <a:off x="4947840" y="4603680"/>
              <a:ext cx="319968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ff"/>
                  </a:solidFill>
                  <a:latin typeface="Times New Roman"/>
                </a:rPr>
                <a:t>Parámetro formal (declaración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5163840" y="4983120"/>
              <a:ext cx="72396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4226040" y="4957920"/>
            <a:ext cx="817560" cy="439560"/>
          </a:xfrm>
          <a:prstGeom prst="line">
            <a:avLst/>
          </a:prstGeom>
          <a:ln w="7200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553080" y="624852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CB368-3405-4610-8649-3CE98F9F60F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Transferencia de Información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omic Sans MS"/>
              </a:rPr>
              <a:t>por valor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ia el valor de un argumento de la llamada en el parámetro formal de la función. Por lo tanto, los cambios en los parámetros de la función no afectan a las variables que se usan en la llamad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omic Sans MS"/>
              </a:rPr>
              <a:t>por referencia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 copia la dirección del argumento en el parámetro. Los cambios hechos a los parámetros afectan a las variables usadas en la llamada a la funció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553080" y="624852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D0471-0D7A-4ACE-B679-8E3258686B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Ejemplo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struya un programa que calcule el cuadrado de los 10 primeros números entero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553080" y="624852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0AE1F-4367-42A7-84FD-3128507B8C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Solución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06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2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#include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&lt;stdio.h&gt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cuadrado(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x){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r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=x*x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r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main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{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i,resultado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for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(i=0;i&lt;10;i++){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esultado = cuadrado (i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       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printf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"Cuadrado de %d:\t%d\n",i,resultado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0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572160" y="626760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9BDF4-E83E-422F-AC34-07265CF848D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04880" y="574200"/>
            <a:ext cx="777240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Ejemp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04880" y="1542960"/>
            <a:ext cx="7772400" cy="24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sarrolle una función que realiza un intercambio de los valores entre 2 vari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572160" y="626760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18BF9-2C4F-4EDC-A5F7-60E98AC279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4880" y="574200"/>
            <a:ext cx="777240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Ejemp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04880" y="1542960"/>
            <a:ext cx="7772400" cy="33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ear una función que duplique el contenido de una var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Debe ser independiente de si la variable es global o loc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Debe tener retorno 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</a:rPr>
              <a:t>vo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553080" y="624852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1E95B-5919-4155-8162-C012085FB5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Solución con error ¿porqué?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06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2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#include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&lt;stdio.h&gt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void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intercambio(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x, 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y){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temp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emp=x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x=y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y=temp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rintf(“\n x=%d y=%d temp=%d “,x,y,temp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main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{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a=1,b=2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   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printf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"a=%d b=%d\n",a,b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ntercambio (a,b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   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printf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"a=%d b=%d\n",a,b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0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553080" y="624852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180F3-F218-407B-BBAA-C02DBB2375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Solución correcta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06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2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#include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&lt;stdio.h&gt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void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intercambio(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*x, 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*y){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temp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emp=*x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*x=*y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*y=temp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rintf(“ x=%d y=%d temp=%d \n“,*x,*y,temp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main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{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a=1,b=2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printf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"a=%d b=%d\n",a,b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ntercambio (&amp;a,&amp;b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printf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"\na=%d b=%d",a,b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0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572160" y="626760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CB583-D9B1-4C39-9590-C691735E9F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4880" y="574200"/>
            <a:ext cx="777240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Ejemp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4880" y="1542960"/>
            <a:ext cx="7772400" cy="33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lizar una función, en el cual se ingresa un número entero de varias cifras y un entero con una posición y se retorna el dígito de dicha posi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HG Mincho Light J"/>
              </a:rPr>
              <a:t>Entrada: 987 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HG Mincho Light J"/>
              </a:rPr>
              <a:t>Salida  : 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553080" y="624852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ACE29-63E8-4AD6-8A88-FC3DA285A13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Programa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356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2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#include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&lt;stdio.h&gt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buscar(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x,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k){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i,n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if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(k&lt;=0 || x&lt;0) 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-1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for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(i=0;i&lt;k-1;i++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x=x/10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(x%10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void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main(){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n,k,digito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printf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"Ingrese numero y posicion:"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scanf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"%d %d",&amp;n,&amp;k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igito=buscar(n,k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if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(digito&lt;0) 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printf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"No encontrado\n"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else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printf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"El digito encontrado es: %d\n",digito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0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6553080" y="624852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06F5E-1915-41EF-BF42-CFA342D20F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Funciones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inición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s funciones son los bloques de construcción básicos de C. Dentro de ellas se da toda la actividad del program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iterios para crearla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 usa la estrategia de “Dividir y Conquistar”, en otras palabras, es realizar la partición de la tarea en subtareas más fáciles de aborda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do problema se puede resolver con funciones o sin ellas, pero su uso adecuado  hace que el programa sea más eficiente, fácil de leer y proba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553080" y="624852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F7369-D2AF-42BC-A23D-91544D83C8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Prototipos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o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dentificar el tipo de retorno de la funció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pecificar el tipo y el número de argumentos que utiliza la funció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l prototipo debe aparecer antes de que se haga cualquier llamada a la funció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 es necesario incluir los nombres reales de los parámetro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553080" y="624852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BE13E-5B92-403A-9302-380231BDF9B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Prototipo (cont.)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5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2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#include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&lt;stdio.h&gt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cuadrado(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x); /*Prototipo*/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main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{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i,resultado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for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(i=0;i&lt;10;i++){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esultado = cuadrado (i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printf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"El cuadrado de %d es %d\n",i,resultado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0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cuadrado(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x){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a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=x*x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a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"/>
          <p:cNvSpPr/>
          <p:nvPr/>
        </p:nvSpPr>
        <p:spPr>
          <a:xfrm>
            <a:off x="3516480" y="2230560"/>
            <a:ext cx="1852560" cy="1019160"/>
          </a:xfrm>
          <a:custGeom>
            <a:avLst/>
            <a:gdLst/>
            <a:ahLst/>
            <a:rect l="l" t="t" r="r" b="b"/>
            <a:pathLst>
              <a:path w="5146" h="2833">
                <a:moveTo>
                  <a:pt x="4805" y="2832"/>
                </a:moveTo>
                <a:lnTo>
                  <a:pt x="1370" y="1100"/>
                </a:lnTo>
                <a:lnTo>
                  <a:pt x="1102" y="1586"/>
                </a:lnTo>
                <a:lnTo>
                  <a:pt x="0" y="21"/>
                </a:lnTo>
                <a:lnTo>
                  <a:pt x="1966" y="0"/>
                </a:lnTo>
                <a:lnTo>
                  <a:pt x="1701" y="483"/>
                </a:lnTo>
                <a:lnTo>
                  <a:pt x="5145" y="2213"/>
                </a:lnTo>
                <a:lnTo>
                  <a:pt x="4805" y="283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553080" y="624852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1F931-5707-4A74-A4F8-BF098791E6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Prototipo (cont.)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06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2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#include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&lt;stdio.h&gt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void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intercambio(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*, 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*)  /*Prototipo*/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main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{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a=5,b=3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printf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"a=%d b=%d\n",a,b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ntercambio (&amp;a,&amp;b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printf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"a=%d b=%d\n",a,b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0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void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intercambio(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*x, 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*y){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temp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emp=*x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*x=*y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*y=temp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7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"/>
          <p:cNvSpPr/>
          <p:nvPr/>
        </p:nvSpPr>
        <p:spPr>
          <a:xfrm>
            <a:off x="4457880" y="1897200"/>
            <a:ext cx="2041200" cy="1117440"/>
          </a:xfrm>
          <a:custGeom>
            <a:avLst/>
            <a:gdLst/>
            <a:ahLst/>
            <a:rect l="l" t="t" r="r" b="b"/>
            <a:pathLst>
              <a:path w="5669" h="3106">
                <a:moveTo>
                  <a:pt x="5301" y="3105"/>
                </a:moveTo>
                <a:lnTo>
                  <a:pt x="1509" y="1207"/>
                </a:lnTo>
                <a:lnTo>
                  <a:pt x="1214" y="1740"/>
                </a:lnTo>
                <a:lnTo>
                  <a:pt x="0" y="26"/>
                </a:lnTo>
                <a:lnTo>
                  <a:pt x="2170" y="0"/>
                </a:lnTo>
                <a:lnTo>
                  <a:pt x="1876" y="533"/>
                </a:lnTo>
                <a:lnTo>
                  <a:pt x="5668" y="2427"/>
                </a:lnTo>
                <a:lnTo>
                  <a:pt x="5301" y="310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553080" y="624852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FCD47-4757-4EFD-A800-85DE377C2C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Funciones: ventajas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cilita el diseño descendent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- Los procedimientos dentro de ellas se pueden ejecutar varias vec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.- Facilita la división de tarea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- Se pueden probar individualm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.- Con funciones apropiadamente diseñadas, es posible ignorar como se realiza una tarea, sabiendo qué es lo que hace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553080" y="624852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9E79-C3FF-4DCD-BEB5-6AFFEBCE21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Funciones: Especificación formal 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2971800"/>
            <a:ext cx="77724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2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ourier New"/>
              </a:rPr>
              <a:t>tipo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pecifica el tipo de valor que devuelve la función. Si no se especifica tipo, el compilador asume que es entero (int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7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ourier New"/>
              </a:rPr>
              <a:t>lista de parámetro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 la lista de nombres de variables separados por comas con sus tipos asociados que reciben los valores de los argumentos actuales de la llamada a la funció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33520" y="1676520"/>
            <a:ext cx="8153280" cy="1079280"/>
            <a:chOff x="533520" y="1676520"/>
            <a:chExt cx="8153280" cy="1079280"/>
          </a:xfrm>
        </p:grpSpPr>
        <p:sp>
          <p:nvSpPr>
            <p:cNvPr id="49" name=""/>
            <p:cNvSpPr/>
            <p:nvPr/>
          </p:nvSpPr>
          <p:spPr>
            <a:xfrm>
              <a:off x="533520" y="1676520"/>
              <a:ext cx="8153280" cy="1079280"/>
            </a:xfrm>
            <a:prstGeom prst="roundRect">
              <a:avLst>
                <a:gd name="adj" fmla="val 144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1676520"/>
              <a:ext cx="8153280" cy="10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2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cc"/>
                  </a:solidFill>
                  <a:latin typeface="Courier New"/>
                </a:rPr>
                <a:t>tipo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nombre_funcion(lista de parámetros){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uerpo de la fun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553080" y="624852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4F0E7-2825-4E92-8F49-3E1D170076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La sentencia</a:t>
            </a:r>
            <a:r>
              <a:rPr b="0" lang="en-GB" sz="36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i="1" lang="en-GB" sz="3600" spc="-1" strike="noStrike">
                <a:solidFill>
                  <a:srgbClr val="ff9933"/>
                </a:solidFill>
                <a:latin typeface="Comic Sans MS"/>
              </a:rPr>
              <a:t>return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3560" y="2563560"/>
            <a:ext cx="7772400" cy="27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erza la salida inmediata de la función en que se encuentr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 puede utilizar para devolver un valo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553080" y="624852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AFC01-CAA2-4448-8731-4611690FEF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Funciones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3200" y="2017800"/>
            <a:ext cx="7772400" cy="38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s funciones terminan su ejecución ya sea a través de la ejecución de la última instrucción o utilizando la sentencia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retur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 función puede retornar valor sólo cuando el tipo de retorno no es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voi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s funciones que son de tipos distintos de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voi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ueden ser utilizadas como operandos  en otras expresiones del lenguaj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553080" y="624852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2EE0F-AE1C-4C5F-862C-8B7384B72E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Funciones: modos de uso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- Funciones diseñadas para realizar operaciones a partir de sus argumentos y devolver un valor basado en sus cálculo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- Funciones que no reciben argumentos, realizan un proceso y devuelven un valor 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- Funciones que no tienen argumentos ni valor de retorno explícito, operan sobre el entorno de variables globales o atributos del sistema operativ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553080" y="624852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23996-6DFA-4893-9506-81B47A5420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Función</a:t>
            </a:r>
            <a:r>
              <a:rPr b="0" lang="en-GB" sz="36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i="1" lang="en-GB" sz="3600" spc="-1" strike="noStrike">
                <a:solidFill>
                  <a:srgbClr val="ff9933"/>
                </a:solidFill>
                <a:latin typeface="Comic Sans MS"/>
              </a:rPr>
              <a:t>main()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6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diante la sentencia return, el programa puede devolver un código de terminación al proceso de llamada (Ej.: entero a Shell de comandos en Unix)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l valor devuelto puede ser 0 que indica terminación normal o un valor que identifica un error detectado por el program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l valor devuelto puede ser usado para ejecución condicional de comandos en shell en Unix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553080" y="624852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F6703-A889-4AD4-A693-2431924463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Variables locales y globales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ariables Local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 declaran dentro de la función y sólo están disponibles durante su ejecució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 crean cuando se entra en ejecución una función y se destruyen cuando se termin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ariables global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 declaran  fuera de las funciones. Pueden ser utilizadas por todas las funcion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isten durante toda la vida del program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drigo Salas Fuentes</dc:creator>
  <dc:description/>
  <dc:language>en-US</dc:language>
  <cp:lastModifiedBy/>
  <cp:revision>0</cp:revision>
  <dc:subject/>
  <dc:title>Programación de Computadores IWI-131 Paralelo 06</dc:title>
</cp:coreProperties>
</file>