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99300" cy="8988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44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072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44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072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36520"/>
            <a:ext cx="7770960" cy="59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3200" y="585720"/>
            <a:ext cx="7772400" cy="571968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structura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4880" y="151920"/>
            <a:ext cx="7772400" cy="12798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Paso de Estructuras a Funciones por referenci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384200" y="1533600"/>
            <a:ext cx="6602400" cy="5172120"/>
          </a:xfrm>
          <a:prstGeom prst="roundRect">
            <a:avLst>
              <a:gd name="adj" fmla="val 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1558800"/>
            <a:ext cx="6602400" cy="47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 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struc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nombre_estructura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tipo_1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campo_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tipo_2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campo_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…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tipo_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campo_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 variable_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funcion(struct nombre_estructura *VARIABLE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 VARIABLE-&gt;campo_i..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ion(&amp;variable_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04880" y="151920"/>
            <a:ext cx="7772400" cy="12798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Memoria dinámic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457920" y="1819440"/>
            <a:ext cx="83095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¿Qué hacer cuando las variables declaradas 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insuficientes o cuando no se conoce anticipa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cuanto almacenamiento será requerido por el progr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9040" y="3730680"/>
            <a:ext cx="79560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1. Se crea una variable de tipo punt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2. Se le pide al sistema operativo que asigne más memo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3. El sistema operativo retorna la dirección a la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asig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4. Si la memoria asignada, no se usará más, se pue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devolver al sistema oper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4880" y="151920"/>
            <a:ext cx="7772400" cy="12798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Memoria dinámica ejempl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682560" y="1521000"/>
            <a:ext cx="7831080" cy="5171760"/>
          </a:xfrm>
          <a:prstGeom prst="roundRect">
            <a:avLst>
              <a:gd name="adj" fmla="val 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2200" y="1558800"/>
            <a:ext cx="788364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 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struct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nodo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    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int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    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int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    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struct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nodo *prox; // puede apuntar a otro nodo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HG Mincho Light J"/>
              </a:rPr>
              <a:t>struc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nodo 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 = (struct nodo *)malloc(sizeof(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HG Mincho Light J"/>
              </a:rPr>
              <a:t>struc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nodo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 -&gt; x =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 -&gt; y =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ree(p); // libera</a:t>
            </a:r>
            <a:r>
              <a:rPr b="1" lang="en-GB" sz="1600" spc="-1" strike="noStrike">
                <a:solidFill>
                  <a:srgbClr val="0000ff"/>
                </a:solidFill>
                <a:latin typeface="Courier New"/>
                <a:ea typeface="HG Mincho Light J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a memoria apuntada por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2400" cy="12794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Tipos de datos creados por el usuari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90600" y="1914120"/>
            <a:ext cx="827568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1.- </a:t>
            </a:r>
            <a:r>
              <a:rPr b="1" i="1" lang="en-GB" sz="2400" spc="-1" strike="noStrike">
                <a:solidFill>
                  <a:srgbClr val="3333cc"/>
                </a:solidFill>
                <a:latin typeface="Comic Sans MS"/>
              </a:rPr>
              <a:t>Estructura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onsiste en agrupar variables bajo un mismo nombre, permitiendo mantener junta la  información relacionad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2.- </a:t>
            </a:r>
            <a:r>
              <a:rPr b="1" i="1" lang="en-GB" sz="2400" spc="-1" strike="noStrike">
                <a:solidFill>
                  <a:srgbClr val="3333cc"/>
                </a:solidFill>
                <a:latin typeface="Comic Sans MS"/>
              </a:rPr>
              <a:t>Campo bits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ara tener un fácil acceso a los bi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3.- </a:t>
            </a:r>
            <a:r>
              <a:rPr b="1" i="1" lang="en-GB" sz="2400" spc="-1" strike="noStrike">
                <a:solidFill>
                  <a:srgbClr val="3333cc"/>
                </a:solidFill>
                <a:latin typeface="Comic Sans MS"/>
              </a:rPr>
              <a:t>Unión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ra definir la misma parte de memoria como dos o más tipos diferentes de variab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4.- </a:t>
            </a:r>
            <a:r>
              <a:rPr b="1" i="1" lang="en-GB" sz="2400" spc="-1" strike="noStrike">
                <a:solidFill>
                  <a:srgbClr val="3333cc"/>
                </a:solidFill>
                <a:latin typeface="Comic Sans MS"/>
              </a:rPr>
              <a:t>Enumeración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ara crear una lista de símbol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5.- </a:t>
            </a:r>
            <a:r>
              <a:rPr b="1" i="1" lang="en-GB" sz="2400" spc="-1" strike="noStrike">
                <a:solidFill>
                  <a:srgbClr val="3333cc"/>
                </a:solidFill>
                <a:latin typeface="Comic Sans MS"/>
              </a:rPr>
              <a:t>typedef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ra crear un nuevo nombre para un tipo de da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structura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i="1" lang="en-GB" sz="2800" spc="-1" strike="noStrike">
                <a:solidFill>
                  <a:srgbClr val="3333cc"/>
                </a:solidFill>
                <a:latin typeface="Comic Sans MS"/>
              </a:rPr>
              <a:t>declaración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de una</a:t>
            </a:r>
            <a:r>
              <a:rPr b="0" i="1" lang="en-GB" sz="2800" spc="-1" strike="noStrike">
                <a:solidFill>
                  <a:srgbClr val="3333cc"/>
                </a:solidFill>
                <a:latin typeface="Comic Sans MS"/>
              </a:rPr>
              <a:t> estructur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s una plantilla que puede utilizarse para crear variables estructurad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s variables que componen la estructura se llaman </a:t>
            </a:r>
            <a:r>
              <a:rPr b="0" i="1" lang="en-GB" sz="2800" spc="-1" strike="noStrike">
                <a:solidFill>
                  <a:srgbClr val="3333cc"/>
                </a:solidFill>
                <a:latin typeface="Comic Sans MS"/>
              </a:rPr>
              <a:t>campos de la estructura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Declaración de Estructura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189080" y="2521080"/>
            <a:ext cx="6608880" cy="2531520"/>
            <a:chOff x="1189080" y="2521080"/>
            <a:chExt cx="6608880" cy="2531520"/>
          </a:xfrm>
        </p:grpSpPr>
        <p:sp>
          <p:nvSpPr>
            <p:cNvPr id="49" name=""/>
            <p:cNvSpPr/>
            <p:nvPr/>
          </p:nvSpPr>
          <p:spPr>
            <a:xfrm>
              <a:off x="1189080" y="2521080"/>
              <a:ext cx="6608880" cy="2528640"/>
            </a:xfrm>
            <a:prstGeom prst="roundRect">
              <a:avLst>
                <a:gd name="adj" fmla="val 6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89080" y="2521080"/>
              <a:ext cx="6608880" cy="25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truct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nombre_estructura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tipo_1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campo_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tipo_2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campo_2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 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...........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tipo_n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campo_n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572160" y="626760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4880" y="299520"/>
            <a:ext cx="7772400" cy="11912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Declaración simultánea de estructuras y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368360" y="2468520"/>
            <a:ext cx="6235920" cy="2619360"/>
            <a:chOff x="1368360" y="2468520"/>
            <a:chExt cx="6235920" cy="2619360"/>
          </a:xfrm>
        </p:grpSpPr>
        <p:sp>
          <p:nvSpPr>
            <p:cNvPr id="54" name=""/>
            <p:cNvSpPr/>
            <p:nvPr/>
          </p:nvSpPr>
          <p:spPr>
            <a:xfrm>
              <a:off x="1368360" y="2468520"/>
              <a:ext cx="6235920" cy="2619360"/>
            </a:xfrm>
            <a:prstGeom prst="roundRect">
              <a:avLst>
                <a:gd name="adj" fmla="val 6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68360" y="2468520"/>
              <a:ext cx="6235920" cy="25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truct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nombre_estructura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tipo_1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campo_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tipo_2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campo_2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tipo_n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campo_n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 variable_1, variable_2,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...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Declaración de Variable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claración de variables a partir de un estructura ya decalarad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ando se declara una estructura, se está definiendo, esencialmente un tipo complejo de variable compuesto por los elementos de la estructur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84200" y="2900520"/>
            <a:ext cx="6553440" cy="345960"/>
            <a:chOff x="1384200" y="2900520"/>
            <a:chExt cx="6553440" cy="345960"/>
          </a:xfrm>
        </p:grpSpPr>
        <p:sp>
          <p:nvSpPr>
            <p:cNvPr id="60" name=""/>
            <p:cNvSpPr/>
            <p:nvPr/>
          </p:nvSpPr>
          <p:spPr>
            <a:xfrm>
              <a:off x="1384200" y="2900520"/>
              <a:ext cx="6553440" cy="345960"/>
            </a:xfrm>
            <a:prstGeom prst="roundRect">
              <a:avLst>
                <a:gd name="adj" fmla="val 45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84200" y="2900520"/>
              <a:ext cx="65534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truc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nombre_estructura variable_1,variable_2,….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2400" cy="12794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Referencia a lo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campos de una Estructur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ra hacer referencia a un campo particular, se utiliza el operador ‘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’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480" y="3505320"/>
            <a:ext cx="3473640" cy="433440"/>
            <a:chOff x="2895480" y="3505320"/>
            <a:chExt cx="3473640" cy="433440"/>
          </a:xfrm>
        </p:grpSpPr>
        <p:sp>
          <p:nvSpPr>
            <p:cNvPr id="66" name=""/>
            <p:cNvSpPr/>
            <p:nvPr/>
          </p:nvSpPr>
          <p:spPr>
            <a:xfrm>
              <a:off x="2895480" y="3505320"/>
              <a:ext cx="3473640" cy="433440"/>
            </a:xfrm>
            <a:prstGeom prst="roundRect">
              <a:avLst>
                <a:gd name="adj" fmla="val 3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95480" y="3505320"/>
              <a:ext cx="34736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variable.campo_i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jempl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521000" y="2362320"/>
            <a:ext cx="4851360" cy="3006720"/>
            <a:chOff x="1521000" y="2362320"/>
            <a:chExt cx="4851360" cy="3006720"/>
          </a:xfrm>
        </p:grpSpPr>
        <p:sp>
          <p:nvSpPr>
            <p:cNvPr id="71" name=""/>
            <p:cNvSpPr/>
            <p:nvPr/>
          </p:nvSpPr>
          <p:spPr>
            <a:xfrm>
              <a:off x="1521000" y="2362320"/>
              <a:ext cx="4851360" cy="3006720"/>
            </a:xfrm>
            <a:prstGeom prst="roundRect">
              <a:avLst>
                <a:gd name="adj" fmla="val 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21000" y="2362320"/>
              <a:ext cx="4851360" cy="28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 </a:t>
              </a: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truct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datos_alumno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char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nombre[32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char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direccion[32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nt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n_matricula,edad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char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carrera[32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2400" cy="12794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Paso de Estructuras a Funciones por valor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12920" y="1798560"/>
            <a:ext cx="6602400" cy="4838400"/>
            <a:chOff x="1312920" y="1798560"/>
            <a:chExt cx="6602400" cy="4838400"/>
          </a:xfrm>
        </p:grpSpPr>
        <p:sp>
          <p:nvSpPr>
            <p:cNvPr id="76" name=""/>
            <p:cNvSpPr/>
            <p:nvPr/>
          </p:nvSpPr>
          <p:spPr>
            <a:xfrm>
              <a:off x="1312920" y="1798560"/>
              <a:ext cx="6602400" cy="4778280"/>
            </a:xfrm>
            <a:prstGeom prst="roundRect">
              <a:avLst>
                <a:gd name="adj" fmla="val 3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12920" y="1890720"/>
              <a:ext cx="6602400" cy="47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struc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nombre_estructura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tipo_1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campo_1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tipo_2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campo_2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…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tipo_n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campo_n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 variable_1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 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funcion(struct nombre_estructura VARIABLE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.... VARIABLE.campo_i...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main(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funcion(variable_1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..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rigo Salas Fuentes</dc:creator>
  <dc:description/>
  <dc:language>en-US</dc:language>
  <cp:lastModifiedBy/>
  <cp:revision>0</cp:revision>
  <dc:subject/>
  <dc:title>Programación de Computadores IWI-131 Paralelo 06</dc:title>
</cp:coreProperties>
</file>