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0720" y="152388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0720" y="3911040"/>
            <a:ext cx="250200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36520"/>
            <a:ext cx="777096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391104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523880"/>
            <a:ext cx="379188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1040"/>
            <a:ext cx="77709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0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5840" y="285480"/>
            <a:ext cx="8371080" cy="63435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structura de un programa C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12794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pilación y Ejecución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de un programa en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8800" y="2160360"/>
            <a:ext cx="77724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ación en el sistema operativo Linu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cución de un programa en Linu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0"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0200" y="2916360"/>
            <a:ext cx="7543800" cy="515880"/>
            <a:chOff x="700200" y="2916360"/>
            <a:chExt cx="7543800" cy="515880"/>
          </a:xfrm>
        </p:grpSpPr>
        <p:sp>
          <p:nvSpPr>
            <p:cNvPr id="66" name=""/>
            <p:cNvSpPr/>
            <p:nvPr/>
          </p:nvSpPr>
          <p:spPr>
            <a:xfrm>
              <a:off x="700200" y="2916360"/>
              <a:ext cx="7543800" cy="515880"/>
            </a:xfrm>
            <a:prstGeom prst="roundRect">
              <a:avLst>
                <a:gd name="adj" fmla="val 3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0200" y="2916360"/>
              <a:ext cx="75438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4000"/>
                </a:lnSpc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Courier New"/>
                </a:rPr>
                <a:t>gcc</a:t>
              </a: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 nombre_programa.c </a:t>
              </a:r>
              <a:r>
                <a:rPr b="0" lang="en-GB" sz="2000" spc="-1" strike="noStrike">
                  <a:solidFill>
                    <a:srgbClr val="3333cc"/>
                  </a:solidFill>
                  <a:latin typeface="Courier New"/>
                </a:rPr>
                <a:t>-o</a:t>
              </a:r>
              <a:r>
                <a:rPr b="0" lang="en-GB" sz="2000" spc="-1" strike="noStrike">
                  <a:solidFill>
                    <a:srgbClr val="000000"/>
                  </a:solidFill>
                  <a:latin typeface="Courier New"/>
                </a:rPr>
                <a:t> nombre_ejecu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604960" y="4557600"/>
            <a:ext cx="3503880" cy="405000"/>
            <a:chOff x="2604960" y="4557600"/>
            <a:chExt cx="3503880" cy="405000"/>
          </a:xfrm>
        </p:grpSpPr>
        <p:sp>
          <p:nvSpPr>
            <p:cNvPr id="69" name=""/>
            <p:cNvSpPr/>
            <p:nvPr/>
          </p:nvSpPr>
          <p:spPr>
            <a:xfrm>
              <a:off x="2604960" y="4557600"/>
              <a:ext cx="3503880" cy="405000"/>
            </a:xfrm>
            <a:prstGeom prst="roundRect">
              <a:avLst>
                <a:gd name="adj" fmla="val 3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04960" y="4557600"/>
              <a:ext cx="35038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./nombre_ejecu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7080" y="1403280"/>
            <a:ext cx="4952880" cy="5043600"/>
          </a:xfrm>
          <a:custGeom>
            <a:avLst/>
            <a:gdLst>
              <a:gd name="textAreaLeft" fmla="*/ 360 w 4952880"/>
              <a:gd name="textAreaRight" fmla="*/ 4952520 w 4952880"/>
              <a:gd name="textAreaTop" fmla="*/ 360 h 5043600"/>
              <a:gd name="textAreaBottom" fmla="*/ 5043240 h 5043600"/>
            </a:gdLst>
            <a:ahLst/>
            <a:rect l="textAreaLeft" t="textAreaTop" r="textAreaRight" b="textAreaBottom"/>
            <a:pathLst>
              <a:path w="21600" h="21996">
                <a:moveTo>
                  <a:pt x="6" y="0"/>
                </a:moveTo>
                <a:arcTo wR="6" hR="6" stAng="16200000" swAng="-5400000"/>
                <a:lnTo>
                  <a:pt x="0" y="21990"/>
                </a:lnTo>
                <a:arcTo wR="6" hR="6" stAng="10800000" swAng="-5400000"/>
                <a:lnTo>
                  <a:pt x="21594" y="21996"/>
                </a:lnTo>
                <a:arcTo wR="6" hR="6" stAng="5400000" swAng="-5400000"/>
                <a:lnTo>
                  <a:pt x="21600" y="6"/>
                </a:lnTo>
                <a:arcTo wR="6" hR="6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1546200"/>
            <a:ext cx="4953240" cy="47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Declaraciones glob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ariabl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ecuencia de sen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ariabl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ecuencia de sen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ariables lo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ecuencia de sen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04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ctura de un program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2247840" y="1481040"/>
            <a:ext cx="4848120" cy="428760"/>
          </a:xfrm>
          <a:prstGeom prst="roundRect">
            <a:avLst>
              <a:gd name="adj" fmla="val 370"/>
            </a:avLst>
          </a:prstGeom>
          <a:solidFill>
            <a:srgbClr val="00b8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7840" y="1989000"/>
            <a:ext cx="4848120" cy="1352520"/>
          </a:xfrm>
          <a:prstGeom prst="roundRect">
            <a:avLst>
              <a:gd name="adj" fmla="val 116"/>
            </a:avLst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47840" y="3417840"/>
            <a:ext cx="4848120" cy="1430280"/>
          </a:xfrm>
          <a:prstGeom prst="roundRect">
            <a:avLst>
              <a:gd name="adj" fmla="val 111"/>
            </a:avLst>
          </a:prstGeom>
          <a:solidFill>
            <a:srgbClr val="355e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47840" y="4991040"/>
            <a:ext cx="4848120" cy="1378080"/>
          </a:xfrm>
          <a:prstGeom prst="roundRect">
            <a:avLst>
              <a:gd name="adj" fmla="val 111"/>
            </a:avLst>
          </a:prstGeom>
          <a:solidFill>
            <a:srgbClr val="355e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ctura de un program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498760"/>
            <a:ext cx="777240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os los programas en C consisten en una o más funcion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única función que debe estar absolutamente presente es la denomina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in(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, es la función por la que comienza la ejecución del program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ctura de memoria de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22400" y="2039400"/>
            <a:ext cx="3453120" cy="3861360"/>
            <a:chOff x="2822400" y="2039400"/>
            <a:chExt cx="3453120" cy="3861360"/>
          </a:xfrm>
        </p:grpSpPr>
        <p:grpSp>
          <p:nvGrpSpPr>
            <p:cNvPr id="85" name=""/>
            <p:cNvGrpSpPr/>
            <p:nvPr/>
          </p:nvGrpSpPr>
          <p:grpSpPr>
            <a:xfrm>
              <a:off x="2822400" y="2039400"/>
              <a:ext cx="3453120" cy="916920"/>
              <a:chOff x="2822400" y="2039400"/>
              <a:chExt cx="3453120" cy="916920"/>
            </a:xfrm>
          </p:grpSpPr>
          <p:sp>
            <p:nvSpPr>
              <p:cNvPr id="86" name=""/>
              <p:cNvSpPr/>
              <p:nvPr/>
            </p:nvSpPr>
            <p:spPr>
              <a:xfrm>
                <a:off x="2822400" y="2046240"/>
                <a:ext cx="3453120" cy="903240"/>
              </a:xfrm>
              <a:prstGeom prst="roundRect">
                <a:avLst>
                  <a:gd name="adj" fmla="val 17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77440" y="2039400"/>
                <a:ext cx="743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mic Sans MS"/>
                    <a:ea typeface="HG Mincho Light J"/>
                  </a:rPr>
                  <a:t>Pi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822400" y="2948040"/>
              <a:ext cx="3453120" cy="984240"/>
              <a:chOff x="2822400" y="2948040"/>
              <a:chExt cx="3453120" cy="984240"/>
            </a:xfrm>
          </p:grpSpPr>
          <p:sp>
            <p:nvSpPr>
              <p:cNvPr id="89" name=""/>
              <p:cNvSpPr/>
              <p:nvPr/>
            </p:nvSpPr>
            <p:spPr>
              <a:xfrm>
                <a:off x="2822400" y="2948040"/>
                <a:ext cx="3453120" cy="984240"/>
              </a:xfrm>
              <a:prstGeom prst="roundRect">
                <a:avLst>
                  <a:gd name="adj" fmla="val 157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59560" y="2981520"/>
                <a:ext cx="137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mic Sans MS"/>
                    <a:ea typeface="HG Mincho Light J"/>
                  </a:rPr>
                  <a:t>Mont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822400" y="3902760"/>
              <a:ext cx="3453120" cy="551160"/>
              <a:chOff x="2822400" y="3902760"/>
              <a:chExt cx="3453120" cy="551160"/>
            </a:xfrm>
          </p:grpSpPr>
          <p:sp>
            <p:nvSpPr>
              <p:cNvPr id="92" name=""/>
              <p:cNvSpPr/>
              <p:nvPr/>
            </p:nvSpPr>
            <p:spPr>
              <a:xfrm>
                <a:off x="2822400" y="3932280"/>
                <a:ext cx="3453120" cy="492120"/>
              </a:xfrm>
              <a:prstGeom prst="roundRect">
                <a:avLst>
                  <a:gd name="adj" fmla="val 319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59280" y="3902760"/>
                <a:ext cx="29804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mic Sans MS"/>
                    <a:ea typeface="HG Mincho Light J"/>
                  </a:rPr>
                  <a:t>Variables Globa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822400" y="4424400"/>
              <a:ext cx="3453120" cy="1476360"/>
              <a:chOff x="2822400" y="4424400"/>
              <a:chExt cx="3453120" cy="1476360"/>
            </a:xfrm>
          </p:grpSpPr>
          <p:sp>
            <p:nvSpPr>
              <p:cNvPr id="95" name=""/>
              <p:cNvSpPr/>
              <p:nvPr/>
            </p:nvSpPr>
            <p:spPr>
              <a:xfrm>
                <a:off x="2822400" y="4424400"/>
                <a:ext cx="3453120" cy="1476360"/>
              </a:xfrm>
              <a:prstGeom prst="roundRect">
                <a:avLst>
                  <a:gd name="adj" fmla="val 10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12920" y="4658400"/>
                <a:ext cx="2872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mic Sans MS"/>
                    <a:ea typeface="HG Mincho Light J"/>
                  </a:rPr>
                  <a:t>Instrucciones del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Comic Sans MS"/>
                    <a:ea typeface="HG Mincho Light J"/>
                  </a:rPr>
                  <a:t>program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4548240" y="3029040"/>
              <a:ext cx="1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48240" y="2455920"/>
              <a:ext cx="144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imer Program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3200" y="2042640"/>
            <a:ext cx="777240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, el primer progra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11320" y="2755800"/>
            <a:ext cx="7035840" cy="2893680"/>
            <a:chOff x="1111320" y="2755800"/>
            <a:chExt cx="7035840" cy="2893680"/>
          </a:xfrm>
        </p:grpSpPr>
        <p:sp>
          <p:nvSpPr>
            <p:cNvPr id="103" name=""/>
            <p:cNvSpPr/>
            <p:nvPr/>
          </p:nvSpPr>
          <p:spPr>
            <a:xfrm>
              <a:off x="1136520" y="2755800"/>
              <a:ext cx="7010640" cy="2638440"/>
            </a:xfrm>
            <a:prstGeom prst="roundRect">
              <a:avLst>
                <a:gd name="adj" fmla="val 5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1320" y="2871720"/>
              <a:ext cx="7010280" cy="27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#include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&lt;stdio.h&gt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/*Incluye los prototipos de una librería de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entrada y salida estándar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void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main()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“Hola Mundo!!\n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Courier New"/>
                  <a:ea typeface="HG Mincho Light J"/>
                </a:rPr>
                <a:t>printf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(“Bienvenidos a Lenguaje Programación”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862680" y="2584440"/>
            <a:ext cx="1676520" cy="2114640"/>
            <a:chOff x="6862680" y="2584440"/>
            <a:chExt cx="1676520" cy="2114640"/>
          </a:xfrm>
        </p:grpSpPr>
        <p:grpSp>
          <p:nvGrpSpPr>
            <p:cNvPr id="106" name=""/>
            <p:cNvGrpSpPr/>
            <p:nvPr/>
          </p:nvGrpSpPr>
          <p:grpSpPr>
            <a:xfrm>
              <a:off x="6862680" y="2584440"/>
              <a:ext cx="1676520" cy="650880"/>
              <a:chOff x="6862680" y="2584440"/>
              <a:chExt cx="1676520" cy="65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6862680" y="2584440"/>
                <a:ext cx="1676520" cy="650880"/>
              </a:xfrm>
              <a:prstGeom prst="roundRect">
                <a:avLst>
                  <a:gd name="adj" fmla="val 241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62680" y="2584440"/>
                <a:ext cx="1676520" cy="60948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11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Fuent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862680" y="3498840"/>
              <a:ext cx="1676520" cy="345960"/>
              <a:chOff x="6862680" y="3498840"/>
              <a:chExt cx="1676520" cy="345960"/>
            </a:xfrm>
          </p:grpSpPr>
          <p:sp>
            <p:nvSpPr>
              <p:cNvPr id="110" name=""/>
              <p:cNvSpPr/>
              <p:nvPr/>
            </p:nvSpPr>
            <p:spPr>
              <a:xfrm>
                <a:off x="6862680" y="3498840"/>
                <a:ext cx="1676520" cy="345960"/>
              </a:xfrm>
              <a:prstGeom prst="roundRect">
                <a:avLst>
                  <a:gd name="adj" fmla="val 458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62680" y="3498840"/>
                <a:ext cx="1676520" cy="32256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Compilad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862680" y="4108320"/>
              <a:ext cx="1676520" cy="590760"/>
              <a:chOff x="6862680" y="4108320"/>
              <a:chExt cx="1676520" cy="590760"/>
            </a:xfrm>
          </p:grpSpPr>
          <p:sp>
            <p:nvSpPr>
              <p:cNvPr id="113" name=""/>
              <p:cNvSpPr/>
              <p:nvPr/>
            </p:nvSpPr>
            <p:spPr>
              <a:xfrm>
                <a:off x="6862680" y="4108320"/>
                <a:ext cx="1676520" cy="590760"/>
              </a:xfrm>
              <a:prstGeom prst="roundRect">
                <a:avLst>
                  <a:gd name="adj" fmla="val 269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62680" y="4108320"/>
                <a:ext cx="1676520" cy="55116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/>
            <p:nvPr/>
          </p:nvCxnSpPr>
          <p:spPr>
            <a:xfrm>
              <a:off x="7701120" y="323532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7701120" y="384480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6780240" y="2657520"/>
            <a:ext cx="1676520" cy="2114640"/>
            <a:chOff x="6780240" y="2657520"/>
            <a:chExt cx="1676520" cy="2114640"/>
          </a:xfrm>
        </p:grpSpPr>
        <p:grpSp>
          <p:nvGrpSpPr>
            <p:cNvPr id="118" name=""/>
            <p:cNvGrpSpPr/>
            <p:nvPr/>
          </p:nvGrpSpPr>
          <p:grpSpPr>
            <a:xfrm>
              <a:off x="6780240" y="2657520"/>
              <a:ext cx="1676520" cy="650880"/>
              <a:chOff x="6780240" y="2657520"/>
              <a:chExt cx="1676520" cy="65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6780240" y="2657520"/>
                <a:ext cx="1676520" cy="650880"/>
              </a:xfrm>
              <a:prstGeom prst="roundRect">
                <a:avLst>
                  <a:gd name="adj" fmla="val 241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80240" y="2657520"/>
                <a:ext cx="1676520" cy="60948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11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Fuent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80240" y="3571920"/>
              <a:ext cx="1676520" cy="345960"/>
              <a:chOff x="6780240" y="3571920"/>
              <a:chExt cx="1676520" cy="345960"/>
            </a:xfrm>
          </p:grpSpPr>
          <p:sp>
            <p:nvSpPr>
              <p:cNvPr id="122" name=""/>
              <p:cNvSpPr/>
              <p:nvPr/>
            </p:nvSpPr>
            <p:spPr>
              <a:xfrm>
                <a:off x="6780240" y="3571920"/>
                <a:ext cx="1676520" cy="345960"/>
              </a:xfrm>
              <a:prstGeom prst="roundRect">
                <a:avLst>
                  <a:gd name="adj" fmla="val 458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80240" y="3571920"/>
                <a:ext cx="1676520" cy="32256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Compilad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780240" y="4181400"/>
              <a:ext cx="1676520" cy="590760"/>
              <a:chOff x="6780240" y="4181400"/>
              <a:chExt cx="1676520" cy="590760"/>
            </a:xfrm>
          </p:grpSpPr>
          <p:sp>
            <p:nvSpPr>
              <p:cNvPr id="125" name=""/>
              <p:cNvSpPr/>
              <p:nvPr/>
            </p:nvSpPr>
            <p:spPr>
              <a:xfrm>
                <a:off x="6780240" y="4181400"/>
                <a:ext cx="1676520" cy="590760"/>
              </a:xfrm>
              <a:prstGeom prst="roundRect">
                <a:avLst>
                  <a:gd name="adj" fmla="val 269"/>
                </a:avLst>
              </a:prstGeom>
              <a:solidFill>
                <a:srgbClr val="00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80240" y="4181400"/>
                <a:ext cx="1676520" cy="55116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7" name=""/>
            <p:cNvCxnSpPr/>
            <p:nvPr/>
          </p:nvCxnSpPr>
          <p:spPr>
            <a:xfrm>
              <a:off x="7616880" y="330840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7616880" y="391788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12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grama ejecutabl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3240" y="1496880"/>
            <a:ext cx="784872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os para obtener un programa ejecutab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17920" y="5343480"/>
            <a:ext cx="1676520" cy="345960"/>
            <a:chOff x="3517920" y="5343480"/>
            <a:chExt cx="1676520" cy="345960"/>
          </a:xfrm>
        </p:grpSpPr>
        <p:sp>
          <p:nvSpPr>
            <p:cNvPr id="133" name=""/>
            <p:cNvSpPr/>
            <p:nvPr/>
          </p:nvSpPr>
          <p:spPr>
            <a:xfrm>
              <a:off x="3517920" y="5343480"/>
              <a:ext cx="1676520" cy="345960"/>
            </a:xfrm>
            <a:prstGeom prst="roundRect">
              <a:avLst>
                <a:gd name="adj" fmla="val 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17920" y="5343480"/>
              <a:ext cx="16765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En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148360" y="4081320"/>
            <a:ext cx="16761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ibrerí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17920" y="5952960"/>
            <a:ext cx="1676520" cy="590760"/>
            <a:chOff x="3517920" y="5952960"/>
            <a:chExt cx="1676520" cy="590760"/>
          </a:xfrm>
        </p:grpSpPr>
        <p:sp>
          <p:nvSpPr>
            <p:cNvPr id="137" name=""/>
            <p:cNvSpPr/>
            <p:nvPr/>
          </p:nvSpPr>
          <p:spPr>
            <a:xfrm>
              <a:off x="3517920" y="5952960"/>
              <a:ext cx="1676520" cy="590760"/>
            </a:xfrm>
            <a:prstGeom prst="roundRect">
              <a:avLst>
                <a:gd name="adj" fmla="val 26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17920" y="5952960"/>
              <a:ext cx="1676520" cy="55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Programa Ejecu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826920" y="2668680"/>
            <a:ext cx="1676520" cy="650880"/>
            <a:chOff x="826920" y="2668680"/>
            <a:chExt cx="1676520" cy="650880"/>
          </a:xfrm>
        </p:grpSpPr>
        <p:sp>
          <p:nvSpPr>
            <p:cNvPr id="140" name=""/>
            <p:cNvSpPr/>
            <p:nvPr/>
          </p:nvSpPr>
          <p:spPr>
            <a:xfrm>
              <a:off x="826920" y="2668680"/>
              <a:ext cx="1676520" cy="650880"/>
            </a:xfrm>
            <a:prstGeom prst="roundRect">
              <a:avLst>
                <a:gd name="adj" fmla="val 241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2668680"/>
              <a:ext cx="1676520" cy="609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11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Programa Fuente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826920" y="3583080"/>
            <a:ext cx="1676520" cy="345960"/>
            <a:chOff x="826920" y="3583080"/>
            <a:chExt cx="1676520" cy="345960"/>
          </a:xfrm>
        </p:grpSpPr>
        <p:sp>
          <p:nvSpPr>
            <p:cNvPr id="143" name=""/>
            <p:cNvSpPr/>
            <p:nvPr/>
          </p:nvSpPr>
          <p:spPr>
            <a:xfrm>
              <a:off x="826920" y="3583080"/>
              <a:ext cx="1676520" cy="345960"/>
            </a:xfrm>
            <a:prstGeom prst="roundRect">
              <a:avLst>
                <a:gd name="adj" fmla="val 458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3583080"/>
              <a:ext cx="1676520" cy="322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Compi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826920" y="4192560"/>
            <a:ext cx="1676520" cy="590400"/>
            <a:chOff x="826920" y="4192560"/>
            <a:chExt cx="1676520" cy="590400"/>
          </a:xfrm>
        </p:grpSpPr>
        <p:sp>
          <p:nvSpPr>
            <p:cNvPr id="146" name=""/>
            <p:cNvSpPr/>
            <p:nvPr/>
          </p:nvSpPr>
          <p:spPr>
            <a:xfrm>
              <a:off x="826920" y="4192560"/>
              <a:ext cx="1676520" cy="590400"/>
            </a:xfrm>
            <a:prstGeom prst="roundRect">
              <a:avLst>
                <a:gd name="adj" fmla="val 269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920" y="4192560"/>
              <a:ext cx="1676520" cy="551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spcBef>
                  <a:spcPts val="98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Programa Obje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" name=""/>
          <p:cNvCxnSpPr/>
          <p:nvPr/>
        </p:nvCxnSpPr>
        <p:spPr>
          <a:xfrm>
            <a:off x="1665360" y="3319560"/>
            <a:ext cx="2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9" name=""/>
          <p:cNvCxnSpPr/>
          <p:nvPr/>
        </p:nvCxnSpPr>
        <p:spPr>
          <a:xfrm>
            <a:off x="1665360" y="3929040"/>
            <a:ext cx="2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0" name=""/>
          <p:cNvCxnSpPr/>
          <p:nvPr/>
        </p:nvCxnSpPr>
        <p:spPr>
          <a:xfrm>
            <a:off x="4355640" y="568944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1" name=""/>
          <p:cNvGrpSpPr/>
          <p:nvPr/>
        </p:nvGrpSpPr>
        <p:grpSpPr>
          <a:xfrm>
            <a:off x="2994120" y="2665440"/>
            <a:ext cx="1676160" cy="2114640"/>
            <a:chOff x="2994120" y="2665440"/>
            <a:chExt cx="1676160" cy="2114640"/>
          </a:xfrm>
        </p:grpSpPr>
        <p:grpSp>
          <p:nvGrpSpPr>
            <p:cNvPr id="152" name=""/>
            <p:cNvGrpSpPr/>
            <p:nvPr/>
          </p:nvGrpSpPr>
          <p:grpSpPr>
            <a:xfrm>
              <a:off x="2994120" y="2665440"/>
              <a:ext cx="1676160" cy="650880"/>
              <a:chOff x="2994120" y="2665440"/>
              <a:chExt cx="1676160" cy="65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2994120" y="2665440"/>
                <a:ext cx="1676160" cy="650880"/>
              </a:xfrm>
              <a:prstGeom prst="roundRect">
                <a:avLst>
                  <a:gd name="adj" fmla="val 24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94120" y="2665440"/>
                <a:ext cx="1676160" cy="6094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11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 Fuent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994120" y="3579840"/>
              <a:ext cx="1676160" cy="345960"/>
              <a:chOff x="2994120" y="3579840"/>
              <a:chExt cx="1676160" cy="345960"/>
            </a:xfrm>
          </p:grpSpPr>
          <p:sp>
            <p:nvSpPr>
              <p:cNvPr id="156" name=""/>
              <p:cNvSpPr/>
              <p:nvPr/>
            </p:nvSpPr>
            <p:spPr>
              <a:xfrm>
                <a:off x="2994120" y="3579840"/>
                <a:ext cx="1676160" cy="345960"/>
              </a:xfrm>
              <a:prstGeom prst="roundRect">
                <a:avLst>
                  <a:gd name="adj" fmla="val 458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94120" y="3579840"/>
                <a:ext cx="1676160" cy="32256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Compilad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994120" y="4189320"/>
              <a:ext cx="1676160" cy="590760"/>
              <a:chOff x="2994120" y="4189320"/>
              <a:chExt cx="1676160" cy="590760"/>
            </a:xfrm>
          </p:grpSpPr>
          <p:sp>
            <p:nvSpPr>
              <p:cNvPr id="159" name=""/>
              <p:cNvSpPr/>
              <p:nvPr/>
            </p:nvSpPr>
            <p:spPr>
              <a:xfrm>
                <a:off x="2994120" y="4189320"/>
                <a:ext cx="1676160" cy="590760"/>
              </a:xfrm>
              <a:prstGeom prst="roundRect">
                <a:avLst>
                  <a:gd name="adj" fmla="val 269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994120" y="4189320"/>
                <a:ext cx="1676160" cy="55116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1" name=""/>
            <p:cNvCxnSpPr/>
            <p:nvPr/>
          </p:nvCxnSpPr>
          <p:spPr>
            <a:xfrm>
              <a:off x="3832200" y="331632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2" name=""/>
            <p:cNvCxnSpPr/>
            <p:nvPr/>
          </p:nvCxnSpPr>
          <p:spPr>
            <a:xfrm>
              <a:off x="3832200" y="392580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6684840" y="2743200"/>
            <a:ext cx="1676520" cy="2114640"/>
            <a:chOff x="6684840" y="2743200"/>
            <a:chExt cx="1676520" cy="2114640"/>
          </a:xfrm>
        </p:grpSpPr>
        <p:grpSp>
          <p:nvGrpSpPr>
            <p:cNvPr id="164" name=""/>
            <p:cNvGrpSpPr/>
            <p:nvPr/>
          </p:nvGrpSpPr>
          <p:grpSpPr>
            <a:xfrm>
              <a:off x="6684840" y="2743200"/>
              <a:ext cx="1676520" cy="650880"/>
              <a:chOff x="6684840" y="2743200"/>
              <a:chExt cx="1676520" cy="650880"/>
            </a:xfrm>
          </p:grpSpPr>
          <p:sp>
            <p:nvSpPr>
              <p:cNvPr id="165" name=""/>
              <p:cNvSpPr/>
              <p:nvPr/>
            </p:nvSpPr>
            <p:spPr>
              <a:xfrm>
                <a:off x="6684840" y="2743200"/>
                <a:ext cx="1676520" cy="650880"/>
              </a:xfrm>
              <a:prstGeom prst="roundRect">
                <a:avLst>
                  <a:gd name="adj" fmla="val 241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84840" y="2743200"/>
                <a:ext cx="1676520" cy="60948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11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Fuent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684840" y="3657600"/>
              <a:ext cx="1676520" cy="345960"/>
              <a:chOff x="6684840" y="3657600"/>
              <a:chExt cx="1676520" cy="345960"/>
            </a:xfrm>
          </p:grpSpPr>
          <p:sp>
            <p:nvSpPr>
              <p:cNvPr id="168" name=""/>
              <p:cNvSpPr/>
              <p:nvPr/>
            </p:nvSpPr>
            <p:spPr>
              <a:xfrm>
                <a:off x="6684840" y="3657600"/>
                <a:ext cx="1676520" cy="345960"/>
              </a:xfrm>
              <a:prstGeom prst="roundRect">
                <a:avLst>
                  <a:gd name="adj" fmla="val 458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84840" y="3657600"/>
                <a:ext cx="1676520" cy="3225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Compilad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684840" y="4267080"/>
              <a:ext cx="1676520" cy="590760"/>
              <a:chOff x="6684840" y="4267080"/>
              <a:chExt cx="1676520" cy="590760"/>
            </a:xfrm>
          </p:grpSpPr>
          <p:sp>
            <p:nvSpPr>
              <p:cNvPr id="171" name=""/>
              <p:cNvSpPr/>
              <p:nvPr/>
            </p:nvSpPr>
            <p:spPr>
              <a:xfrm>
                <a:off x="6684840" y="4267080"/>
                <a:ext cx="1676520" cy="590760"/>
              </a:xfrm>
              <a:prstGeom prst="roundRect">
                <a:avLst>
                  <a:gd name="adj" fmla="val 269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84840" y="4267080"/>
                <a:ext cx="1676520" cy="551160"/>
              </a:xfrm>
              <a:prstGeom prst="rect">
                <a:avLst/>
              </a:prstGeom>
              <a:solidFill>
                <a:srgbClr val="00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spcBef>
                    <a:spcPts val="98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  <a:ea typeface="HG Mincho Light J"/>
                  </a:rPr>
                  <a:t>Programas Obje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3" name=""/>
            <p:cNvCxnSpPr/>
            <p:nvPr/>
          </p:nvCxnSpPr>
          <p:spPr>
            <a:xfrm>
              <a:off x="7523280" y="339408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4" name=""/>
            <p:cNvCxnSpPr/>
            <p:nvPr/>
          </p:nvCxnSpPr>
          <p:spPr>
            <a:xfrm>
              <a:off x="7523280" y="4003560"/>
              <a:ext cx="2160" cy="26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</p:grpSp>
      <p:cxnSp>
        <p:nvCxnSpPr>
          <p:cNvPr id="175" name=""/>
          <p:cNvCxnSpPr/>
          <p:nvPr/>
        </p:nvCxnSpPr>
        <p:spPr>
          <a:xfrm flipV="1" rot="10800000">
            <a:off x="5193720" y="4857480"/>
            <a:ext cx="2327760" cy="6595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6" name=""/>
          <p:cNvCxnSpPr/>
          <p:nvPr/>
        </p:nvCxnSpPr>
        <p:spPr>
          <a:xfrm>
            <a:off x="3832200" y="4779720"/>
            <a:ext cx="526320" cy="5641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>
            <a:off x="1665360" y="4782960"/>
            <a:ext cx="1853280" cy="7344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5316480" y="4522320"/>
            <a:ext cx="3405240" cy="340200"/>
          </a:xfrm>
          <a:prstGeom prst="roundRect">
            <a:avLst>
              <a:gd name="adj" fmla="val 125"/>
            </a:avLst>
          </a:prstGeom>
          <a:solidFill>
            <a:srgbClr val="ffff66">
              <a:alpha val="3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040" y="2209680"/>
            <a:ext cx="4524480" cy="2781360"/>
          </a:xfrm>
          <a:prstGeom prst="roundRect">
            <a:avLst>
              <a:gd name="adj" fmla="val 56"/>
            </a:avLst>
          </a:prstGeom>
          <a:solidFill>
            <a:srgbClr val="ffcc99">
              <a:alpha val="25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8280" y="2301840"/>
            <a:ext cx="26766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rogramas usua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1080" y="3755880"/>
            <a:ext cx="493560" cy="1800"/>
          </a:xfrm>
          <a:custGeom>
            <a:avLst/>
            <a:gdLst/>
            <a:ahLst/>
            <a:rect l="l" t="t" r="r" b="b"/>
            <a:pathLst>
              <a:path w="1373" h="1">
                <a:moveTo>
                  <a:pt x="0" y="0"/>
                </a:moveTo>
                <a:lnTo>
                  <a:pt x="763" y="0"/>
                </a:lnTo>
                <a:lnTo>
                  <a:pt x="137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nguajes de Programación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0240" y="2901600"/>
            <a:ext cx="7772400" cy="26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- Lenguaje de alto ni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nguaje de bajo nivel (ensamblado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- Lenguaje de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 y otros Lenguaj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346040" y="1835280"/>
            <a:ext cx="1981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lt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j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65560" y="1457280"/>
            <a:ext cx="4114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Modula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Pas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o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Lenguaje macro-ensamb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Lenguaje ensambl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ductore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219816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ucen el lenguaje de alto nivel a lenguaje de máquina. Hay que distinguir ent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120" y="90360"/>
            <a:ext cx="883944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nguaje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8260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 un lenguaje de propósito general. Altamente transportable. Se considera un lenguaje de alto nivel orientado a la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fue creado por Brian Kernighan y Dennis Ritchie en los laboratorios Bell de AT&amp;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operativo Unix está escrito principalmente en C. El sistema Linux es de la familia Uni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160" y="13032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nguaje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6548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ación Estructur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onomía de expres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n cantidad de operadores y tipos de da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dificación en alto y bajo nivel simultáneam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emplaza ventajosamente la programación en ensamblad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tilización natural de las funciones primitivas del sistema operativo (Un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propósito gener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nguaje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see de instrucciones de entrada y sali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osee de instrucciones de manejo de cadena de caracte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ibertad en la escritura en los programas lleva a errores en la programación que, por ser correctos sintácticamente no se detectan a simple vis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ecedencia de operadores convierten las expresiones en pequeños rompecabez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storia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88"/>
              </a:spcBef>
              <a:buClr>
                <a:srgbClr val="3333cc"/>
              </a:buClr>
              <a:buSzPct val="71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Martin Richard crea el lenguaje BCP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3333cc"/>
              </a:buClr>
              <a:buSzPct val="71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Ken Thompson crea el lenguaje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a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nguaje evolucionado e independiente de la máqui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3333cc"/>
              </a:buClr>
              <a:buSzPct val="71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ennis Ritchie y Brian Kernighan en los Laboratorios Bell de AT&amp;T crea el lenguaje C modicando el lenguaje B. Ken Thompson reescribe Unix en 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diseñan tipos y estructuras de da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ye punteros y fun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queza de operado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3333cc"/>
              </a:buClr>
              <a:buSzPct val="71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8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l instituto de estándares americano (ANSI) crea un estándar que definiera el lenguaje 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488"/>
              </a:spcBef>
              <a:buClr>
                <a:srgbClr val="3333cc"/>
              </a:buClr>
              <a:buSzPct val="71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l estándar es adop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piladores C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el sistema operativo Linu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cc/ g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el sistema operativo Wind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bo C/C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rland C/C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 C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itores de texto para Linux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, gedit, kedit, jed, emacs, etc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lopez</cp:lastModifiedBy>
  <dcterms:modified xsi:type="dcterms:W3CDTF">2008-03-18T19:53:19Z</dcterms:modified>
  <cp:revision>4</cp:revision>
  <dc:subject/>
  <dc:title>Estructura de un programa C</dc:title>
</cp:coreProperties>
</file>