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1680"/>
            <a:ext cx="7772400" cy="557676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un concepto lógico que puede ser aplicado a cualquier cosa, desde un archivo de disco a un termin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 asocia un flujo con un archivo específico realizando una operación d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pertur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vez abierto el archivo se puede intercambiar la información entre el archivo y el progra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 el archivo permit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cceso directo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posicionarse en algún lugar dentro de él), al abrir el archivo, el indicador de posición se ubica al comienz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317320"/>
            <a:ext cx="777240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 puede desasociar un archivo de un flujo específico con una operación d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ier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ando se cierra un flujo, se escribe el contenido del buffer asociado en el dispositivo ex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2481480"/>
            <a:ext cx="2438640" cy="1896840"/>
            <a:chOff x="2666880" y="2481480"/>
            <a:chExt cx="2438640" cy="1896840"/>
          </a:xfrm>
        </p:grpSpPr>
        <p:sp>
          <p:nvSpPr>
            <p:cNvPr id="72" name=""/>
            <p:cNvSpPr/>
            <p:nvPr/>
          </p:nvSpPr>
          <p:spPr>
            <a:xfrm>
              <a:off x="2666880" y="2514600"/>
              <a:ext cx="2438640" cy="1828800"/>
            </a:xfrm>
            <a:prstGeom prst="roundRect">
              <a:avLst>
                <a:gd name="adj" fmla="val 8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73280" y="2481480"/>
              <a:ext cx="825480" cy="18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lu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lujos y Archiv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90720" y="3124080"/>
            <a:ext cx="1523880" cy="1067040"/>
            <a:chOff x="990720" y="3124080"/>
            <a:chExt cx="1523880" cy="1067040"/>
          </a:xfrm>
        </p:grpSpPr>
        <p:grpSp>
          <p:nvGrpSpPr>
            <p:cNvPr id="76" name=""/>
            <p:cNvGrpSpPr/>
            <p:nvPr/>
          </p:nvGrpSpPr>
          <p:grpSpPr>
            <a:xfrm>
              <a:off x="990720" y="3124080"/>
              <a:ext cx="1523880" cy="1067040"/>
              <a:chOff x="990720" y="3124080"/>
              <a:chExt cx="1523880" cy="1067040"/>
            </a:xfrm>
          </p:grpSpPr>
          <p:sp>
            <p:nvSpPr>
              <p:cNvPr id="77" name=""/>
              <p:cNvSpPr/>
              <p:nvPr/>
            </p:nvSpPr>
            <p:spPr>
              <a:xfrm>
                <a:off x="990720" y="3124080"/>
                <a:ext cx="1523880" cy="1067040"/>
              </a:xfrm>
              <a:custGeom>
                <a:avLst/>
                <a:gdLst/>
                <a:ahLst/>
                <a:rect l="l" t="t" r="r" b="b"/>
                <a:pathLst>
                  <a:path w="4235" h="2965">
                    <a:moveTo>
                      <a:pt x="2117" y="0"/>
                    </a:moveTo>
                    <a:cubicBezTo>
                      <a:pt x="962" y="0"/>
                      <a:pt x="0" y="168"/>
                      <a:pt x="0" y="370"/>
                    </a:cubicBezTo>
                    <a:lnTo>
                      <a:pt x="0" y="2594"/>
                    </a:lnTo>
                    <a:cubicBezTo>
                      <a:pt x="0" y="2796"/>
                      <a:pt x="962" y="2964"/>
                      <a:pt x="2117" y="2964"/>
                    </a:cubicBezTo>
                    <a:cubicBezTo>
                      <a:pt x="3272" y="2964"/>
                      <a:pt x="4234" y="2796"/>
                      <a:pt x="4234" y="2594"/>
                    </a:cubicBezTo>
                    <a:lnTo>
                      <a:pt x="4234" y="370"/>
                    </a:lnTo>
                    <a:cubicBezTo>
                      <a:pt x="4234" y="168"/>
                      <a:pt x="3271" y="0"/>
                      <a:pt x="2117" y="0"/>
                    </a:cubicBezTo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90720" y="3124080"/>
                <a:ext cx="1523880" cy="266760"/>
              </a:xfrm>
              <a:custGeom>
                <a:avLst/>
                <a:gdLst/>
                <a:ahLst/>
                <a:rect l="l" t="t" r="r" b="b"/>
                <a:pathLst>
                  <a:path w="4235" h="742">
                    <a:moveTo>
                      <a:pt x="2117" y="0"/>
                    </a:moveTo>
                    <a:cubicBezTo>
                      <a:pt x="962" y="0"/>
                      <a:pt x="0" y="168"/>
                      <a:pt x="0" y="370"/>
                    </a:cubicBezTo>
                    <a:cubicBezTo>
                      <a:pt x="0" y="572"/>
                      <a:pt x="962" y="741"/>
                      <a:pt x="2117" y="741"/>
                    </a:cubicBezTo>
                    <a:cubicBezTo>
                      <a:pt x="3272" y="741"/>
                      <a:pt x="4234" y="572"/>
                      <a:pt x="4234" y="370"/>
                    </a:cubicBezTo>
                    <a:cubicBezTo>
                      <a:pt x="4234" y="168"/>
                      <a:pt x="3271" y="0"/>
                      <a:pt x="2117" y="0"/>
                    </a:cubicBezTo>
                  </a:path>
                </a:pathLst>
              </a:cu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162440" y="3507120"/>
              <a:ext cx="11804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HG Mincho Light J"/>
                </a:rPr>
                <a:t>Arch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819520" y="3581280"/>
            <a:ext cx="2133360" cy="533520"/>
            <a:chOff x="2819520" y="3581280"/>
            <a:chExt cx="2133360" cy="533520"/>
          </a:xfrm>
        </p:grpSpPr>
        <p:sp>
          <p:nvSpPr>
            <p:cNvPr id="81" name=""/>
            <p:cNvSpPr/>
            <p:nvPr/>
          </p:nvSpPr>
          <p:spPr>
            <a:xfrm>
              <a:off x="2819520" y="3809880"/>
              <a:ext cx="2133360" cy="304920"/>
            </a:xfrm>
            <a:custGeom>
              <a:avLst/>
              <a:gdLst/>
              <a:ahLst/>
              <a:rect l="l" t="t" r="r" b="b"/>
              <a:pathLst>
                <a:path w="5927" h="848">
                  <a:moveTo>
                    <a:pt x="0" y="211"/>
                  </a:moveTo>
                  <a:lnTo>
                    <a:pt x="4444" y="211"/>
                  </a:lnTo>
                  <a:lnTo>
                    <a:pt x="4444" y="0"/>
                  </a:lnTo>
                  <a:lnTo>
                    <a:pt x="5926" y="423"/>
                  </a:lnTo>
                  <a:lnTo>
                    <a:pt x="4444" y="847"/>
                  </a:lnTo>
                  <a:lnTo>
                    <a:pt x="4444" y="635"/>
                  </a:lnTo>
                  <a:lnTo>
                    <a:pt x="0" y="635"/>
                  </a:lnTo>
                  <a:lnTo>
                    <a:pt x="0" y="211"/>
                  </a:ln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3581280"/>
              <a:ext cx="12956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101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141520" y="1447920"/>
            <a:ext cx="1301040" cy="1295280"/>
            <a:chOff x="5141520" y="1447920"/>
            <a:chExt cx="1301040" cy="1295280"/>
          </a:xfrm>
        </p:grpSpPr>
        <p:sp>
          <p:nvSpPr>
            <p:cNvPr id="84" name=""/>
            <p:cNvSpPr/>
            <p:nvPr/>
          </p:nvSpPr>
          <p:spPr>
            <a:xfrm>
              <a:off x="5181480" y="1447920"/>
              <a:ext cx="1219320" cy="1295280"/>
            </a:xfrm>
            <a:custGeom>
              <a:avLst/>
              <a:gdLst>
                <a:gd name="textAreaLeft" fmla="*/ 360 w 1219320"/>
                <a:gd name="textAreaRight" fmla="*/ 1218960 w 1219320"/>
                <a:gd name="textAreaTop" fmla="*/ 360 h 1295280"/>
                <a:gd name="textAreaBottom" fmla="*/ 1294920 h 1295280"/>
              </a:gdLst>
              <a:ahLst/>
              <a:rect l="textAreaLeft" t="textAreaTop" r="textAreaRight" b="textAreaBottom"/>
              <a:pathLst>
                <a:path w="21600" h="22945">
                  <a:moveTo>
                    <a:pt x="28" y="0"/>
                  </a:moveTo>
                  <a:arcTo wR="28" hR="28" stAng="16200000" swAng="-5400000"/>
                  <a:lnTo>
                    <a:pt x="0" y="22917"/>
                  </a:lnTo>
                  <a:arcTo wR="28" hR="28" stAng="10800000" swAng="-5400000"/>
                  <a:lnTo>
                    <a:pt x="21572" y="22945"/>
                  </a:lnTo>
                  <a:arcTo wR="28" hR="28" stAng="5400000" swAng="-5400000"/>
                  <a:lnTo>
                    <a:pt x="21600" y="28"/>
                  </a:lnTo>
                  <a:arcTo wR="28" hR="28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41520" y="1878480"/>
              <a:ext cx="1301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HG Mincho Light J"/>
                </a:rPr>
                <a:t>Memo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81480" y="3124080"/>
            <a:ext cx="1219320" cy="1676520"/>
            <a:chOff x="5181480" y="3124080"/>
            <a:chExt cx="1219320" cy="1676520"/>
          </a:xfrm>
        </p:grpSpPr>
        <p:sp>
          <p:nvSpPr>
            <p:cNvPr id="87" name=""/>
            <p:cNvSpPr/>
            <p:nvPr/>
          </p:nvSpPr>
          <p:spPr>
            <a:xfrm>
              <a:off x="5181480" y="3124080"/>
              <a:ext cx="1219320" cy="1676520"/>
            </a:xfrm>
            <a:custGeom>
              <a:avLst/>
              <a:gdLst>
                <a:gd name="textAreaLeft" fmla="*/ 360 w 1219320"/>
                <a:gd name="textAreaRight" fmla="*/ 1218960 w 1219320"/>
                <a:gd name="textAreaTop" fmla="*/ 360 h 1676520"/>
                <a:gd name="textAreaBottom" fmla="*/ 1676160 h 1676520"/>
              </a:gdLst>
              <a:ahLst/>
              <a:rect l="textAreaLeft" t="textAreaTop" r="textAreaRight" b="textAreaBottom"/>
              <a:pathLst>
                <a:path w="21600" h="29697">
                  <a:moveTo>
                    <a:pt x="28" y="0"/>
                  </a:moveTo>
                  <a:arcTo wR="28" hR="28" stAng="16200000" swAng="-5400000"/>
                  <a:lnTo>
                    <a:pt x="0" y="29669"/>
                  </a:lnTo>
                  <a:arcTo wR="28" hR="28" stAng="10800000" swAng="-5400000"/>
                  <a:lnTo>
                    <a:pt x="21572" y="29697"/>
                  </a:lnTo>
                  <a:arcTo wR="28" hR="28" stAng="5400000" swAng="-5400000"/>
                  <a:lnTo>
                    <a:pt x="21600" y="28"/>
                  </a:lnTo>
                  <a:arcTo wR="28" hR="28" stAng="0" swAng="-5400000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2080" y="3745440"/>
              <a:ext cx="977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HG Mincho Light J"/>
                </a:rPr>
                <a:t>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819520" y="2971800"/>
            <a:ext cx="2057400" cy="533520"/>
            <a:chOff x="2819520" y="2971800"/>
            <a:chExt cx="2057400" cy="533520"/>
          </a:xfrm>
        </p:grpSpPr>
        <p:sp>
          <p:nvSpPr>
            <p:cNvPr id="90" name=""/>
            <p:cNvSpPr/>
            <p:nvPr/>
          </p:nvSpPr>
          <p:spPr>
            <a:xfrm>
              <a:off x="2819520" y="3200400"/>
              <a:ext cx="2057400" cy="304920"/>
            </a:xfrm>
            <a:custGeom>
              <a:avLst/>
              <a:gdLst/>
              <a:ahLst/>
              <a:rect l="l" t="t" r="r" b="b"/>
              <a:pathLst>
                <a:path w="5716" h="848">
                  <a:moveTo>
                    <a:pt x="5715" y="211"/>
                  </a:moveTo>
                  <a:lnTo>
                    <a:pt x="1428" y="211"/>
                  </a:lnTo>
                  <a:lnTo>
                    <a:pt x="1428" y="0"/>
                  </a:lnTo>
                  <a:lnTo>
                    <a:pt x="0" y="423"/>
                  </a:lnTo>
                  <a:lnTo>
                    <a:pt x="1428" y="847"/>
                  </a:lnTo>
                  <a:lnTo>
                    <a:pt x="1428" y="635"/>
                  </a:lnTo>
                  <a:lnTo>
                    <a:pt x="5715" y="635"/>
                  </a:lnTo>
                  <a:lnTo>
                    <a:pt x="5715" y="211"/>
                  </a:ln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2971800"/>
              <a:ext cx="13716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100101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543800" y="3276720"/>
            <a:ext cx="1447920" cy="685800"/>
            <a:chOff x="7543800" y="3276720"/>
            <a:chExt cx="1447920" cy="685800"/>
          </a:xfrm>
        </p:grpSpPr>
        <p:sp>
          <p:nvSpPr>
            <p:cNvPr id="93" name=""/>
            <p:cNvSpPr/>
            <p:nvPr/>
          </p:nvSpPr>
          <p:spPr>
            <a:xfrm>
              <a:off x="7543800" y="3276720"/>
              <a:ext cx="1447920" cy="6858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2200" y="3403440"/>
              <a:ext cx="7722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645240" y="2295360"/>
            <a:ext cx="822240" cy="1000440"/>
          </a:xfrm>
          <a:custGeom>
            <a:avLst/>
            <a:gdLst/>
            <a:ahLst/>
            <a:rect l="l" t="t" r="r" b="b"/>
            <a:pathLst>
              <a:path w="2286" h="2776">
                <a:moveTo>
                  <a:pt x="331" y="0"/>
                </a:moveTo>
                <a:lnTo>
                  <a:pt x="1921" y="1982"/>
                </a:lnTo>
                <a:lnTo>
                  <a:pt x="2086" y="1850"/>
                </a:lnTo>
                <a:lnTo>
                  <a:pt x="2285" y="2775"/>
                </a:lnTo>
                <a:lnTo>
                  <a:pt x="1425" y="2380"/>
                </a:lnTo>
                <a:lnTo>
                  <a:pt x="1590" y="2248"/>
                </a:lnTo>
                <a:lnTo>
                  <a:pt x="0" y="267"/>
                </a:lnTo>
                <a:lnTo>
                  <a:pt x="331" y="0"/>
                </a:ln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276720"/>
            <a:ext cx="76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0101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8720" y="3276720"/>
            <a:ext cx="761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0101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3276720"/>
            <a:ext cx="1371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0010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276720"/>
            <a:ext cx="1371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10010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352680"/>
            <a:ext cx="1371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10010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352680"/>
            <a:ext cx="761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0101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8760" y="2260440"/>
            <a:ext cx="803520" cy="1014480"/>
          </a:xfrm>
          <a:custGeom>
            <a:avLst/>
            <a:gdLst/>
            <a:ahLst/>
            <a:rect l="l" t="t" r="r" b="b"/>
            <a:pathLst>
              <a:path w="2232" h="2816">
                <a:moveTo>
                  <a:pt x="2231" y="2557"/>
                </a:moveTo>
                <a:lnTo>
                  <a:pt x="683" y="541"/>
                </a:lnTo>
                <a:lnTo>
                  <a:pt x="851" y="413"/>
                </a:lnTo>
                <a:lnTo>
                  <a:pt x="0" y="0"/>
                </a:lnTo>
                <a:lnTo>
                  <a:pt x="179" y="928"/>
                </a:lnTo>
                <a:lnTo>
                  <a:pt x="347" y="799"/>
                </a:lnTo>
                <a:lnTo>
                  <a:pt x="1895" y="2815"/>
                </a:lnTo>
                <a:lnTo>
                  <a:pt x="2231" y="2557"/>
                </a:ln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2666880"/>
            <a:ext cx="304920" cy="533520"/>
          </a:xfrm>
          <a:custGeom>
            <a:avLst/>
            <a:gdLst/>
            <a:ahLst/>
            <a:rect l="l" t="t" r="r" b="b"/>
            <a:pathLst>
              <a:path w="848" h="1483">
                <a:moveTo>
                  <a:pt x="211" y="0"/>
                </a:moveTo>
                <a:lnTo>
                  <a:pt x="211" y="1112"/>
                </a:lnTo>
                <a:lnTo>
                  <a:pt x="0" y="1112"/>
                </a:lnTo>
                <a:lnTo>
                  <a:pt x="423" y="1482"/>
                </a:lnTo>
                <a:lnTo>
                  <a:pt x="847" y="1112"/>
                </a:lnTo>
                <a:lnTo>
                  <a:pt x="635" y="1112"/>
                </a:lnTo>
                <a:lnTo>
                  <a:pt x="635" y="0"/>
                </a:lnTo>
                <a:lnTo>
                  <a:pt x="211" y="0"/>
                </a:ln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2590920"/>
            <a:ext cx="304920" cy="609480"/>
          </a:xfrm>
          <a:custGeom>
            <a:avLst/>
            <a:gdLst/>
            <a:ahLst/>
            <a:rect l="l" t="t" r="r" b="b"/>
            <a:pathLst>
              <a:path w="848" h="1695">
                <a:moveTo>
                  <a:pt x="211" y="1694"/>
                </a:moveTo>
                <a:lnTo>
                  <a:pt x="211" y="423"/>
                </a:lnTo>
                <a:lnTo>
                  <a:pt x="0" y="423"/>
                </a:lnTo>
                <a:lnTo>
                  <a:pt x="423" y="0"/>
                </a:lnTo>
                <a:lnTo>
                  <a:pt x="847" y="423"/>
                </a:lnTo>
                <a:lnTo>
                  <a:pt x="635" y="423"/>
                </a:lnTo>
                <a:lnTo>
                  <a:pt x="635" y="1694"/>
                </a:lnTo>
                <a:lnTo>
                  <a:pt x="211" y="1694"/>
                </a:ln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lujos y Archiv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90720" y="3124080"/>
            <a:ext cx="1523880" cy="1067040"/>
            <a:chOff x="990720" y="3124080"/>
            <a:chExt cx="1523880" cy="1067040"/>
          </a:xfrm>
        </p:grpSpPr>
        <p:grpSp>
          <p:nvGrpSpPr>
            <p:cNvPr id="108" name=""/>
            <p:cNvGrpSpPr/>
            <p:nvPr/>
          </p:nvGrpSpPr>
          <p:grpSpPr>
            <a:xfrm>
              <a:off x="990720" y="3124080"/>
              <a:ext cx="1523880" cy="1067040"/>
              <a:chOff x="990720" y="3124080"/>
              <a:chExt cx="1523880" cy="1067040"/>
            </a:xfrm>
          </p:grpSpPr>
          <p:sp>
            <p:nvSpPr>
              <p:cNvPr id="109" name=""/>
              <p:cNvSpPr/>
              <p:nvPr/>
            </p:nvSpPr>
            <p:spPr>
              <a:xfrm>
                <a:off x="990720" y="3124080"/>
                <a:ext cx="1523880" cy="1067040"/>
              </a:xfrm>
              <a:custGeom>
                <a:avLst/>
                <a:gdLst/>
                <a:ahLst/>
                <a:rect l="l" t="t" r="r" b="b"/>
                <a:pathLst>
                  <a:path w="4235" h="2965">
                    <a:moveTo>
                      <a:pt x="2117" y="0"/>
                    </a:moveTo>
                    <a:cubicBezTo>
                      <a:pt x="962" y="0"/>
                      <a:pt x="0" y="168"/>
                      <a:pt x="0" y="370"/>
                    </a:cubicBezTo>
                    <a:lnTo>
                      <a:pt x="0" y="2594"/>
                    </a:lnTo>
                    <a:cubicBezTo>
                      <a:pt x="0" y="2796"/>
                      <a:pt x="962" y="2964"/>
                      <a:pt x="2117" y="2964"/>
                    </a:cubicBezTo>
                    <a:cubicBezTo>
                      <a:pt x="3272" y="2964"/>
                      <a:pt x="4234" y="2796"/>
                      <a:pt x="4234" y="2594"/>
                    </a:cubicBezTo>
                    <a:lnTo>
                      <a:pt x="4234" y="370"/>
                    </a:lnTo>
                    <a:cubicBezTo>
                      <a:pt x="4234" y="168"/>
                      <a:pt x="3271" y="0"/>
                      <a:pt x="2117" y="0"/>
                    </a:cubicBezTo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90720" y="3124080"/>
                <a:ext cx="1523880" cy="266760"/>
              </a:xfrm>
              <a:custGeom>
                <a:avLst/>
                <a:gdLst/>
                <a:ahLst/>
                <a:rect l="l" t="t" r="r" b="b"/>
                <a:pathLst>
                  <a:path w="4235" h="742">
                    <a:moveTo>
                      <a:pt x="2117" y="0"/>
                    </a:moveTo>
                    <a:cubicBezTo>
                      <a:pt x="962" y="0"/>
                      <a:pt x="0" y="168"/>
                      <a:pt x="0" y="370"/>
                    </a:cubicBezTo>
                    <a:cubicBezTo>
                      <a:pt x="0" y="572"/>
                      <a:pt x="962" y="741"/>
                      <a:pt x="2117" y="741"/>
                    </a:cubicBezTo>
                    <a:cubicBezTo>
                      <a:pt x="3272" y="741"/>
                      <a:pt x="4234" y="572"/>
                      <a:pt x="4234" y="370"/>
                    </a:cubicBezTo>
                    <a:cubicBezTo>
                      <a:pt x="4234" y="168"/>
                      <a:pt x="3271" y="0"/>
                      <a:pt x="2117" y="0"/>
                    </a:cubicBezTo>
                  </a:path>
                </a:pathLst>
              </a:custGeom>
              <a:solidFill>
                <a:srgbClr val="8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162440" y="3507120"/>
              <a:ext cx="11804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HG Mincho Light J"/>
                </a:rPr>
                <a:t>Arch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141520" y="1447920"/>
            <a:ext cx="1301040" cy="1295280"/>
            <a:chOff x="5141520" y="1447920"/>
            <a:chExt cx="1301040" cy="1295280"/>
          </a:xfrm>
        </p:grpSpPr>
        <p:sp>
          <p:nvSpPr>
            <p:cNvPr id="113" name=""/>
            <p:cNvSpPr/>
            <p:nvPr/>
          </p:nvSpPr>
          <p:spPr>
            <a:xfrm>
              <a:off x="5181480" y="1447920"/>
              <a:ext cx="1219320" cy="1295280"/>
            </a:xfrm>
            <a:custGeom>
              <a:avLst/>
              <a:gdLst>
                <a:gd name="textAreaLeft" fmla="*/ 360 w 1219320"/>
                <a:gd name="textAreaRight" fmla="*/ 1218960 w 1219320"/>
                <a:gd name="textAreaTop" fmla="*/ 360 h 1295280"/>
                <a:gd name="textAreaBottom" fmla="*/ 1294920 h 1295280"/>
              </a:gdLst>
              <a:ahLst/>
              <a:rect l="textAreaLeft" t="textAreaTop" r="textAreaRight" b="textAreaBottom"/>
              <a:pathLst>
                <a:path w="21600" h="22945">
                  <a:moveTo>
                    <a:pt x="28" y="0"/>
                  </a:moveTo>
                  <a:arcTo wR="28" hR="28" stAng="16200000" swAng="-5400000"/>
                  <a:lnTo>
                    <a:pt x="0" y="22917"/>
                  </a:lnTo>
                  <a:arcTo wR="28" hR="28" stAng="10800000" swAng="-5400000"/>
                  <a:lnTo>
                    <a:pt x="21572" y="22945"/>
                  </a:lnTo>
                  <a:arcTo wR="28" hR="28" stAng="5400000" swAng="-5400000"/>
                  <a:lnTo>
                    <a:pt x="21600" y="28"/>
                  </a:lnTo>
                  <a:arcTo wR="28" hR="28" stAng="0" swAng="-5400000"/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1520" y="1878480"/>
              <a:ext cx="1301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HG Mincho Light J"/>
                </a:rPr>
                <a:t>Memor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181480" y="3124080"/>
            <a:ext cx="1219320" cy="1676520"/>
            <a:chOff x="5181480" y="3124080"/>
            <a:chExt cx="1219320" cy="1676520"/>
          </a:xfrm>
        </p:grpSpPr>
        <p:sp>
          <p:nvSpPr>
            <p:cNvPr id="116" name=""/>
            <p:cNvSpPr/>
            <p:nvPr/>
          </p:nvSpPr>
          <p:spPr>
            <a:xfrm>
              <a:off x="5181480" y="3124080"/>
              <a:ext cx="1219320" cy="1676520"/>
            </a:xfrm>
            <a:custGeom>
              <a:avLst/>
              <a:gdLst>
                <a:gd name="textAreaLeft" fmla="*/ 360 w 1219320"/>
                <a:gd name="textAreaRight" fmla="*/ 1218960 w 1219320"/>
                <a:gd name="textAreaTop" fmla="*/ 360 h 1676520"/>
                <a:gd name="textAreaBottom" fmla="*/ 1676160 h 1676520"/>
              </a:gdLst>
              <a:ahLst/>
              <a:rect l="textAreaLeft" t="textAreaTop" r="textAreaRight" b="textAreaBottom"/>
              <a:pathLst>
                <a:path w="21600" h="29697">
                  <a:moveTo>
                    <a:pt x="28" y="0"/>
                  </a:moveTo>
                  <a:arcTo wR="28" hR="28" stAng="16200000" swAng="-5400000"/>
                  <a:lnTo>
                    <a:pt x="0" y="29669"/>
                  </a:lnTo>
                  <a:arcTo wR="28" hR="28" stAng="10800000" swAng="-5400000"/>
                  <a:lnTo>
                    <a:pt x="21572" y="29697"/>
                  </a:lnTo>
                  <a:arcTo wR="28" hR="28" stAng="5400000" swAng="-5400000"/>
                  <a:lnTo>
                    <a:pt x="21600" y="28"/>
                  </a:lnTo>
                  <a:arcTo wR="28" hR="28" stAng="0" swAng="-5400000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02080" y="3745440"/>
              <a:ext cx="977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HG Mincho Light J"/>
                </a:rPr>
                <a:t>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543800" y="3276720"/>
            <a:ext cx="1447920" cy="685800"/>
            <a:chOff x="7543800" y="3276720"/>
            <a:chExt cx="1447920" cy="685800"/>
          </a:xfrm>
        </p:grpSpPr>
        <p:sp>
          <p:nvSpPr>
            <p:cNvPr id="119" name=""/>
            <p:cNvSpPr/>
            <p:nvPr/>
          </p:nvSpPr>
          <p:spPr>
            <a:xfrm>
              <a:off x="7543800" y="3276720"/>
              <a:ext cx="1447920" cy="6858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82200" y="3403440"/>
              <a:ext cx="7722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CP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Sistema de Archivos ANSI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20720" y="1773360"/>
          <a:ext cx="5757840" cy="35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773360"/>
                    <a:ext cx="575784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676520" y="5334120"/>
            <a:ext cx="5486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Incluir la bibliotec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di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l puntero a Arch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0240" y="1940040"/>
            <a:ext cx="77724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un puntero a una información que incluye su nombre, su estado y su posición act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 una vairable de tipo puntero a </a:t>
            </a:r>
            <a:r>
              <a:rPr b="1" i="1" lang="en-GB" sz="2400" spc="-1" strike="noStrike">
                <a:solidFill>
                  <a:srgbClr val="0000cc"/>
                </a:solidFill>
                <a:latin typeface="Comic Sans MS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870280" y="3757680"/>
            <a:ext cx="2797200" cy="408960"/>
            <a:chOff x="2870280" y="3757680"/>
            <a:chExt cx="2797200" cy="408960"/>
          </a:xfrm>
        </p:grpSpPr>
        <p:sp>
          <p:nvSpPr>
            <p:cNvPr id="130" name=""/>
            <p:cNvSpPr/>
            <p:nvPr/>
          </p:nvSpPr>
          <p:spPr>
            <a:xfrm>
              <a:off x="2870280" y="3757680"/>
              <a:ext cx="2797200" cy="34596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70280" y="3757680"/>
              <a:ext cx="27972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archivo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open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re un flujo, lo asocia a un archivo y devuelve el puntero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L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l fluj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modo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punta a un string que contiene el estado de apertura desea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nombre: str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que representa un nombre válido de arch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0320" y="3178080"/>
            <a:ext cx="8767440" cy="408960"/>
            <a:chOff x="130320" y="3178080"/>
            <a:chExt cx="8767440" cy="408960"/>
          </a:xfrm>
        </p:grpSpPr>
        <p:sp>
          <p:nvSpPr>
            <p:cNvPr id="136" name=""/>
            <p:cNvSpPr/>
            <p:nvPr/>
          </p:nvSpPr>
          <p:spPr>
            <a:xfrm>
              <a:off x="130320" y="3178080"/>
              <a:ext cx="8767440" cy="34632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0320" y="3178080"/>
              <a:ext cx="87674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fopen(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const char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nombre, 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const char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modo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8400" y="175680"/>
            <a:ext cx="7772400" cy="731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Mod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33600" y="974880"/>
          <a:ext cx="6114960" cy="554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974880"/>
                    <a:ext cx="6114960" cy="55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rror de apertur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73000" y="2533680"/>
            <a:ext cx="7391520" cy="2389320"/>
            <a:chOff x="873000" y="2533680"/>
            <a:chExt cx="7391520" cy="2389320"/>
          </a:xfrm>
        </p:grpSpPr>
        <p:sp>
          <p:nvSpPr>
            <p:cNvPr id="145" name=""/>
            <p:cNvSpPr/>
            <p:nvPr/>
          </p:nvSpPr>
          <p:spPr>
            <a:xfrm>
              <a:off x="873000" y="2533680"/>
              <a:ext cx="7391520" cy="2389320"/>
            </a:xfrm>
            <a:prstGeom prst="roundRect">
              <a:avLst>
                <a:gd name="adj" fmla="val 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3000" y="2533680"/>
              <a:ext cx="7391520" cy="22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Archivo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if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((Archivo=fopen(nombre, modo))==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NULL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{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“Error al abrir archivo”)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exit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1)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close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ierra un flujo abierto por fopen(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uarda la información que todavía se encuentre en el buffer del disco al archivo y cierra el archiv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vuelve 0 si no hay error, </a:t>
            </a:r>
            <a:r>
              <a:rPr b="0" i="1" lang="en-GB" sz="2800" spc="-1" strike="noStrike">
                <a:solidFill>
                  <a:srgbClr val="0000cc"/>
                </a:solidFill>
                <a:latin typeface="Comic Sans MS"/>
              </a:rPr>
              <a:t>EO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si h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066760" y="4106880"/>
            <a:ext cx="5213520" cy="423720"/>
            <a:chOff x="2066760" y="4106880"/>
            <a:chExt cx="5213520" cy="423720"/>
          </a:xfrm>
        </p:grpSpPr>
        <p:sp>
          <p:nvSpPr>
            <p:cNvPr id="151" name=""/>
            <p:cNvSpPr/>
            <p:nvPr/>
          </p:nvSpPr>
          <p:spPr>
            <a:xfrm>
              <a:off x="2066760" y="4106880"/>
              <a:ext cx="5213520" cy="423720"/>
            </a:xfrm>
            <a:prstGeom prst="roundRect">
              <a:avLst>
                <a:gd name="adj" fmla="val 3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66760" y="4106880"/>
              <a:ext cx="52135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fclose(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 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Archivo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202600" cy="955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, defini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303480" y="2319480"/>
            <a:ext cx="868464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Es una colección de información relacio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Definida por su cre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omúnmente pueden ser programas fu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rogramas objeto, programas ejecutabl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datos y directorios o carpe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putc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cribe caracteres en el flujo abierto para escritu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es el carácter que se va a escrib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vuelve el carácter escrito  si no hay ERROR, </a:t>
            </a:r>
            <a:r>
              <a:rPr b="0" i="1" lang="en-GB" sz="2800" spc="-1" strike="noStrike">
                <a:solidFill>
                  <a:srgbClr val="0000cc"/>
                </a:solidFill>
                <a:latin typeface="Comic Sans MS"/>
              </a:rPr>
              <a:t>EO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si h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33600" y="3124080"/>
            <a:ext cx="5887800" cy="408960"/>
            <a:chOff x="1533600" y="3124080"/>
            <a:chExt cx="5887800" cy="408960"/>
          </a:xfrm>
        </p:grpSpPr>
        <p:sp>
          <p:nvSpPr>
            <p:cNvPr id="157" name=""/>
            <p:cNvSpPr/>
            <p:nvPr/>
          </p:nvSpPr>
          <p:spPr>
            <a:xfrm>
              <a:off x="1533600" y="3124080"/>
              <a:ext cx="5887800" cy="34632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3600" y="3124080"/>
              <a:ext cx="58878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fputc(int c,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 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Archivo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getc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03160" y="1704960"/>
            <a:ext cx="777240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e caracteres en un flujo abierto para lectu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es el carácter a escrib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vuelve el carácter escri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cc"/>
                </a:solidFill>
                <a:latin typeface="Comic Sans MS"/>
              </a:rPr>
              <a:t>EO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n caso de se acabe el archiv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079720" y="3294000"/>
            <a:ext cx="5205240" cy="408960"/>
            <a:chOff x="2079720" y="3294000"/>
            <a:chExt cx="5205240" cy="408960"/>
          </a:xfrm>
        </p:grpSpPr>
        <p:sp>
          <p:nvSpPr>
            <p:cNvPr id="163" name=""/>
            <p:cNvSpPr/>
            <p:nvPr/>
          </p:nvSpPr>
          <p:spPr>
            <a:xfrm>
              <a:off x="2079720" y="3294000"/>
              <a:ext cx="5205240" cy="34596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79720" y="3294000"/>
              <a:ext cx="52052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fgetc(</a:t>
              </a:r>
              <a:r>
                <a:rPr b="1" lang="en-GB" sz="22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 </a:t>
              </a:r>
              <a:r>
                <a:rPr b="1" lang="en-GB" sz="2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Archivo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ear un programa que guarde en un archivo la informacion introducida a través del teclado. Se termina la introducción por el teclado con el carácter </a:t>
            </a:r>
            <a:r>
              <a:rPr b="0" lang="en-GB" sz="2800" spc="-1" strike="noStrike">
                <a:solidFill>
                  <a:srgbClr val="0000cc"/>
                </a:solidFill>
                <a:latin typeface="Comic Sans MS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ear un programa que lea lo introduci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ear una programa que copie el archivo creado en uno nuev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6800" y="1706040"/>
            <a:ext cx="7396200" cy="472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Courier New"/>
              </a:rPr>
              <a:t>#inclu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LE *f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(f=fopen("datos.dat","w"))==NULL)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intf("No se puede abrir el archivo"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</a:rPr>
              <a:t>d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=getchar(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tc(c,f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c!='#'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close(f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printf() y fscan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1809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milares a printf() y scanf(), pero con un argumento más que corresponde a la variable de fluj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19320" y="3951360"/>
            <a:ext cx="7010280" cy="712800"/>
            <a:chOff x="1219320" y="3951360"/>
            <a:chExt cx="7010280" cy="712800"/>
          </a:xfrm>
        </p:grpSpPr>
        <p:sp>
          <p:nvSpPr>
            <p:cNvPr id="175" name=""/>
            <p:cNvSpPr/>
            <p:nvPr/>
          </p:nvSpPr>
          <p:spPr>
            <a:xfrm>
              <a:off x="1219320" y="3951360"/>
              <a:ext cx="7010280" cy="712800"/>
            </a:xfrm>
            <a:prstGeom prst="roundRect">
              <a:avLst>
                <a:gd name="adj" fmla="val 2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3951360"/>
              <a:ext cx="70102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fprintf(</a:t>
              </a:r>
              <a:r>
                <a:rPr b="1" lang="en-GB" sz="16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Archivo, const char *cadena,...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fscanf(</a:t>
              </a:r>
              <a:r>
                <a:rPr b="1" lang="en-GB" sz="16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Archivo, const char *cadena,...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print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43000" y="2122560"/>
            <a:ext cx="7543800" cy="376200"/>
            <a:chOff x="1143000" y="2122560"/>
            <a:chExt cx="7543800" cy="376200"/>
          </a:xfrm>
        </p:grpSpPr>
        <p:sp>
          <p:nvSpPr>
            <p:cNvPr id="181" name=""/>
            <p:cNvSpPr/>
            <p:nvPr/>
          </p:nvSpPr>
          <p:spPr>
            <a:xfrm>
              <a:off x="1143000" y="2122560"/>
              <a:ext cx="754380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2122560"/>
              <a:ext cx="75438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 fprintf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8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Archivo,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onst char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cadena,…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2209680" y="2698920"/>
          <a:ext cx="4627800" cy="32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698920"/>
                    <a:ext cx="462780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390680" y="1676520"/>
            <a:ext cx="6551640" cy="4329000"/>
          </a:xfrm>
          <a:prstGeom prst="roundRect">
            <a:avLst>
              <a:gd name="adj" fmla="val 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32760" y="1676520"/>
            <a:ext cx="5667120" cy="41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#inclu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IL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*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i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i = 1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cha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c = 'A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loa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f = 55.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/* Abre archivo para actualizac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 =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ope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”archivo.txt", "w+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/* Se escribe en el archiv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printf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f, "%d %c %f", i, c, 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/* Se cierra el archiv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clos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retur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0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print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09680" y="1832040"/>
          <a:ext cx="4810320" cy="40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32040"/>
                    <a:ext cx="481032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scan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23880" y="2122560"/>
            <a:ext cx="6782040" cy="376200"/>
            <a:chOff x="1523880" y="2122560"/>
            <a:chExt cx="6782040" cy="376200"/>
          </a:xfrm>
        </p:grpSpPr>
        <p:sp>
          <p:nvSpPr>
            <p:cNvPr id="197" name=""/>
            <p:cNvSpPr/>
            <p:nvPr/>
          </p:nvSpPr>
          <p:spPr>
            <a:xfrm>
              <a:off x="1523880" y="2122560"/>
              <a:ext cx="678204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2122560"/>
              <a:ext cx="6782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 fscanf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800" spc="-1" strike="noStrike">
                  <a:solidFill>
                    <a:srgbClr val="0000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Archivo,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onst char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cadena,….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2209680" y="2698920"/>
          <a:ext cx="481032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698920"/>
                    <a:ext cx="48103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33720" y="1600200"/>
            <a:ext cx="5298840" cy="4143240"/>
            <a:chOff x="2133720" y="1600200"/>
            <a:chExt cx="5298840" cy="4143240"/>
          </a:xfrm>
        </p:grpSpPr>
        <p:sp>
          <p:nvSpPr>
            <p:cNvPr id="204" name=""/>
            <p:cNvSpPr/>
            <p:nvPr/>
          </p:nvSpPr>
          <p:spPr>
            <a:xfrm>
              <a:off x="2133720" y="1600200"/>
              <a:ext cx="5298840" cy="4143240"/>
            </a:xfrm>
            <a:prstGeom prst="roundRect">
              <a:avLst>
                <a:gd name="adj" fmla="val 3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92480" y="1600200"/>
              <a:ext cx="4981320" cy="41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lib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io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ain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FILE *f;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i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\n Ingrese un entero: 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f=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ope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“arch.dat“,”r+”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Se lee un entero del archivo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scan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, "%d", &amp;i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El entero leido fue: %i\n", i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e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, "Error al leer entero.\n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exi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1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202600" cy="955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, atribut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96800" y="1405080"/>
            <a:ext cx="493992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n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l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fec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identific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rewind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iciona el puntero de flujo al comienzo del arch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81080" y="2133720"/>
            <a:ext cx="4724640" cy="376200"/>
            <a:chOff x="1981080" y="2133720"/>
            <a:chExt cx="4724640" cy="376200"/>
          </a:xfrm>
        </p:grpSpPr>
        <p:sp>
          <p:nvSpPr>
            <p:cNvPr id="210" name=""/>
            <p:cNvSpPr/>
            <p:nvPr/>
          </p:nvSpPr>
          <p:spPr>
            <a:xfrm>
              <a:off x="1981080" y="2133720"/>
              <a:ext cx="472464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81080" y="2133720"/>
              <a:ext cx="47246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 rewind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ILE *Archivo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tell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torna la posición actual del puntero del fluj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tá medido en Bytes desde el comienzo del arch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 retorna -1L si hubo erro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2057400"/>
            <a:ext cx="5562360" cy="376200"/>
            <a:chOff x="2133720" y="2057400"/>
            <a:chExt cx="5562360" cy="376200"/>
          </a:xfrm>
        </p:grpSpPr>
        <p:sp>
          <p:nvSpPr>
            <p:cNvPr id="216" name=""/>
            <p:cNvSpPr/>
            <p:nvPr/>
          </p:nvSpPr>
          <p:spPr>
            <a:xfrm>
              <a:off x="2133720" y="2057400"/>
              <a:ext cx="556236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2057400"/>
              <a:ext cx="55623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long ftell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ILE *Archivo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44600" y="2146320"/>
            <a:ext cx="7958160" cy="3260880"/>
          </a:xfrm>
          <a:prstGeom prst="roundRect">
            <a:avLst>
              <a:gd name="adj" fmla="val 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7160" y="2146320"/>
            <a:ext cx="731304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#inclu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IL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*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 =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ope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"archivo.txt", "a+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printf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f,”Prueba de escritura en archiv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printf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”El archivo tiene %ld bytes\n",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te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f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fclos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retur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seek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iciona el puntero  a </a:t>
            </a:r>
            <a:r>
              <a:rPr b="1" i="1" lang="en-GB" sz="2400" spc="-1" strike="noStrike">
                <a:solidFill>
                  <a:srgbClr val="0000ff"/>
                </a:solidFill>
                <a:latin typeface="Courier New"/>
              </a:rPr>
              <a:t>desp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tes a partir de </a:t>
            </a:r>
            <a:r>
              <a:rPr b="1" i="1" lang="en-GB" sz="2400" spc="-1" strike="noStrike">
                <a:solidFill>
                  <a:srgbClr val="0000ff"/>
                </a:solidFill>
                <a:latin typeface="Courier New"/>
              </a:rPr>
              <a:t>referencia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esd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ede s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1000"/>
              </a:lnSpc>
              <a:spcBef>
                <a:spcPts val="488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ourier New"/>
              </a:rPr>
              <a:t>SEEK_SET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ienzo del arch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1000"/>
              </a:lnSpc>
              <a:spcBef>
                <a:spcPts val="488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ourier New"/>
              </a:rPr>
              <a:t>SEEK_CUR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Posició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ctu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1000"/>
              </a:lnSpc>
              <a:spcBef>
                <a:spcPts val="488"/>
              </a:spcBef>
              <a:buClr>
                <a:srgbClr val="3333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Courier New"/>
              </a:rPr>
              <a:t>SEEK_END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 del arch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torna 0 si el resposicionamiento fue exito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01640" y="2057400"/>
            <a:ext cx="7851960" cy="376200"/>
            <a:chOff x="701640" y="2057400"/>
            <a:chExt cx="7851960" cy="376200"/>
          </a:xfrm>
        </p:grpSpPr>
        <p:sp>
          <p:nvSpPr>
            <p:cNvPr id="226" name=""/>
            <p:cNvSpPr/>
            <p:nvPr/>
          </p:nvSpPr>
          <p:spPr>
            <a:xfrm>
              <a:off x="701640" y="2057400"/>
              <a:ext cx="785196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40" y="2057400"/>
              <a:ext cx="7851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 fseek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ILE *Archivo, long desp, int referencia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5800" y="1600200"/>
            <a:ext cx="7851600" cy="4781520"/>
            <a:chOff x="685800" y="1600200"/>
            <a:chExt cx="7851600" cy="4781520"/>
          </a:xfrm>
        </p:grpSpPr>
        <p:sp>
          <p:nvSpPr>
            <p:cNvPr id="231" name=""/>
            <p:cNvSpPr/>
            <p:nvPr/>
          </p:nvSpPr>
          <p:spPr>
            <a:xfrm>
              <a:off x="685800" y="1600200"/>
              <a:ext cx="7851600" cy="478152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80680" y="1600200"/>
              <a:ext cx="6261480" cy="47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io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long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tamano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ain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f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f =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ope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archivo.txt", "w+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, ”Esta es una prueba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archivo.txt es de: %ld bytes\n", filesize(f)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clos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long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tamano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long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actual, longitu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actual =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tell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seek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,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0L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,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EEK_END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longitud =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tell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seek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,actual,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EEK_SE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longitud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imina un archivo dado por filena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133720" y="2057400"/>
            <a:ext cx="4724280" cy="376200"/>
            <a:chOff x="2133720" y="2057400"/>
            <a:chExt cx="4724280" cy="376200"/>
          </a:xfrm>
        </p:grpSpPr>
        <p:sp>
          <p:nvSpPr>
            <p:cNvPr id="236" name=""/>
            <p:cNvSpPr/>
            <p:nvPr/>
          </p:nvSpPr>
          <p:spPr>
            <a:xfrm>
              <a:off x="2133720" y="2057400"/>
              <a:ext cx="472428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720" y="2057400"/>
              <a:ext cx="4724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 remove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onst char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filename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remov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057400" y="1905120"/>
            <a:ext cx="5469120" cy="3504960"/>
            <a:chOff x="2057400" y="1905120"/>
            <a:chExt cx="5469120" cy="3504960"/>
          </a:xfrm>
        </p:grpSpPr>
        <p:sp>
          <p:nvSpPr>
            <p:cNvPr id="242" name=""/>
            <p:cNvSpPr/>
            <p:nvPr/>
          </p:nvSpPr>
          <p:spPr>
            <a:xfrm>
              <a:off x="2057400" y="1905120"/>
              <a:ext cx="5468760" cy="350496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1905120"/>
              <a:ext cx="546912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io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ain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har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ombre[80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Archivo a eliminar: 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can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"%s",nombr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Borrar el archivo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mov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nombre) == 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"Archivo Borrado %s.\n",nombre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els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"Problemas al borrar el archivo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return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eo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torna 0 si el fin de archivo no se ha alcanza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torna 1 si es fin de arch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133720" y="2133720"/>
            <a:ext cx="4724280" cy="376200"/>
            <a:chOff x="2133720" y="2133720"/>
            <a:chExt cx="4724280" cy="376200"/>
          </a:xfrm>
        </p:grpSpPr>
        <p:sp>
          <p:nvSpPr>
            <p:cNvPr id="248" name=""/>
            <p:cNvSpPr/>
            <p:nvPr/>
          </p:nvSpPr>
          <p:spPr>
            <a:xfrm>
              <a:off x="2133720" y="2133720"/>
              <a:ext cx="472428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2133720"/>
              <a:ext cx="4724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 feof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archivo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68000" y="1585800"/>
            <a:ext cx="6901560" cy="4356360"/>
            <a:chOff x="1368000" y="1585800"/>
            <a:chExt cx="6901560" cy="4356360"/>
          </a:xfrm>
        </p:grpSpPr>
        <p:sp>
          <p:nvSpPr>
            <p:cNvPr id="253" name=""/>
            <p:cNvSpPr/>
            <p:nvPr/>
          </p:nvSpPr>
          <p:spPr>
            <a:xfrm>
              <a:off x="1371600" y="1585800"/>
              <a:ext cx="6894360" cy="435636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68000" y="1585800"/>
              <a:ext cx="690156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io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ain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f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Abrir el archivo para lectura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fp =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ope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Arch.txt", "r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Lee un caracter del archivo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getc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p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Revisa  EOF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eo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p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Se ha llegado al fin de archivo(end-of-file)\n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Cerrar el archivo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clos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fp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 de Estructur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ando se trabaja con estructuras, por lo general es necesario transferir la información a un archivo, y así tener la información almacenada en algún medio físico para su posterior us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a ello es necesario conocer algunas funciones para facilitar el traspaso de los datos de una estructura a un archiv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202600" cy="955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rchivos v/s Memori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1360" y="1390680"/>
          <a:ext cx="8194680" cy="53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390680"/>
                    <a:ext cx="81946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read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e los datos de un fluj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e n itemes de datos, cada uno con una longitud de size bytes, de un flujo de entrada dado por el bloque apuntado por pt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número total de bytes leídos es n*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ores de Retorn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 la tarea se completa exitosamente, se retorna el número de ítemes que se leyer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torna 0 al final del archivo o err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2666880"/>
            <a:ext cx="8305560" cy="346320"/>
            <a:chOff x="533520" y="2666880"/>
            <a:chExt cx="8305560" cy="346320"/>
          </a:xfrm>
        </p:grpSpPr>
        <p:sp>
          <p:nvSpPr>
            <p:cNvPr id="262" name=""/>
            <p:cNvSpPr/>
            <p:nvPr/>
          </p:nvSpPr>
          <p:spPr>
            <a:xfrm>
              <a:off x="533520" y="2666880"/>
              <a:ext cx="8305560" cy="34632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2666880"/>
              <a:ext cx="83055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ize_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rea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ptr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ize_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size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ize_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stream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69800" y="1585800"/>
            <a:ext cx="6047640" cy="4356360"/>
            <a:chOff x="1369800" y="1585800"/>
            <a:chExt cx="6047640" cy="4356360"/>
          </a:xfrm>
        </p:grpSpPr>
        <p:sp>
          <p:nvSpPr>
            <p:cNvPr id="267" name=""/>
            <p:cNvSpPr/>
            <p:nvPr/>
          </p:nvSpPr>
          <p:spPr>
            <a:xfrm>
              <a:off x="1371600" y="1585800"/>
              <a:ext cx="6043680" cy="435636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69800" y="1585800"/>
              <a:ext cx="604764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ring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io.h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ain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stream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har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sg[] = ”Esta es una prueba"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har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buf[20]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((stream =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ope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”PRUEBA.TXT", "w+"))==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NULL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)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derr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, ”No se puede abrir archivo.\n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Se escribe algunos datos al archivo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writ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msg, strlen(msg)+1, 1, strea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Busca el comienzo del archivo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seek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stream,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EEK_SET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, 0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Lee el dato y lo muestra 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read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buf,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rle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msg)+1, 1, strea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"%s\n", buf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close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stream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write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cribe un fluj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otip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diciona n ítemes de datos , cada uno con un tamaño de size bytes, al archivo de sali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dato escrito comienza en pt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número total de bytes escrito es n*siz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ores Retorn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 la tarea se completa exitosamente se retorna el número de ítemes escri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 caso contrario retorna 0 o err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2666880"/>
            <a:ext cx="8610480" cy="346320"/>
            <a:chOff x="228600" y="2666880"/>
            <a:chExt cx="8610480" cy="346320"/>
          </a:xfrm>
        </p:grpSpPr>
        <p:sp>
          <p:nvSpPr>
            <p:cNvPr id="273" name=""/>
            <p:cNvSpPr/>
            <p:nvPr/>
          </p:nvSpPr>
          <p:spPr>
            <a:xfrm>
              <a:off x="228600" y="2666880"/>
              <a:ext cx="8610480" cy="34632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" y="2666880"/>
              <a:ext cx="86104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ize_t fwrit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ons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*ptr,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ize_t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size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ize_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FIL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* stream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4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mi_estructura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ch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*strea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mi_estructura s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(stream =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ope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”Archivo.txt", "wb"))==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NULL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, ”No se puede abrir el archivo.\n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.i = 0; s.ch = 'A'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writ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&amp;s,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s), 1, stream); /* escribe la estructura s en el archivo *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clo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stream); /* cierra el archivo *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Operaciones sobre archiv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imitiv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crib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posicionar (puntero dentro del archiv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orr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unc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r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err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lujos y Archiv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istema de E/S de C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ministra al programador de C una interfaz independiente del dispositivo al que se está accedien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orciona un nivel de abstracción entre el programador y el dispositivo que se está usan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la abstracción se denomina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fluj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 al dispositivo real se le denomina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arch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luj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400" y="217332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rmite trabajar con una amplia variedad de dispositiv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sistema de archivos con buffer transforma cada dispositivo en un dispositivo lógico llamado fluj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isten dos tipos de flujos: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de texto y binari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lujos de Text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2095560"/>
            <a:ext cx="77724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 una secuencia de caracte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 un flujo de texto, pueden ocurrir ciertas conversiones de caracteres si el entorno del sistema lo requi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número de bytes escritos y leídos puede no ser igu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Flujos Binari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3200" y="196524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 una secuencia de bytes con una correspondencia de uno a uno con los dispositivos extern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se realizan conversiones de caracte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número de bytes escritos y leídos es el mism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