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35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2.jpeg" ContentType="image/jpeg"/>
  <Override PartName="/ppt/media/image13.png" ContentType="image/png"/>
  <Override PartName="/ppt/media/image32.jpeg" ContentType="image/jpeg"/>
  <Override PartName="/ppt/media/image5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39.png" ContentType="image/png"/>
  <Override PartName="/ppt/media/image4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44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77709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4475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44756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387468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3874680"/>
            <a:ext cx="2502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09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428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387468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447560"/>
            <a:ext cx="379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777096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096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89"/>
              </a:spcBef>
              <a:buClr>
                <a:srgbClr val="ff99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89"/>
              </a:spcBef>
              <a:buClr>
                <a:srgbClr val="ff99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5832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Historia</a:t>
            </a:r>
            <a:br>
              <a:rPr sz="4800"/>
            </a:br>
            <a:r>
              <a:rPr b="1" lang="en-GB" sz="48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 de la</a:t>
            </a:r>
            <a:br>
              <a:rPr sz="4800"/>
            </a:br>
            <a:r>
              <a:rPr b="1" lang="en-GB" sz="48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 Computación</a:t>
            </a:r>
            <a:endParaRPr b="0" lang="en-US" sz="48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5520" y="129960"/>
            <a:ext cx="8826480" cy="114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Konrad Zuse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838160"/>
            <a:ext cx="5748120" cy="42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genier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uyó el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rimer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mputador digital programabl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n los  años 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ó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tardos electromecánico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para realizar conmu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imera máquina en la que se utilizó el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stema numérico bi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alta de recu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056280" y="2216160"/>
            <a:ext cx="284652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67760"/>
            <a:ext cx="8734320" cy="979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Howard Aiken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5520" y="1603080"/>
            <a:ext cx="4484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ísico Americano y matemático apli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uyó 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Harvard Mark I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n colaboración con  IBM en 19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ó retardos electromecá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úmeros de 23 digitos, logaritmos y funciones trigonomét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10480" y="1593720"/>
            <a:ext cx="2170080" cy="2630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419720" y="4444920"/>
            <a:ext cx="460044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4705200" y="2963880"/>
            <a:ext cx="237204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5120" y="155520"/>
            <a:ext cx="8761680" cy="1092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lan Turing (1912-1954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720" y="1897200"/>
            <a:ext cx="49561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temático inglés y primer científico de compu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ó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delos matemáticos de computador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(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áquina de Turin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 19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mostró  teoremas fundamentales acerca de las limites de la computabilidad (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eoría de la Computació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133960" y="1587600"/>
            <a:ext cx="378288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920" y="129960"/>
            <a:ext cx="8851680" cy="1091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lan Turing (1912-1954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2033280"/>
            <a:ext cx="5537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yudó a decifrar (criptoanálisis) los códigos secretos  “Enigma”  durante la 2° guerra mun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abajó en la construcción de un computador electrónico británico (Colossus) para decifrar códi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seguido por ser Homosex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 suicidó en 19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757840" y="1851120"/>
            <a:ext cx="31320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104400"/>
            <a:ext cx="8721720" cy="118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NIAC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000" y="1499760"/>
            <a:ext cx="885204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NIAC: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ctronic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merical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tegrator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ado en la Universidad de Pennsylvania por John Mauchly y J. Presper Eckert  en 19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rimer computador digital electrónico  de propósito general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ó 19000 tubos de vacío. Fallas cada una h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 programación requería configurar físicamente la máqu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5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naba una habitación de 30x50 pies, pesó 30 tons., y disipaba 150000 watts de ener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6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 usó para realizar los cálculos del proyecto de la bomba at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160" y="130320"/>
            <a:ext cx="8839080" cy="1131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NIAC (cont.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8520" y="1319040"/>
            <a:ext cx="4146480" cy="276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54760" y="4146480"/>
            <a:ext cx="3095640" cy="2595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01640" y="4199040"/>
            <a:ext cx="3808440" cy="2522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5760" y="1365120"/>
            <a:ext cx="4198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88080" y="1500120"/>
            <a:ext cx="4038480" cy="2630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5760" y="1386000"/>
            <a:ext cx="3549600" cy="29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365200" y="3502080"/>
            <a:ext cx="4615200" cy="316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560" y="104760"/>
            <a:ext cx="8839080" cy="1131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NIAC (cont.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680" y="104400"/>
            <a:ext cx="8747280" cy="118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John von Neumann(1903-1957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720" y="1577520"/>
            <a:ext cx="526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temático Húngaro, ciberné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abajó en el  proyecto de la bomba at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ventó la teoría  juegos y la teoría del autómata auto-replic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riginador el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cepto de programa almacenado en el computado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n 19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575320" y="1936800"/>
            <a:ext cx="323676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400" y="1655280"/>
            <a:ext cx="4848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ó el modelo d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strucciones de programa y datos almacenados en la memoria del computado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 pueden de reprogra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rquitectura de computador de Von Neumann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gó a ser 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standar 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rimer programa almacenado electrónicament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arece en 19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59440" y="2298600"/>
            <a:ext cx="3933720" cy="3035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0680" y="104400"/>
            <a:ext cx="8747280" cy="118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John von Neumann (cont.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908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Impact"/>
                <a:ea typeface="HG Mincho Light J"/>
              </a:rPr>
              <a:t>Generaciones 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35240"/>
            <a:ext cx="8229600" cy="38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7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Primera - 1940-1956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: tubos de vacío, lenguaje de máquin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Segunda - 1956-1963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: Transistores, lenguaje ensamblador (bajo nivel), lenguajes Cobol y Fortran (alto nive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Tercera - 1964-197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: Circuitos integrados, usuarios interactúan con aplicaciones y sistema operativo por medio de teclado y monit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Cuarta - 1971-Pres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: Microprocesadores, primeros computadores domést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Quinta  - Presente y futur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: Inteligencia artificial, reconocimiento de voz, procesamiento paralelo, computación quántica, nano-tecnología, lenguaje nat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4040" y="5348160"/>
            <a:ext cx="743040" cy="13687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219640" y="6237360"/>
            <a:ext cx="1700280" cy="460440"/>
            <a:chOff x="5219640" y="6237360"/>
            <a:chExt cx="1700280" cy="460440"/>
          </a:xfrm>
        </p:grpSpPr>
        <p:sp>
          <p:nvSpPr>
            <p:cNvPr id="105" name=""/>
            <p:cNvSpPr/>
            <p:nvPr/>
          </p:nvSpPr>
          <p:spPr>
            <a:xfrm>
              <a:off x="5219640" y="6237360"/>
              <a:ext cx="1700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01760" y="5425920"/>
            <a:ext cx="2084400" cy="1171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638520" y="5380200"/>
            <a:ext cx="2041560" cy="126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932440" y="5432400"/>
            <a:ext cx="135252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424720" cy="1103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El ABACO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1040" y="2960640"/>
            <a:ext cx="424656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endria  5000 años de antigü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s la primera herramienta para calcular conoc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00440" y="2098800"/>
            <a:ext cx="381816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222120"/>
            <a:ext cx="8229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Impact"/>
                <a:ea typeface="HG Mincho Light J"/>
              </a:rPr>
              <a:t>Bio elect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822960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7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Redes neuronales, como las del cerebro, flexibles y adaptab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7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Procesan datos de manera muy eficiente y en paralel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7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Micro procesador: 10x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HG Mincho Light J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 compuertas lógicas, 20 Wats, 4 GHz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7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Cerebro de abeja: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HG Mincho Light J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 de neuronas, 0,1x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HG Mincho Light J"/>
              </a:rPr>
              <a:t>-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HG Mincho Light J"/>
              </a:rPr>
              <a:t>  Wat, 1KHz simultáneamente ve, olfatea, vuela, recolecta polen y vive en comun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9920" y="4595760"/>
            <a:ext cx="2449440" cy="2073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62680" y="4179960"/>
            <a:ext cx="251928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4484520" y="5292720"/>
            <a:ext cx="1455840" cy="784080"/>
            <a:chOff x="4484520" y="5292720"/>
            <a:chExt cx="1455840" cy="784080"/>
          </a:xfrm>
        </p:grpSpPr>
        <p:sp>
          <p:nvSpPr>
            <p:cNvPr id="114" name=""/>
            <p:cNvSpPr/>
            <p:nvPr/>
          </p:nvSpPr>
          <p:spPr>
            <a:xfrm>
              <a:off x="4484520" y="5292720"/>
              <a:ext cx="145584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54000"/>
            <a:ext cx="8799480" cy="176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Lenguajes de Programación de Alto Nivel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2680" y="1884240"/>
            <a:ext cx="469584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race Hopper construyó el primer compilador en 195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John Backus y el equipo de programadores de IBM  desarrollaron por FORTRAN en 195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 construye ALGOL en 1958, es considerado antecesor d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21200" y="1884240"/>
            <a:ext cx="4060800" cy="47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520" y="50760"/>
            <a:ext cx="8842320" cy="176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Lenguajes de Programación de Alto Nivel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5120" y="2273040"/>
            <a:ext cx="87868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59) COBOL, desarrollado por Grace Hop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58) LISP desarrollado por John McCarthy en Standf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63) BASIC desarrollado por Thomas Kurtz y John Kemeny en Dart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68) PASCAL desarrollado por Niklaus Wirth en 196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72) PROLOG desarrollado por Alain Colmerauer y Phillip Roussel en 19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03040" y="2719440"/>
            <a:ext cx="87393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HG Mincho Light J"/>
              </a:rPr>
              <a:t>A comienzo de los 70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  <a:ea typeface="HG Mincho Light J"/>
              </a:rPr>
              <a:t> el lenguaje C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HG Mincho Light J"/>
              </a:rPr>
              <a:t>es desarrollado por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 Brian Kernighan y Dennis Ritchie en los laboratorios Bell de AT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520" y="50760"/>
            <a:ext cx="8842320" cy="176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Lenguajes de Programación de Alto Nivel (cont.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62520" y="3666960"/>
            <a:ext cx="2502000" cy="2892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41600" y="3703680"/>
            <a:ext cx="2536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5160" y="155520"/>
            <a:ext cx="8839080" cy="992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Internet y WWW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9680" y="1837800"/>
            <a:ext cx="5124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69) red ARPANET, se conectaron 4 computadores ubicados en UCSB, UCLA, Utah y S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finales de los 80)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WW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World Wide Web) desarrollado en CERN, Suiza, por Tim Berners-L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1990) Primer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browser de Web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creado por Tim Berners-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575320" y="1871640"/>
            <a:ext cx="30034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7720" y="167760"/>
            <a:ext cx="8721720" cy="107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La Internet y la WWW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1160" y="1823760"/>
            <a:ext cx="4994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rc Andreesen y Eric Bina desarrollan el browser de Web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osaic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n la universidad de Illino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rc Andreesen y Jim Clark crean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scap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n 19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46560" y="1898640"/>
            <a:ext cx="373716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7720" y="167760"/>
            <a:ext cx="8721720" cy="107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Pantelégrafo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160" y="1971360"/>
            <a:ext cx="359100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24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l Pantelegrafo ideato dall'abate Giovanni Caselli è un dispositivo per inviare e ricevere immagini a distanza con un metodo elettrochi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19560" y="5472000"/>
            <a:ext cx="549108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Il Pantelegrafo prende servizio il 16 febbraio 1865 e va in pensione nel 18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www.museoscienza.org/radio/telefa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78120" y="1357200"/>
            <a:ext cx="5193000" cy="3587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49760" y="3881520"/>
            <a:ext cx="1919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2600" y="3265560"/>
            <a:ext cx="1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92600" y="3265560"/>
            <a:ext cx="19051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11760" y="6419880"/>
            <a:ext cx="1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7720" y="167760"/>
            <a:ext cx="8721720" cy="107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Pantelégrafo (cont.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2262240"/>
            <a:ext cx="29401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24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elefax de 18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92600" y="1270080"/>
            <a:ext cx="403056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08440" y="1373040"/>
            <a:ext cx="5860800" cy="3159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5200" y="4708440"/>
            <a:ext cx="8620200" cy="16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La puntina metallica del trasmittente esplora il documento originale scorrendo su linee parallele, e invia messaggi al ricevente attraverso la linea telegrafica. La puntina del ricevente percorre un foglio trattato chimicamente e annerisce la carta a seconda del segnale ricevuto. Due grossi pendoli garantiscono la sincronia dei due appar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9680" y="4324320"/>
            <a:ext cx="1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952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Impact"/>
                <a:ea typeface="HG Mincho Light J"/>
              </a:rPr>
              <a:t>El futuro...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think there is a world market for maybe five computers” ---- Thomas Watson, Chairman of IBM, 194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ff99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utomotive technology had progressed as fast as computer technology between 1960 and today, the car today would have en engine less than a tenth of an inch across, would get 120 000 miles per gallon, have top speed of 240 000 miles per hour, and would cost $4” --- Rick Decker and Stuart Hirshfield, The Analytical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8000"/>
            <a:ext cx="7772400" cy="952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Impact"/>
                <a:ea typeface="HG Mincho Light J"/>
              </a:rPr>
              <a:t>El futuro...?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6680" y="126540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94040" y="1177560"/>
            <a:ext cx="293976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24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cánica Popular 19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129960"/>
            <a:ext cx="8839080" cy="128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Blaise Pascal (1623-1662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9040" y="1585800"/>
            <a:ext cx="50101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temático Franc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7600" indent="-327600"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onstruyó la primera máquina de sumar en 164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76720" y="2133720"/>
            <a:ext cx="3691080" cy="4462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0920" y="3867120"/>
            <a:ext cx="446400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17000"/>
            <a:ext cx="8904240" cy="10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Joseph Marie Jacquard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640" y="1468440"/>
            <a:ext cx="628164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tilizó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arjetas perfo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ventó el Jacquard loom, 18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05200" y="3184560"/>
            <a:ext cx="4096080" cy="338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5800" y="3157560"/>
            <a:ext cx="409428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" y="104760"/>
            <a:ext cx="8847360" cy="122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Charles Babbage (1791-1871)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0240" y="1844280"/>
            <a:ext cx="41958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temático Ing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reó una 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áquina de Diferenci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n 18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ó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ecnología  para relo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ra resolver ecuaciones polinom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unca se termi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427640" y="1700280"/>
            <a:ext cx="442908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129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Máquina Analítica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abbage (1933) diseñó la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áquina ana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áquina programable de propósito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3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Vapor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omo fuente de ener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4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señada para almacenar 1000 números con 50 decimales cada uno. Las </a:t>
            </a:r>
            <a:r>
              <a:rPr b="0" lang="en-GB" sz="2800" spc="-1" strike="noStrike">
                <a:solidFill>
                  <a:srgbClr val="e6ff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strucciones  almacenada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n tarjetas perfo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4000"/>
              </a:lnSpc>
              <a:spcBef>
                <a:spcPts val="689"/>
              </a:spcBef>
              <a:buSzPct val="100000"/>
              <a:buBlip>
                <a:blip r:embed="rId5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unca se construy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511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Augusta Ada King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Condesa de Lovelace (1815-1852)</a:t>
            </a:r>
            <a:endParaRPr b="0" lang="en-US" sz="28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00" y="1860120"/>
            <a:ext cx="3886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yudante de Babb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señó un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enguaj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para la máquina anal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s considerada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rimera programadora de la histo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24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 creó el lenguaje de programación “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d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497480" y="1844640"/>
            <a:ext cx="431784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08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Herman Hollerith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5600" y="1432080"/>
            <a:ext cx="573732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arrolló una máquina no programable  para procesar los datos del censo de 1980 de U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os datos se almacenaban en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arjetas Perfor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ujo el tiempo del censo de años a  sem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264360" y="1530360"/>
            <a:ext cx="2485800" cy="2784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33320" y="4199040"/>
            <a:ext cx="3971880" cy="254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364000" y="4724280"/>
            <a:ext cx="28911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7720" y="130320"/>
            <a:ext cx="8799480" cy="115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  <a:ea typeface="HG Mincho Light J"/>
              </a:rPr>
              <a:t>John Atanasoff</a:t>
            </a:r>
            <a:endParaRPr b="0" lang="en-US" sz="4400" spc="-1" strike="noStrike">
              <a:solidFill>
                <a:srgbClr val="ffffcc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480" y="1623960"/>
            <a:ext cx="45129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ísico ameri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uyó la máquina ABC a finales de los años 3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ra resolver sistemas de ecu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ó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ubos  de vací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11000"/>
              </a:lnSpc>
              <a:spcBef>
                <a:spcPts val="587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 la terminó  por falta de recu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932360" y="1403280"/>
            <a:ext cx="2560680" cy="26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883040" y="4245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943680" y="314640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Historia de la Computación</dc:title>
</cp:coreProperties>
</file>