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99300" cy="8988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77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76772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09240"/>
            <a:ext cx="776772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77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79044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523520"/>
            <a:ext cx="379044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09240"/>
            <a:ext cx="379044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5960" y="3909240"/>
            <a:ext cx="379044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77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0092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1640" y="1523520"/>
            <a:ext cx="250092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8200" y="1523520"/>
            <a:ext cx="250092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09240"/>
            <a:ext cx="250092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1640" y="3909240"/>
            <a:ext cx="250092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8200" y="3909240"/>
            <a:ext cx="250092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77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7677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77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7677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77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79044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5960" y="1523520"/>
            <a:ext cx="379044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77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236160"/>
            <a:ext cx="776772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77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79044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23520"/>
            <a:ext cx="379044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09240"/>
            <a:ext cx="379044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77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79044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523520"/>
            <a:ext cx="379044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5960" y="3909240"/>
            <a:ext cx="379044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77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79044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523520"/>
            <a:ext cx="379044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09240"/>
            <a:ext cx="7767720" cy="21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772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7677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5810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Punteros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71720" y="4595760"/>
            <a:ext cx="3409920" cy="1204920"/>
          </a:xfrm>
          <a:custGeom>
            <a:avLst/>
            <a:gdLst/>
            <a:ahLst/>
            <a:rect l="l" t="t" r="r" b="b"/>
            <a:pathLst>
              <a:path w="9472" h="3347">
                <a:moveTo>
                  <a:pt x="0" y="3346"/>
                </a:moveTo>
                <a:cubicBezTo>
                  <a:pt x="103" y="2625"/>
                  <a:pt x="976" y="405"/>
                  <a:pt x="1544" y="258"/>
                </a:cubicBezTo>
                <a:cubicBezTo>
                  <a:pt x="2092" y="116"/>
                  <a:pt x="2744" y="52"/>
                  <a:pt x="3294" y="52"/>
                </a:cubicBezTo>
                <a:cubicBezTo>
                  <a:pt x="3844" y="52"/>
                  <a:pt x="4323" y="52"/>
                  <a:pt x="4839" y="52"/>
                </a:cubicBezTo>
                <a:cubicBezTo>
                  <a:pt x="5385" y="52"/>
                  <a:pt x="6074" y="52"/>
                  <a:pt x="6692" y="103"/>
                </a:cubicBezTo>
                <a:cubicBezTo>
                  <a:pt x="7310" y="154"/>
                  <a:pt x="7618" y="0"/>
                  <a:pt x="7927" y="206"/>
                </a:cubicBezTo>
                <a:lnTo>
                  <a:pt x="9059" y="978"/>
                </a:lnTo>
                <a:lnTo>
                  <a:pt x="9368" y="1905"/>
                </a:lnTo>
                <a:lnTo>
                  <a:pt x="9471" y="221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/>
          <p:nvPr/>
        </p:nvCxnSpPr>
        <p:spPr>
          <a:xfrm>
            <a:off x="971640" y="5444640"/>
            <a:ext cx="7130160" cy="2520"/>
          </a:xfrm>
          <a:prstGeom prst="bentConnector3">
            <a:avLst>
              <a:gd name="adj1" fmla="val 499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/>
          <p:nvPr/>
        </p:nvCxnSpPr>
        <p:spPr>
          <a:xfrm>
            <a:off x="255744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/>
          <p:nvPr/>
        </p:nvCxnSpPr>
        <p:spPr>
          <a:xfrm>
            <a:off x="3149640" y="5446800"/>
            <a:ext cx="2160" cy="6307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/>
          <p:nvPr/>
        </p:nvCxnSpPr>
        <p:spPr>
          <a:xfrm>
            <a:off x="196380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/>
          <p:nvPr/>
        </p:nvCxnSpPr>
        <p:spPr>
          <a:xfrm>
            <a:off x="3742920" y="5446800"/>
            <a:ext cx="2520" cy="63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/>
          <p:nvPr/>
        </p:nvCxnSpPr>
        <p:spPr>
          <a:xfrm>
            <a:off x="53737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/>
          <p:nvPr/>
        </p:nvCxnSpPr>
        <p:spPr>
          <a:xfrm>
            <a:off x="59659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/>
          <p:nvPr/>
        </p:nvCxnSpPr>
        <p:spPr>
          <a:xfrm>
            <a:off x="655956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"/>
          <p:cNvCxnSpPr/>
          <p:nvPr/>
        </p:nvCxnSpPr>
        <p:spPr>
          <a:xfrm>
            <a:off x="7114680" y="5447880"/>
            <a:ext cx="2520" cy="63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"/>
          <p:cNvCxnSpPr/>
          <p:nvPr/>
        </p:nvCxnSpPr>
        <p:spPr>
          <a:xfrm>
            <a:off x="767088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7" name=""/>
          <p:cNvSpPr/>
          <p:nvPr/>
        </p:nvSpPr>
        <p:spPr>
          <a:xfrm>
            <a:off x="4354920" y="5502240"/>
            <a:ext cx="5342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41280" y="5502240"/>
            <a:ext cx="594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41720" y="5057640"/>
            <a:ext cx="4921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73760" y="5095800"/>
            <a:ext cx="4078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04360" y="3854520"/>
            <a:ext cx="61988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operador unario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s el operador de indir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19160" y="1816200"/>
            <a:ext cx="713304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t x = 1, y =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t *ip;  /* ip es puntero a entero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&amp;x; /* ip apunta al entero x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y = *ip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; /* y es ahora 1   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0; /* x es ahora 0          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5080" y="5076720"/>
            <a:ext cx="4824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112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880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04880" y="323640"/>
            <a:ext cx="7772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jemplo (cont.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cxnSp>
        <p:nvCxnSpPr>
          <p:cNvPr id="187" name=""/>
          <p:cNvCxnSpPr/>
          <p:nvPr/>
        </p:nvCxnSpPr>
        <p:spPr>
          <a:xfrm>
            <a:off x="971640" y="6093000"/>
            <a:ext cx="7130160" cy="2160"/>
          </a:xfrm>
          <a:prstGeom prst="bentConnector3">
            <a:avLst>
              <a:gd name="adj1" fmla="val 49997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553080" y="624852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4880" y="304560"/>
            <a:ext cx="7772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jemplo (fin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1404360" y="3854520"/>
            <a:ext cx="61988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operador unario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s el operador de indir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19160" y="1816200"/>
            <a:ext cx="713304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t x = 1, y =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t *ip;  /* ip es puntero a entero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&amp;x; /* ip apunta al entero x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 = *ip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/* y es ahora 1   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*ip = 0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/* x es ahora 0          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2880" y="4564080"/>
            <a:ext cx="3409920" cy="1204920"/>
          </a:xfrm>
          <a:custGeom>
            <a:avLst/>
            <a:gdLst/>
            <a:ahLst/>
            <a:rect l="l" t="t" r="r" b="b"/>
            <a:pathLst>
              <a:path w="9472" h="3347">
                <a:moveTo>
                  <a:pt x="0" y="3346"/>
                </a:moveTo>
                <a:cubicBezTo>
                  <a:pt x="103" y="2625"/>
                  <a:pt x="976" y="405"/>
                  <a:pt x="1544" y="258"/>
                </a:cubicBezTo>
                <a:cubicBezTo>
                  <a:pt x="2092" y="116"/>
                  <a:pt x="2744" y="52"/>
                  <a:pt x="3294" y="52"/>
                </a:cubicBezTo>
                <a:cubicBezTo>
                  <a:pt x="3844" y="52"/>
                  <a:pt x="4323" y="52"/>
                  <a:pt x="4839" y="52"/>
                </a:cubicBezTo>
                <a:cubicBezTo>
                  <a:pt x="5385" y="52"/>
                  <a:pt x="6074" y="52"/>
                  <a:pt x="6692" y="103"/>
                </a:cubicBezTo>
                <a:cubicBezTo>
                  <a:pt x="7310" y="154"/>
                  <a:pt x="7618" y="0"/>
                  <a:pt x="7927" y="206"/>
                </a:cubicBezTo>
                <a:lnTo>
                  <a:pt x="9059" y="978"/>
                </a:lnTo>
                <a:lnTo>
                  <a:pt x="9368" y="1905"/>
                </a:lnTo>
                <a:lnTo>
                  <a:pt x="9471" y="221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/>
          <p:nvPr/>
        </p:nvCxnSpPr>
        <p:spPr>
          <a:xfrm>
            <a:off x="899640" y="5373720"/>
            <a:ext cx="727308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" name=""/>
          <p:cNvCxnSpPr/>
          <p:nvPr/>
        </p:nvCxnSpPr>
        <p:spPr>
          <a:xfrm>
            <a:off x="898200" y="6021360"/>
            <a:ext cx="72745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/>
          <p:nvPr/>
        </p:nvCxnSpPr>
        <p:spPr>
          <a:xfrm>
            <a:off x="2568600" y="537336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" name=""/>
          <p:cNvCxnSpPr/>
          <p:nvPr/>
        </p:nvCxnSpPr>
        <p:spPr>
          <a:xfrm>
            <a:off x="3160800" y="537336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/>
          <p:nvPr/>
        </p:nvCxnSpPr>
        <p:spPr>
          <a:xfrm>
            <a:off x="1974960" y="537336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" name=""/>
          <p:cNvCxnSpPr/>
          <p:nvPr/>
        </p:nvCxnSpPr>
        <p:spPr>
          <a:xfrm>
            <a:off x="3754440" y="537336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/>
          <p:nvPr/>
        </p:nvCxnSpPr>
        <p:spPr>
          <a:xfrm>
            <a:off x="5384880" y="537336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/>
          <p:nvPr/>
        </p:nvCxnSpPr>
        <p:spPr>
          <a:xfrm>
            <a:off x="5977080" y="537336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/>
          <p:nvPr/>
        </p:nvCxnSpPr>
        <p:spPr>
          <a:xfrm>
            <a:off x="6570720" y="537336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/>
          <p:nvPr/>
        </p:nvCxnSpPr>
        <p:spPr>
          <a:xfrm>
            <a:off x="7125840" y="5373360"/>
            <a:ext cx="2520" cy="63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"/>
          <p:cNvCxnSpPr/>
          <p:nvPr/>
        </p:nvCxnSpPr>
        <p:spPr>
          <a:xfrm>
            <a:off x="7682040" y="537336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4366080" y="5470560"/>
            <a:ext cx="5342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52440" y="5470560"/>
            <a:ext cx="594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52520" y="5025960"/>
            <a:ext cx="4921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84920" y="5064120"/>
            <a:ext cx="4078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96240" y="5045040"/>
            <a:ext cx="4824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81920" y="558324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29960" y="558324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685800" y="255600"/>
            <a:ext cx="7772400" cy="1279440"/>
            <a:chOff x="685800" y="255600"/>
            <a:chExt cx="7772400" cy="1279440"/>
          </a:xfrm>
        </p:grpSpPr>
        <p:sp>
          <p:nvSpPr>
            <p:cNvPr id="212" name=""/>
            <p:cNvSpPr/>
            <p:nvPr/>
          </p:nvSpPr>
          <p:spPr>
            <a:xfrm>
              <a:off x="685800" y="255600"/>
              <a:ext cx="7772400" cy="1279440"/>
            </a:xfrm>
            <a:prstGeom prst="roundRect">
              <a:avLst>
                <a:gd name="adj" fmla="val 12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800" y="573840"/>
              <a:ext cx="777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omic Sans MS"/>
                </a:rPr>
                <a:t>Aritmética de punter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74560" y="1797120"/>
            <a:ext cx="809784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9200" indent="-201600">
              <a:lnSpc>
                <a:spcPct val="103000"/>
              </a:lnSpc>
              <a:buClr>
                <a:srgbClr val="000000"/>
              </a:buClr>
              <a:buFont typeface="Times New Roman"/>
              <a:buChar char="•"/>
              <a:tabLst>
                <a:tab algn="l" pos="34920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9333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contenido de un puntero puede ser modificado realizando operaciones aritméticas enteras si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201600">
              <a:lnSpc>
                <a:spcPct val="110000"/>
              </a:lnSpc>
              <a:tabLst>
                <a:tab algn="l" pos="0"/>
                <a:tab algn="l" pos="34920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9333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201600">
              <a:lnSpc>
                <a:spcPct val="99000"/>
              </a:lnSpc>
              <a:tabLst>
                <a:tab algn="l" pos="0"/>
                <a:tab algn="l" pos="34920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9333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float *p;    / * un float tiene 4 bytes  *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201600">
              <a:lnSpc>
                <a:spcPct val="99000"/>
              </a:lnSpc>
              <a:tabLst>
                <a:tab algn="l" pos="0"/>
                <a:tab algn="l" pos="34920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9333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 = p  + 2;  /* p apunta ahora a una variable 2*4  bytes de distancia del la anterior */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35360" y="4187880"/>
            <a:ext cx="3132000" cy="1247760"/>
          </a:xfrm>
          <a:custGeom>
            <a:avLst/>
            <a:gdLst/>
            <a:ahLst/>
            <a:rect l="l" t="t" r="r" b="b"/>
            <a:pathLst>
              <a:path w="8700" h="3467">
                <a:moveTo>
                  <a:pt x="0" y="3466"/>
                </a:moveTo>
                <a:cubicBezTo>
                  <a:pt x="103" y="2745"/>
                  <a:pt x="976" y="525"/>
                  <a:pt x="1544" y="378"/>
                </a:cubicBezTo>
                <a:cubicBezTo>
                  <a:pt x="2092" y="236"/>
                  <a:pt x="2744" y="172"/>
                  <a:pt x="3294" y="172"/>
                </a:cubicBezTo>
                <a:cubicBezTo>
                  <a:pt x="3844" y="172"/>
                  <a:pt x="4221" y="50"/>
                  <a:pt x="4736" y="50"/>
                </a:cubicBezTo>
                <a:cubicBezTo>
                  <a:pt x="5282" y="50"/>
                  <a:pt x="5868" y="0"/>
                  <a:pt x="6486" y="50"/>
                </a:cubicBezTo>
                <a:cubicBezTo>
                  <a:pt x="7104" y="100"/>
                  <a:pt x="7732" y="11"/>
                  <a:pt x="7926" y="326"/>
                </a:cubicBezTo>
                <a:lnTo>
                  <a:pt x="8390" y="1079"/>
                </a:lnTo>
                <a:lnTo>
                  <a:pt x="8596" y="1697"/>
                </a:lnTo>
                <a:lnTo>
                  <a:pt x="8699" y="2211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/>
          <p:nvPr/>
        </p:nvCxnSpPr>
        <p:spPr>
          <a:xfrm>
            <a:off x="899640" y="5084280"/>
            <a:ext cx="720180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" name=""/>
          <p:cNvCxnSpPr/>
          <p:nvPr/>
        </p:nvCxnSpPr>
        <p:spPr>
          <a:xfrm>
            <a:off x="936720" y="5697000"/>
            <a:ext cx="7201440" cy="2520"/>
          </a:xfrm>
          <a:prstGeom prst="bentConnector3">
            <a:avLst>
              <a:gd name="adj1" fmla="val 499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" name=""/>
          <p:cNvCxnSpPr/>
          <p:nvPr/>
        </p:nvCxnSpPr>
        <p:spPr>
          <a:xfrm>
            <a:off x="2518920" y="5084280"/>
            <a:ext cx="2520" cy="631080"/>
          </a:xfrm>
          <a:prstGeom prst="bentConnector3">
            <a:avLst>
              <a:gd name="adj1" fmla="val 50000"/>
            </a:avLst>
          </a:prstGeom>
          <a:ln w="46800">
            <a:solidFill>
              <a:srgbClr val="000000"/>
            </a:solidFill>
            <a:miter/>
          </a:ln>
        </p:spPr>
      </p:cxnSp>
      <p:cxnSp>
        <p:nvCxnSpPr>
          <p:cNvPr id="219" name=""/>
          <p:cNvCxnSpPr/>
          <p:nvPr/>
        </p:nvCxnSpPr>
        <p:spPr>
          <a:xfrm>
            <a:off x="3112560" y="5108400"/>
            <a:ext cx="2520" cy="603720"/>
          </a:xfrm>
          <a:prstGeom prst="bentConnector3">
            <a:avLst>
              <a:gd name="adj1" fmla="val 50000"/>
            </a:avLst>
          </a:prstGeom>
          <a:ln w="46800">
            <a:solidFill>
              <a:srgbClr val="000000"/>
            </a:solidFill>
            <a:miter/>
          </a:ln>
        </p:spPr>
      </p:cxnSp>
      <p:cxnSp>
        <p:nvCxnSpPr>
          <p:cNvPr id="220" name=""/>
          <p:cNvCxnSpPr/>
          <p:nvPr/>
        </p:nvCxnSpPr>
        <p:spPr>
          <a:xfrm>
            <a:off x="1943280" y="5108400"/>
            <a:ext cx="2160" cy="603720"/>
          </a:xfrm>
          <a:prstGeom prst="bentConnector3">
            <a:avLst>
              <a:gd name="adj1" fmla="val 40000"/>
            </a:avLst>
          </a:prstGeom>
          <a:ln w="46800">
            <a:solidFill>
              <a:srgbClr val="000000"/>
            </a:solidFill>
            <a:miter/>
          </a:ln>
        </p:spPr>
      </p:cxnSp>
      <p:cxnSp>
        <p:nvCxnSpPr>
          <p:cNvPr id="221" name=""/>
          <p:cNvCxnSpPr/>
          <p:nvPr/>
        </p:nvCxnSpPr>
        <p:spPr>
          <a:xfrm>
            <a:off x="3704760" y="5084280"/>
            <a:ext cx="2520" cy="631080"/>
          </a:xfrm>
          <a:prstGeom prst="bentConnector3">
            <a:avLst>
              <a:gd name="adj1" fmla="val 50000"/>
            </a:avLst>
          </a:prstGeom>
          <a:ln w="46800">
            <a:solidFill>
              <a:srgbClr val="000000"/>
            </a:solidFill>
            <a:miter/>
          </a:ln>
        </p:spPr>
      </p:cxnSp>
      <p:cxnSp>
        <p:nvCxnSpPr>
          <p:cNvPr id="222" name=""/>
          <p:cNvCxnSpPr/>
          <p:nvPr/>
        </p:nvCxnSpPr>
        <p:spPr>
          <a:xfrm>
            <a:off x="5335560" y="5084280"/>
            <a:ext cx="2160" cy="631080"/>
          </a:xfrm>
          <a:prstGeom prst="bentConnector3">
            <a:avLst>
              <a:gd name="adj1" fmla="val 40000"/>
            </a:avLst>
          </a:prstGeom>
          <a:ln w="46800">
            <a:solidFill>
              <a:srgbClr val="000000"/>
            </a:solidFill>
            <a:miter/>
          </a:ln>
        </p:spPr>
      </p:cxnSp>
      <p:cxnSp>
        <p:nvCxnSpPr>
          <p:cNvPr id="223" name=""/>
          <p:cNvCxnSpPr/>
          <p:nvPr/>
        </p:nvCxnSpPr>
        <p:spPr>
          <a:xfrm>
            <a:off x="7077240" y="5084280"/>
            <a:ext cx="2160" cy="631080"/>
          </a:xfrm>
          <a:prstGeom prst="bentConnector3">
            <a:avLst>
              <a:gd name="adj1" fmla="val 40000"/>
            </a:avLst>
          </a:prstGeom>
          <a:ln w="46800">
            <a:solidFill>
              <a:srgbClr val="000000"/>
            </a:solidFill>
            <a:miter/>
          </a:ln>
        </p:spPr>
      </p:cxnSp>
      <p:cxnSp>
        <p:nvCxnSpPr>
          <p:cNvPr id="224" name=""/>
          <p:cNvCxnSpPr/>
          <p:nvPr/>
        </p:nvCxnSpPr>
        <p:spPr>
          <a:xfrm>
            <a:off x="7632720" y="5084280"/>
            <a:ext cx="2160" cy="631080"/>
          </a:xfrm>
          <a:prstGeom prst="bentConnector3">
            <a:avLst>
              <a:gd name="adj1" fmla="val 40000"/>
            </a:avLst>
          </a:prstGeom>
          <a:ln w="4680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4316760" y="5176800"/>
            <a:ext cx="5342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03480" y="5176800"/>
            <a:ext cx="5936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75080" y="4732200"/>
            <a:ext cx="4921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41480" y="4005360"/>
            <a:ext cx="4348440" cy="1422360"/>
          </a:xfrm>
          <a:custGeom>
            <a:avLst/>
            <a:gdLst/>
            <a:ahLst/>
            <a:rect l="l" t="t" r="r" b="b"/>
            <a:pathLst>
              <a:path w="12079" h="3951">
                <a:moveTo>
                  <a:pt x="0" y="3950"/>
                </a:moveTo>
                <a:cubicBezTo>
                  <a:pt x="103" y="3229"/>
                  <a:pt x="855" y="507"/>
                  <a:pt x="1423" y="360"/>
                </a:cubicBezTo>
                <a:cubicBezTo>
                  <a:pt x="1971" y="218"/>
                  <a:pt x="2726" y="51"/>
                  <a:pt x="3276" y="51"/>
                </a:cubicBezTo>
                <a:cubicBezTo>
                  <a:pt x="3826" y="51"/>
                  <a:pt x="4305" y="51"/>
                  <a:pt x="4820" y="51"/>
                </a:cubicBezTo>
                <a:cubicBezTo>
                  <a:pt x="5366" y="51"/>
                  <a:pt x="6158" y="0"/>
                  <a:pt x="6776" y="51"/>
                </a:cubicBezTo>
                <a:cubicBezTo>
                  <a:pt x="7394" y="102"/>
                  <a:pt x="9967" y="56"/>
                  <a:pt x="10276" y="257"/>
                </a:cubicBezTo>
                <a:lnTo>
                  <a:pt x="11460" y="1029"/>
                </a:lnTo>
                <a:lnTo>
                  <a:pt x="11975" y="1750"/>
                </a:lnTo>
                <a:lnTo>
                  <a:pt x="12078" y="277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/>
          <p:nvPr/>
        </p:nvCxnSpPr>
        <p:spPr>
          <a:xfrm>
            <a:off x="5931000" y="5075280"/>
            <a:ext cx="2160" cy="603720"/>
          </a:xfrm>
          <a:prstGeom prst="bentConnector3">
            <a:avLst>
              <a:gd name="adj1" fmla="val 40000"/>
            </a:avLst>
          </a:prstGeom>
          <a:ln w="46800">
            <a:solidFill>
              <a:srgbClr val="000000"/>
            </a:solidFill>
            <a:miter/>
          </a:ln>
        </p:spPr>
      </p:cxnSp>
      <p:cxnSp>
        <p:nvCxnSpPr>
          <p:cNvPr id="230" name=""/>
          <p:cNvCxnSpPr/>
          <p:nvPr/>
        </p:nvCxnSpPr>
        <p:spPr>
          <a:xfrm>
            <a:off x="6521040" y="5084280"/>
            <a:ext cx="2520" cy="631080"/>
          </a:xfrm>
          <a:prstGeom prst="bentConnector3">
            <a:avLst>
              <a:gd name="adj1" fmla="val 50000"/>
            </a:avLst>
          </a:prstGeom>
          <a:ln w="46800">
            <a:solidFill>
              <a:srgbClr val="000000"/>
            </a:solidFill>
            <a:miter/>
          </a:ln>
        </p:spPr>
      </p:cxnSp>
      <p:grpSp>
        <p:nvGrpSpPr>
          <p:cNvPr id="231" name=""/>
          <p:cNvGrpSpPr/>
          <p:nvPr/>
        </p:nvGrpSpPr>
        <p:grpSpPr>
          <a:xfrm>
            <a:off x="6076800" y="5095800"/>
            <a:ext cx="295560" cy="666720"/>
            <a:chOff x="6076800" y="5095800"/>
            <a:chExt cx="295560" cy="666720"/>
          </a:xfrm>
        </p:grpSpPr>
        <p:sp>
          <p:nvSpPr>
            <p:cNvPr id="232" name=""/>
            <p:cNvSpPr/>
            <p:nvPr/>
          </p:nvSpPr>
          <p:spPr>
            <a:xfrm>
              <a:off x="6224760" y="5095800"/>
              <a:ext cx="1440" cy="666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76800" y="5095800"/>
              <a:ext cx="1800" cy="666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70560" y="5095800"/>
              <a:ext cx="1800" cy="666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653160" y="5095800"/>
            <a:ext cx="295200" cy="666720"/>
            <a:chOff x="6653160" y="5095800"/>
            <a:chExt cx="295200" cy="666720"/>
          </a:xfrm>
        </p:grpSpPr>
        <p:sp>
          <p:nvSpPr>
            <p:cNvPr id="236" name=""/>
            <p:cNvSpPr/>
            <p:nvPr/>
          </p:nvSpPr>
          <p:spPr>
            <a:xfrm>
              <a:off x="6800760" y="5095800"/>
              <a:ext cx="1800" cy="666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53160" y="5095800"/>
              <a:ext cx="1800" cy="666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46920" y="5095800"/>
              <a:ext cx="1440" cy="666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229520" y="5095800"/>
            <a:ext cx="295200" cy="666720"/>
            <a:chOff x="7229520" y="5095800"/>
            <a:chExt cx="295200" cy="666720"/>
          </a:xfrm>
        </p:grpSpPr>
        <p:sp>
          <p:nvSpPr>
            <p:cNvPr id="240" name=""/>
            <p:cNvSpPr/>
            <p:nvPr/>
          </p:nvSpPr>
          <p:spPr>
            <a:xfrm>
              <a:off x="7377120" y="5095800"/>
              <a:ext cx="1440" cy="665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29520" y="5097600"/>
              <a:ext cx="1440" cy="664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23280" y="5095800"/>
              <a:ext cx="1440" cy="665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502240" y="5095800"/>
            <a:ext cx="295200" cy="666720"/>
            <a:chOff x="5502240" y="5095800"/>
            <a:chExt cx="295200" cy="666720"/>
          </a:xfrm>
        </p:grpSpPr>
        <p:sp>
          <p:nvSpPr>
            <p:cNvPr id="244" name=""/>
            <p:cNvSpPr/>
            <p:nvPr/>
          </p:nvSpPr>
          <p:spPr>
            <a:xfrm>
              <a:off x="5648400" y="5095800"/>
              <a:ext cx="1440" cy="665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02240" y="5097600"/>
              <a:ext cx="1800" cy="664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96000" y="5095800"/>
              <a:ext cx="1440" cy="665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693880" y="5095800"/>
            <a:ext cx="295560" cy="666720"/>
            <a:chOff x="2693880" y="5095800"/>
            <a:chExt cx="295560" cy="666720"/>
          </a:xfrm>
        </p:grpSpPr>
        <p:sp>
          <p:nvSpPr>
            <p:cNvPr id="248" name=""/>
            <p:cNvSpPr/>
            <p:nvPr/>
          </p:nvSpPr>
          <p:spPr>
            <a:xfrm>
              <a:off x="2841480" y="5095800"/>
              <a:ext cx="1800" cy="665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93880" y="5097600"/>
              <a:ext cx="1800" cy="664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87640" y="5097600"/>
              <a:ext cx="1800" cy="664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V="1">
            <a:off x="5354640" y="5776560"/>
            <a:ext cx="3636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83120" y="6111720"/>
            <a:ext cx="8524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04840" y="6111720"/>
            <a:ext cx="7902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fl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29240" y="5553000"/>
            <a:ext cx="666720" cy="555840"/>
          </a:xfrm>
          <a:custGeom>
            <a:avLst/>
            <a:gdLst/>
            <a:ahLst/>
            <a:rect l="l" t="t" r="r" b="b"/>
            <a:pathLst>
              <a:path w="1853" h="1545">
                <a:moveTo>
                  <a:pt x="308" y="721"/>
                </a:moveTo>
                <a:cubicBezTo>
                  <a:pt x="0" y="0"/>
                  <a:pt x="1132" y="1544"/>
                  <a:pt x="1132" y="1235"/>
                </a:cubicBezTo>
                <a:lnTo>
                  <a:pt x="1852" y="61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ritmética de punteros (ejemplo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833400" y="1557360"/>
            <a:ext cx="7681680" cy="29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t x = 0, y = 1, z = 2;/* globales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t *ip;     /* ip es puntero a entero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&amp;x;    /* ip apunta al entero x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x es ahora 1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ip + 1;   /* ip apunta ahora a y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y es ahora 2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ip + 1;   /* ip apunta ahora a z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z es ahora 3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ritmética de punteros (cont.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cxnSp>
        <p:nvCxnSpPr>
          <p:cNvPr id="258" name=""/>
          <p:cNvCxnSpPr/>
          <p:nvPr/>
        </p:nvCxnSpPr>
        <p:spPr>
          <a:xfrm>
            <a:off x="899640" y="5444640"/>
            <a:ext cx="720180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/>
          <p:nvPr/>
        </p:nvCxnSpPr>
        <p:spPr>
          <a:xfrm>
            <a:off x="899640" y="6093000"/>
            <a:ext cx="72018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/>
          <p:nvPr/>
        </p:nvCxnSpPr>
        <p:spPr>
          <a:xfrm>
            <a:off x="255744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" name=""/>
          <p:cNvCxnSpPr/>
          <p:nvPr/>
        </p:nvCxnSpPr>
        <p:spPr>
          <a:xfrm>
            <a:off x="3149640" y="5446800"/>
            <a:ext cx="2160" cy="6307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" name=""/>
          <p:cNvCxnSpPr/>
          <p:nvPr/>
        </p:nvCxnSpPr>
        <p:spPr>
          <a:xfrm>
            <a:off x="196380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" name=""/>
          <p:cNvCxnSpPr/>
          <p:nvPr/>
        </p:nvCxnSpPr>
        <p:spPr>
          <a:xfrm>
            <a:off x="3742920" y="5446800"/>
            <a:ext cx="2520" cy="63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4" name=""/>
          <p:cNvCxnSpPr/>
          <p:nvPr/>
        </p:nvCxnSpPr>
        <p:spPr>
          <a:xfrm>
            <a:off x="53737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5" name=""/>
          <p:cNvCxnSpPr/>
          <p:nvPr/>
        </p:nvCxnSpPr>
        <p:spPr>
          <a:xfrm>
            <a:off x="59659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" name=""/>
          <p:cNvCxnSpPr/>
          <p:nvPr/>
        </p:nvCxnSpPr>
        <p:spPr>
          <a:xfrm>
            <a:off x="655956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/>
          <p:nvPr/>
        </p:nvCxnSpPr>
        <p:spPr>
          <a:xfrm>
            <a:off x="7114680" y="5447880"/>
            <a:ext cx="2520" cy="63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8" name=""/>
          <p:cNvCxnSpPr/>
          <p:nvPr/>
        </p:nvCxnSpPr>
        <p:spPr>
          <a:xfrm>
            <a:off x="767088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9" name=""/>
          <p:cNvSpPr/>
          <p:nvPr/>
        </p:nvSpPr>
        <p:spPr>
          <a:xfrm>
            <a:off x="4354920" y="5502240"/>
            <a:ext cx="5342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41280" y="5502240"/>
            <a:ext cx="594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73760" y="5095800"/>
            <a:ext cx="4078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3400" y="1557360"/>
            <a:ext cx="7681680" cy="29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nt x = 0, y = 1, z = 2;</a:t>
            </a:r>
            <a:r>
              <a:rPr b="0" lang="en-GB" sz="2400" spc="-1" strike="noStrike">
                <a:solidFill>
                  <a:srgbClr val="ff0000"/>
                </a:solidFill>
                <a:latin typeface="Courier New"/>
              </a:rPr>
              <a:t>/* globales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t *ip;     /* ip es puntero a entero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&amp;x;    /* ip apunta al entero x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x es ahora 1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ip + 1;   /* ip apunta ahora a y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y es ahora 2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ip + 1;   /* ip apunta ahora a z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z es ahora 3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29240" y="5113440"/>
            <a:ext cx="4827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1468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1880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85080" y="5114880"/>
            <a:ext cx="4824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7016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78" name=""/>
          <p:cNvCxnSpPr/>
          <p:nvPr/>
        </p:nvCxnSpPr>
        <p:spPr>
          <a:xfrm>
            <a:off x="971640" y="5444640"/>
            <a:ext cx="7130160" cy="2520"/>
          </a:xfrm>
          <a:prstGeom prst="bentConnector3">
            <a:avLst>
              <a:gd name="adj1" fmla="val 499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"/>
          <p:cNvCxnSpPr/>
          <p:nvPr/>
        </p:nvCxnSpPr>
        <p:spPr>
          <a:xfrm>
            <a:off x="971640" y="6093000"/>
            <a:ext cx="7130160" cy="2160"/>
          </a:xfrm>
          <a:prstGeom prst="bentConnector3">
            <a:avLst>
              <a:gd name="adj1" fmla="val 499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0" name=""/>
          <p:cNvCxnSpPr/>
          <p:nvPr/>
        </p:nvCxnSpPr>
        <p:spPr>
          <a:xfrm>
            <a:off x="255744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"/>
          <p:cNvCxnSpPr/>
          <p:nvPr/>
        </p:nvCxnSpPr>
        <p:spPr>
          <a:xfrm>
            <a:off x="3149640" y="5446800"/>
            <a:ext cx="2160" cy="6307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" name=""/>
          <p:cNvCxnSpPr/>
          <p:nvPr/>
        </p:nvCxnSpPr>
        <p:spPr>
          <a:xfrm>
            <a:off x="196380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" name=""/>
          <p:cNvCxnSpPr/>
          <p:nvPr/>
        </p:nvCxnSpPr>
        <p:spPr>
          <a:xfrm>
            <a:off x="3742920" y="5446800"/>
            <a:ext cx="2520" cy="63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" name=""/>
          <p:cNvCxnSpPr/>
          <p:nvPr/>
        </p:nvCxnSpPr>
        <p:spPr>
          <a:xfrm>
            <a:off x="53737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" name=""/>
          <p:cNvCxnSpPr/>
          <p:nvPr/>
        </p:nvCxnSpPr>
        <p:spPr>
          <a:xfrm>
            <a:off x="59659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6" name=""/>
          <p:cNvCxnSpPr/>
          <p:nvPr/>
        </p:nvCxnSpPr>
        <p:spPr>
          <a:xfrm>
            <a:off x="655956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7" name=""/>
          <p:cNvCxnSpPr/>
          <p:nvPr/>
        </p:nvCxnSpPr>
        <p:spPr>
          <a:xfrm>
            <a:off x="7114680" y="5447880"/>
            <a:ext cx="2520" cy="63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" name=""/>
          <p:cNvCxnSpPr/>
          <p:nvPr/>
        </p:nvCxnSpPr>
        <p:spPr>
          <a:xfrm>
            <a:off x="767088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9" name=""/>
          <p:cNvSpPr/>
          <p:nvPr/>
        </p:nvSpPr>
        <p:spPr>
          <a:xfrm>
            <a:off x="4354920" y="5502240"/>
            <a:ext cx="5342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41280" y="5502240"/>
            <a:ext cx="594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41720" y="5057640"/>
            <a:ext cx="4921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p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73760" y="5095800"/>
            <a:ext cx="4078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3400" y="1557360"/>
            <a:ext cx="7681680" cy="29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t x = 0, y = 1, z = 2;/* globales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3333"/>
                </a:solidFill>
                <a:latin typeface="Courier New"/>
              </a:rPr>
              <a:t>int *ip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/* ip es puntero a entero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&amp;x;    /* ip apunta al entero x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x es ahora 1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ip + 1;   /* ip apunta ahora a y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y es ahora 2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ip + 1;   /* ip apunta ahora a z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z es ahora 3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29240" y="5113440"/>
            <a:ext cx="4827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1468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880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5114880"/>
            <a:ext cx="4824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7016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97200" y="5576760"/>
            <a:ext cx="2602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04880" y="323640"/>
            <a:ext cx="7772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ritmética de punteros (cont.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835360" y="4595760"/>
            <a:ext cx="3409920" cy="1204920"/>
          </a:xfrm>
          <a:custGeom>
            <a:avLst/>
            <a:gdLst/>
            <a:ahLst/>
            <a:rect l="l" t="t" r="r" b="b"/>
            <a:pathLst>
              <a:path w="9472" h="3347">
                <a:moveTo>
                  <a:pt x="0" y="3346"/>
                </a:moveTo>
                <a:cubicBezTo>
                  <a:pt x="103" y="2625"/>
                  <a:pt x="976" y="405"/>
                  <a:pt x="1544" y="258"/>
                </a:cubicBezTo>
                <a:cubicBezTo>
                  <a:pt x="2092" y="116"/>
                  <a:pt x="2744" y="52"/>
                  <a:pt x="3294" y="52"/>
                </a:cubicBezTo>
                <a:cubicBezTo>
                  <a:pt x="3844" y="52"/>
                  <a:pt x="4323" y="52"/>
                  <a:pt x="4839" y="52"/>
                </a:cubicBezTo>
                <a:cubicBezTo>
                  <a:pt x="5385" y="52"/>
                  <a:pt x="6074" y="52"/>
                  <a:pt x="6692" y="103"/>
                </a:cubicBezTo>
                <a:cubicBezTo>
                  <a:pt x="7310" y="154"/>
                  <a:pt x="7618" y="0"/>
                  <a:pt x="7927" y="206"/>
                </a:cubicBezTo>
                <a:lnTo>
                  <a:pt x="9059" y="978"/>
                </a:lnTo>
                <a:lnTo>
                  <a:pt x="9368" y="1905"/>
                </a:lnTo>
                <a:lnTo>
                  <a:pt x="9471" y="2213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/>
          <p:nvPr/>
        </p:nvCxnSpPr>
        <p:spPr>
          <a:xfrm>
            <a:off x="971640" y="5444640"/>
            <a:ext cx="7130160" cy="2520"/>
          </a:xfrm>
          <a:prstGeom prst="bentConnector3">
            <a:avLst>
              <a:gd name="adj1" fmla="val 499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/>
          <p:nvPr/>
        </p:nvCxnSpPr>
        <p:spPr>
          <a:xfrm>
            <a:off x="899640" y="6093000"/>
            <a:ext cx="727308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4" name=""/>
          <p:cNvCxnSpPr/>
          <p:nvPr/>
        </p:nvCxnSpPr>
        <p:spPr>
          <a:xfrm>
            <a:off x="255744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5" name=""/>
          <p:cNvCxnSpPr/>
          <p:nvPr/>
        </p:nvCxnSpPr>
        <p:spPr>
          <a:xfrm>
            <a:off x="3149640" y="5446800"/>
            <a:ext cx="2160" cy="6307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/>
          <p:nvPr/>
        </p:nvCxnSpPr>
        <p:spPr>
          <a:xfrm>
            <a:off x="196380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/>
          <p:nvPr/>
        </p:nvCxnSpPr>
        <p:spPr>
          <a:xfrm>
            <a:off x="3742920" y="5446800"/>
            <a:ext cx="2520" cy="63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/>
          <p:nvPr/>
        </p:nvCxnSpPr>
        <p:spPr>
          <a:xfrm>
            <a:off x="53737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9" name=""/>
          <p:cNvCxnSpPr/>
          <p:nvPr/>
        </p:nvCxnSpPr>
        <p:spPr>
          <a:xfrm>
            <a:off x="59659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/>
          <p:nvPr/>
        </p:nvCxnSpPr>
        <p:spPr>
          <a:xfrm>
            <a:off x="655956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/>
          <p:nvPr/>
        </p:nvCxnSpPr>
        <p:spPr>
          <a:xfrm>
            <a:off x="7114680" y="5447880"/>
            <a:ext cx="2520" cy="63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/>
          <p:nvPr/>
        </p:nvCxnSpPr>
        <p:spPr>
          <a:xfrm>
            <a:off x="767088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3" name=""/>
          <p:cNvSpPr/>
          <p:nvPr/>
        </p:nvSpPr>
        <p:spPr>
          <a:xfrm>
            <a:off x="4354920" y="5502240"/>
            <a:ext cx="5342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41280" y="5502240"/>
            <a:ext cx="594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41720" y="5057640"/>
            <a:ext cx="4921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73760" y="5095800"/>
            <a:ext cx="4078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7040" y="1557360"/>
            <a:ext cx="7681680" cy="29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t x = 0, y = 1, z = 2;/* globales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t *ip;     /* ip es puntero a entero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ip = &amp;x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/* ip apunta al entero x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x es ahora 1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ip + 1;   /* ip apunta ahora a y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y es ahora 2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ip + 1;   /* ip apunta ahora a z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z es ahora 3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29240" y="5113440"/>
            <a:ext cx="4827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1468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31880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948360" y="5114880"/>
            <a:ext cx="4827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7016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4880" y="323640"/>
            <a:ext cx="7772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ritmética de punteros (cont.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871720" y="4595760"/>
            <a:ext cx="3409920" cy="1204920"/>
          </a:xfrm>
          <a:custGeom>
            <a:avLst/>
            <a:gdLst/>
            <a:ahLst/>
            <a:rect l="l" t="t" r="r" b="b"/>
            <a:pathLst>
              <a:path w="9472" h="3347">
                <a:moveTo>
                  <a:pt x="0" y="3346"/>
                </a:moveTo>
                <a:cubicBezTo>
                  <a:pt x="103" y="2625"/>
                  <a:pt x="976" y="405"/>
                  <a:pt x="1544" y="258"/>
                </a:cubicBezTo>
                <a:cubicBezTo>
                  <a:pt x="2092" y="116"/>
                  <a:pt x="2744" y="52"/>
                  <a:pt x="3294" y="52"/>
                </a:cubicBezTo>
                <a:cubicBezTo>
                  <a:pt x="3844" y="52"/>
                  <a:pt x="4323" y="52"/>
                  <a:pt x="4839" y="52"/>
                </a:cubicBezTo>
                <a:cubicBezTo>
                  <a:pt x="5385" y="52"/>
                  <a:pt x="6074" y="52"/>
                  <a:pt x="6692" y="103"/>
                </a:cubicBezTo>
                <a:cubicBezTo>
                  <a:pt x="7310" y="154"/>
                  <a:pt x="7618" y="0"/>
                  <a:pt x="7927" y="206"/>
                </a:cubicBezTo>
                <a:lnTo>
                  <a:pt x="9059" y="978"/>
                </a:lnTo>
                <a:lnTo>
                  <a:pt x="9368" y="1905"/>
                </a:lnTo>
                <a:lnTo>
                  <a:pt x="9471" y="221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/>
          <p:nvPr/>
        </p:nvCxnSpPr>
        <p:spPr>
          <a:xfrm>
            <a:off x="971640" y="5444640"/>
            <a:ext cx="7130160" cy="2520"/>
          </a:xfrm>
          <a:prstGeom prst="bentConnector3">
            <a:avLst>
              <a:gd name="adj1" fmla="val 499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/>
          <p:nvPr/>
        </p:nvCxnSpPr>
        <p:spPr>
          <a:xfrm>
            <a:off x="971640" y="6093000"/>
            <a:ext cx="7130160" cy="2160"/>
          </a:xfrm>
          <a:prstGeom prst="bentConnector3">
            <a:avLst>
              <a:gd name="adj1" fmla="val 499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/>
          <p:nvPr/>
        </p:nvCxnSpPr>
        <p:spPr>
          <a:xfrm>
            <a:off x="255744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/>
          <p:nvPr/>
        </p:nvCxnSpPr>
        <p:spPr>
          <a:xfrm>
            <a:off x="3149640" y="5446800"/>
            <a:ext cx="2160" cy="6307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/>
          <p:nvPr/>
        </p:nvCxnSpPr>
        <p:spPr>
          <a:xfrm>
            <a:off x="196380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/>
          <p:nvPr/>
        </p:nvCxnSpPr>
        <p:spPr>
          <a:xfrm>
            <a:off x="3742920" y="5446800"/>
            <a:ext cx="2520" cy="63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/>
          <p:nvPr/>
        </p:nvCxnSpPr>
        <p:spPr>
          <a:xfrm>
            <a:off x="53737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2" name=""/>
          <p:cNvCxnSpPr/>
          <p:nvPr/>
        </p:nvCxnSpPr>
        <p:spPr>
          <a:xfrm>
            <a:off x="59659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3" name=""/>
          <p:cNvCxnSpPr/>
          <p:nvPr/>
        </p:nvCxnSpPr>
        <p:spPr>
          <a:xfrm>
            <a:off x="655956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"/>
          <p:cNvCxnSpPr/>
          <p:nvPr/>
        </p:nvCxnSpPr>
        <p:spPr>
          <a:xfrm>
            <a:off x="7114680" y="5447880"/>
            <a:ext cx="2520" cy="63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/>
          <p:nvPr/>
        </p:nvCxnSpPr>
        <p:spPr>
          <a:xfrm>
            <a:off x="767088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4354920" y="5502240"/>
            <a:ext cx="5342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41280" y="5502240"/>
            <a:ext cx="594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41720" y="5057640"/>
            <a:ext cx="4921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73760" y="5095800"/>
            <a:ext cx="4078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3400" y="1557360"/>
            <a:ext cx="7681680" cy="29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t x = 0, y = 1, z = 2;/* globales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t *ip;     /* ip es puntero a entero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&amp;x;    /* ip apunta al entero x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*ip = *ip + 1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x es ahora 1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ip + 1;   /* ip apunta ahora a y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y es ahora 2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ip + 1;   /* ip apunta ahora a z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z es ahora 3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29240" y="5113440"/>
            <a:ext cx="4827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1468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1880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85080" y="5114880"/>
            <a:ext cx="4824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77016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04880" y="323640"/>
            <a:ext cx="7772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ritmética de punteros (cont.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871720" y="4613400"/>
            <a:ext cx="3965760" cy="1185840"/>
          </a:xfrm>
          <a:custGeom>
            <a:avLst/>
            <a:gdLst/>
            <a:ahLst/>
            <a:rect l="l" t="t" r="r" b="b"/>
            <a:pathLst>
              <a:path w="11016" h="3295">
                <a:moveTo>
                  <a:pt x="0" y="3294"/>
                </a:moveTo>
                <a:cubicBezTo>
                  <a:pt x="103" y="2573"/>
                  <a:pt x="976" y="353"/>
                  <a:pt x="1544" y="206"/>
                </a:cubicBezTo>
                <a:cubicBezTo>
                  <a:pt x="2092" y="64"/>
                  <a:pt x="2744" y="0"/>
                  <a:pt x="3294" y="0"/>
                </a:cubicBezTo>
                <a:cubicBezTo>
                  <a:pt x="3844" y="0"/>
                  <a:pt x="4323" y="0"/>
                  <a:pt x="4838" y="0"/>
                </a:cubicBezTo>
                <a:cubicBezTo>
                  <a:pt x="5384" y="0"/>
                  <a:pt x="6073" y="0"/>
                  <a:pt x="6691" y="51"/>
                </a:cubicBezTo>
                <a:cubicBezTo>
                  <a:pt x="7309" y="102"/>
                  <a:pt x="9162" y="0"/>
                  <a:pt x="9471" y="205"/>
                </a:cubicBezTo>
                <a:lnTo>
                  <a:pt x="10397" y="720"/>
                </a:lnTo>
                <a:lnTo>
                  <a:pt x="10912" y="1544"/>
                </a:lnTo>
                <a:lnTo>
                  <a:pt x="11015" y="205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899640" y="5444640"/>
            <a:ext cx="720180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9" name=""/>
          <p:cNvCxnSpPr/>
          <p:nvPr/>
        </p:nvCxnSpPr>
        <p:spPr>
          <a:xfrm>
            <a:off x="899640" y="6093000"/>
            <a:ext cx="72018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0" name=""/>
          <p:cNvCxnSpPr/>
          <p:nvPr/>
        </p:nvCxnSpPr>
        <p:spPr>
          <a:xfrm>
            <a:off x="255744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1" name=""/>
          <p:cNvCxnSpPr/>
          <p:nvPr/>
        </p:nvCxnSpPr>
        <p:spPr>
          <a:xfrm>
            <a:off x="3149640" y="5446800"/>
            <a:ext cx="2160" cy="6307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2" name=""/>
          <p:cNvCxnSpPr/>
          <p:nvPr/>
        </p:nvCxnSpPr>
        <p:spPr>
          <a:xfrm>
            <a:off x="196380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3" name=""/>
          <p:cNvCxnSpPr/>
          <p:nvPr/>
        </p:nvCxnSpPr>
        <p:spPr>
          <a:xfrm>
            <a:off x="3742920" y="5446800"/>
            <a:ext cx="2520" cy="63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4" name=""/>
          <p:cNvCxnSpPr/>
          <p:nvPr/>
        </p:nvCxnSpPr>
        <p:spPr>
          <a:xfrm>
            <a:off x="53737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5" name=""/>
          <p:cNvCxnSpPr/>
          <p:nvPr/>
        </p:nvCxnSpPr>
        <p:spPr>
          <a:xfrm>
            <a:off x="59659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6" name=""/>
          <p:cNvCxnSpPr/>
          <p:nvPr/>
        </p:nvCxnSpPr>
        <p:spPr>
          <a:xfrm>
            <a:off x="655956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7" name=""/>
          <p:cNvCxnSpPr/>
          <p:nvPr/>
        </p:nvCxnSpPr>
        <p:spPr>
          <a:xfrm>
            <a:off x="7114680" y="5447880"/>
            <a:ext cx="2520" cy="63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8" name=""/>
          <p:cNvCxnSpPr/>
          <p:nvPr/>
        </p:nvCxnSpPr>
        <p:spPr>
          <a:xfrm>
            <a:off x="767088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59" name=""/>
          <p:cNvSpPr/>
          <p:nvPr/>
        </p:nvSpPr>
        <p:spPr>
          <a:xfrm>
            <a:off x="4354920" y="5502240"/>
            <a:ext cx="5342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41280" y="5502240"/>
            <a:ext cx="594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41720" y="5057640"/>
            <a:ext cx="4921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73760" y="5095800"/>
            <a:ext cx="4078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3400" y="1557360"/>
            <a:ext cx="7681680" cy="29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t x = 0, y = 1, z = 2;/* globales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t *ip;     /* ip es puntero a entero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&amp;x;    /* ip apunta al entero x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x es ahora 1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ip = ip + 1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/* ip apunta ahora a y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y es ahora 2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ip + 1;   /* ip apunta ahora a z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z es ahora 3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29240" y="5113440"/>
            <a:ext cx="4827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1468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31880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985080" y="5114880"/>
            <a:ext cx="4824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7016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4880" y="323640"/>
            <a:ext cx="7772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ritmética de punteros (cont.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871720" y="4613400"/>
            <a:ext cx="3965760" cy="1185840"/>
          </a:xfrm>
          <a:custGeom>
            <a:avLst/>
            <a:gdLst/>
            <a:ahLst/>
            <a:rect l="l" t="t" r="r" b="b"/>
            <a:pathLst>
              <a:path w="11016" h="3295">
                <a:moveTo>
                  <a:pt x="0" y="3294"/>
                </a:moveTo>
                <a:cubicBezTo>
                  <a:pt x="103" y="2573"/>
                  <a:pt x="976" y="353"/>
                  <a:pt x="1544" y="206"/>
                </a:cubicBezTo>
                <a:cubicBezTo>
                  <a:pt x="2092" y="64"/>
                  <a:pt x="2744" y="0"/>
                  <a:pt x="3294" y="0"/>
                </a:cubicBezTo>
                <a:cubicBezTo>
                  <a:pt x="3844" y="0"/>
                  <a:pt x="4323" y="0"/>
                  <a:pt x="4838" y="0"/>
                </a:cubicBezTo>
                <a:cubicBezTo>
                  <a:pt x="5384" y="0"/>
                  <a:pt x="6073" y="0"/>
                  <a:pt x="6691" y="51"/>
                </a:cubicBezTo>
                <a:cubicBezTo>
                  <a:pt x="7309" y="102"/>
                  <a:pt x="9162" y="0"/>
                  <a:pt x="9471" y="205"/>
                </a:cubicBezTo>
                <a:lnTo>
                  <a:pt x="10397" y="720"/>
                </a:lnTo>
                <a:lnTo>
                  <a:pt x="10912" y="1544"/>
                </a:lnTo>
                <a:lnTo>
                  <a:pt x="11015" y="205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>
            <a:off x="971640" y="5444640"/>
            <a:ext cx="7130160" cy="2520"/>
          </a:xfrm>
          <a:prstGeom prst="bentConnector3">
            <a:avLst>
              <a:gd name="adj1" fmla="val 499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2" name=""/>
          <p:cNvCxnSpPr/>
          <p:nvPr/>
        </p:nvCxnSpPr>
        <p:spPr>
          <a:xfrm>
            <a:off x="971640" y="6093000"/>
            <a:ext cx="7130160" cy="2160"/>
          </a:xfrm>
          <a:prstGeom prst="bentConnector3">
            <a:avLst>
              <a:gd name="adj1" fmla="val 499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/>
          <p:nvPr/>
        </p:nvCxnSpPr>
        <p:spPr>
          <a:xfrm>
            <a:off x="255744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" name=""/>
          <p:cNvCxnSpPr/>
          <p:nvPr/>
        </p:nvCxnSpPr>
        <p:spPr>
          <a:xfrm>
            <a:off x="3149640" y="5446800"/>
            <a:ext cx="2160" cy="6307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/>
          <p:nvPr/>
        </p:nvCxnSpPr>
        <p:spPr>
          <a:xfrm>
            <a:off x="196380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/>
          <p:nvPr/>
        </p:nvCxnSpPr>
        <p:spPr>
          <a:xfrm>
            <a:off x="3742920" y="5446800"/>
            <a:ext cx="2520" cy="63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/>
          <p:nvPr/>
        </p:nvCxnSpPr>
        <p:spPr>
          <a:xfrm>
            <a:off x="53737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/>
          <p:nvPr/>
        </p:nvCxnSpPr>
        <p:spPr>
          <a:xfrm>
            <a:off x="59659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/>
          <p:nvPr/>
        </p:nvCxnSpPr>
        <p:spPr>
          <a:xfrm>
            <a:off x="655956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/>
          <p:nvPr/>
        </p:nvCxnSpPr>
        <p:spPr>
          <a:xfrm>
            <a:off x="7114680" y="5447880"/>
            <a:ext cx="2520" cy="63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/>
          <p:nvPr/>
        </p:nvCxnSpPr>
        <p:spPr>
          <a:xfrm>
            <a:off x="767088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82" name=""/>
          <p:cNvSpPr/>
          <p:nvPr/>
        </p:nvSpPr>
        <p:spPr>
          <a:xfrm>
            <a:off x="4354920" y="5502240"/>
            <a:ext cx="5342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41280" y="5502240"/>
            <a:ext cx="594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41720" y="5057640"/>
            <a:ext cx="4921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73760" y="5095800"/>
            <a:ext cx="4078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3400" y="1557360"/>
            <a:ext cx="7681680" cy="29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t x = 0, y = 1, z = 2;/* globales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t *ip;     /* ip es puntero a entero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&amp;x;    /* ip apunta al entero x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x es ahora 1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ip + 1;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/* ip apunta ahora a y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*ip = *ip + 1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y es ahora 2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ip + 1;   /* ip apunta ahora a z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z es ahora 3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29240" y="5113440"/>
            <a:ext cx="4827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1468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1880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85080" y="5114880"/>
            <a:ext cx="4824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7016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04880" y="323640"/>
            <a:ext cx="7772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ritmética de punteros (cont.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572160" y="626760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04880" y="324000"/>
            <a:ext cx="7772400" cy="761760"/>
            <a:chOff x="704880" y="324000"/>
            <a:chExt cx="7772400" cy="761760"/>
          </a:xfrm>
        </p:grpSpPr>
        <p:sp>
          <p:nvSpPr>
            <p:cNvPr id="41" name=""/>
            <p:cNvSpPr/>
            <p:nvPr/>
          </p:nvSpPr>
          <p:spPr>
            <a:xfrm>
              <a:off x="704880" y="324000"/>
              <a:ext cx="7772400" cy="761760"/>
            </a:xfrm>
            <a:prstGeom prst="roundRect">
              <a:avLst>
                <a:gd name="adj" fmla="val 208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04880" y="383400"/>
              <a:ext cx="777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omic Sans MS"/>
                </a:rPr>
                <a:t>Intercambio con error ¿porqué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" name=""/>
          <p:cNvGrpSpPr/>
          <p:nvPr/>
        </p:nvGrpSpPr>
        <p:grpSpPr>
          <a:xfrm>
            <a:off x="704880" y="1162080"/>
            <a:ext cx="7772400" cy="5060880"/>
            <a:chOff x="704880" y="1162080"/>
            <a:chExt cx="7772400" cy="5060880"/>
          </a:xfrm>
        </p:grpSpPr>
        <p:sp>
          <p:nvSpPr>
            <p:cNvPr id="44" name=""/>
            <p:cNvSpPr/>
            <p:nvPr/>
          </p:nvSpPr>
          <p:spPr>
            <a:xfrm>
              <a:off x="704880" y="1162080"/>
              <a:ext cx="7772400" cy="5060880"/>
            </a:xfrm>
            <a:prstGeom prst="roundRect">
              <a:avLst>
                <a:gd name="adj" fmla="val 2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4880" y="1162080"/>
              <a:ext cx="7772400" cy="459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9840" indent="-339840">
                <a:lnSpc>
                  <a:spcPct val="92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#include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&lt;stdio.h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void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GB" sz="1600" spc="-1" strike="noStrike">
                  <a:solidFill>
                    <a:srgbClr val="ff0000"/>
                  </a:solidFill>
                  <a:latin typeface="Courier New"/>
                </a:rPr>
                <a:t>intercambio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in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, 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in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);       /* prototipo 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main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(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in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a=1,b=2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   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printf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ff0000"/>
                  </a:solidFill>
                  <a:latin typeface="Courier New"/>
                </a:rPr>
                <a:t>intercambio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(a,b);              /* llamada 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   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printf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return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0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void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GB" sz="1600" spc="-1" strike="noStrike">
                  <a:solidFill>
                    <a:srgbClr val="ff0000"/>
                  </a:solidFill>
                  <a:latin typeface="Courier New"/>
                </a:rPr>
                <a:t>intercambio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in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x, 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in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y){   /* declaración formal 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in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te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temp=x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x=y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y=temp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“ x=%d y=%d\n“,x,y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946240" y="4576680"/>
            <a:ext cx="4448160" cy="1224000"/>
          </a:xfrm>
          <a:custGeom>
            <a:avLst/>
            <a:gdLst/>
            <a:ahLst/>
            <a:rect l="l" t="t" r="r" b="b"/>
            <a:pathLst>
              <a:path w="12356" h="3400">
                <a:moveTo>
                  <a:pt x="0" y="3399"/>
                </a:moveTo>
                <a:cubicBezTo>
                  <a:pt x="103" y="2678"/>
                  <a:pt x="976" y="457"/>
                  <a:pt x="1544" y="310"/>
                </a:cubicBezTo>
                <a:cubicBezTo>
                  <a:pt x="2092" y="168"/>
                  <a:pt x="2744" y="104"/>
                  <a:pt x="3294" y="104"/>
                </a:cubicBezTo>
                <a:cubicBezTo>
                  <a:pt x="3844" y="104"/>
                  <a:pt x="4324" y="104"/>
                  <a:pt x="4839" y="104"/>
                </a:cubicBezTo>
                <a:cubicBezTo>
                  <a:pt x="5385" y="104"/>
                  <a:pt x="6074" y="104"/>
                  <a:pt x="6692" y="155"/>
                </a:cubicBezTo>
                <a:cubicBezTo>
                  <a:pt x="7310" y="206"/>
                  <a:pt x="9781" y="0"/>
                  <a:pt x="10090" y="206"/>
                </a:cubicBezTo>
                <a:lnTo>
                  <a:pt x="11428" y="618"/>
                </a:lnTo>
                <a:lnTo>
                  <a:pt x="12252" y="1545"/>
                </a:lnTo>
                <a:lnTo>
                  <a:pt x="12355" y="2163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"/>
          <p:cNvCxnSpPr/>
          <p:nvPr/>
        </p:nvCxnSpPr>
        <p:spPr>
          <a:xfrm>
            <a:off x="899640" y="5444640"/>
            <a:ext cx="720180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5" name=""/>
          <p:cNvCxnSpPr/>
          <p:nvPr/>
        </p:nvCxnSpPr>
        <p:spPr>
          <a:xfrm>
            <a:off x="899640" y="6093000"/>
            <a:ext cx="727308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6" name=""/>
          <p:cNvCxnSpPr/>
          <p:nvPr/>
        </p:nvCxnSpPr>
        <p:spPr>
          <a:xfrm>
            <a:off x="255744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"/>
          <p:cNvCxnSpPr/>
          <p:nvPr/>
        </p:nvCxnSpPr>
        <p:spPr>
          <a:xfrm>
            <a:off x="3149640" y="5446800"/>
            <a:ext cx="2160" cy="6307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>
            <a:off x="196380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9" name=""/>
          <p:cNvCxnSpPr/>
          <p:nvPr/>
        </p:nvCxnSpPr>
        <p:spPr>
          <a:xfrm>
            <a:off x="3742920" y="5446800"/>
            <a:ext cx="2520" cy="63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0" name=""/>
          <p:cNvCxnSpPr/>
          <p:nvPr/>
        </p:nvCxnSpPr>
        <p:spPr>
          <a:xfrm>
            <a:off x="53737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1" name=""/>
          <p:cNvCxnSpPr/>
          <p:nvPr/>
        </p:nvCxnSpPr>
        <p:spPr>
          <a:xfrm>
            <a:off x="59659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2" name=""/>
          <p:cNvCxnSpPr/>
          <p:nvPr/>
        </p:nvCxnSpPr>
        <p:spPr>
          <a:xfrm>
            <a:off x="655956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3" name=""/>
          <p:cNvCxnSpPr/>
          <p:nvPr/>
        </p:nvCxnSpPr>
        <p:spPr>
          <a:xfrm>
            <a:off x="7114680" y="5447880"/>
            <a:ext cx="2520" cy="63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4" name=""/>
          <p:cNvCxnSpPr/>
          <p:nvPr/>
        </p:nvCxnSpPr>
        <p:spPr>
          <a:xfrm>
            <a:off x="767088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05" name=""/>
          <p:cNvSpPr/>
          <p:nvPr/>
        </p:nvSpPr>
        <p:spPr>
          <a:xfrm>
            <a:off x="4354920" y="5502240"/>
            <a:ext cx="5342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41280" y="5502240"/>
            <a:ext cx="594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41720" y="5057640"/>
            <a:ext cx="4921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73760" y="5095800"/>
            <a:ext cx="4078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3400" y="1557360"/>
            <a:ext cx="7681680" cy="29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t x = 0, y = 1, z = 2;/* globales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t *ip;     /* ip es puntero a entero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&amp;x;    /* ip apunta al entero x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x es ahora 1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ip + 1;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/* ip apunta ahora a y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y es ahora 2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ip = ip + 1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/* ip apunta ahora a z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z es ahora 3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29240" y="5113440"/>
            <a:ext cx="4827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21468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31880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85080" y="5114880"/>
            <a:ext cx="4824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7016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04880" y="323640"/>
            <a:ext cx="7772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ritmética de punteros (cont.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22160" y="285480"/>
            <a:ext cx="7772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ritmética de punteros (fin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17" name=""/>
          <p:cNvSpPr/>
          <p:nvPr/>
        </p:nvSpPr>
        <p:spPr>
          <a:xfrm>
            <a:off x="2908440" y="4576680"/>
            <a:ext cx="4448160" cy="1224000"/>
          </a:xfrm>
          <a:custGeom>
            <a:avLst/>
            <a:gdLst/>
            <a:ahLst/>
            <a:rect l="l" t="t" r="r" b="b"/>
            <a:pathLst>
              <a:path w="12356" h="3400">
                <a:moveTo>
                  <a:pt x="0" y="3399"/>
                </a:moveTo>
                <a:cubicBezTo>
                  <a:pt x="103" y="2678"/>
                  <a:pt x="976" y="457"/>
                  <a:pt x="1544" y="310"/>
                </a:cubicBezTo>
                <a:cubicBezTo>
                  <a:pt x="2092" y="168"/>
                  <a:pt x="2744" y="104"/>
                  <a:pt x="3294" y="104"/>
                </a:cubicBezTo>
                <a:cubicBezTo>
                  <a:pt x="3844" y="104"/>
                  <a:pt x="4324" y="104"/>
                  <a:pt x="4839" y="104"/>
                </a:cubicBezTo>
                <a:cubicBezTo>
                  <a:pt x="5385" y="104"/>
                  <a:pt x="6074" y="104"/>
                  <a:pt x="6692" y="155"/>
                </a:cubicBezTo>
                <a:cubicBezTo>
                  <a:pt x="7310" y="206"/>
                  <a:pt x="9781" y="0"/>
                  <a:pt x="10090" y="206"/>
                </a:cubicBezTo>
                <a:lnTo>
                  <a:pt x="11428" y="618"/>
                </a:lnTo>
                <a:lnTo>
                  <a:pt x="12252" y="1545"/>
                </a:lnTo>
                <a:lnTo>
                  <a:pt x="12355" y="216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" name=""/>
          <p:cNvCxnSpPr/>
          <p:nvPr/>
        </p:nvCxnSpPr>
        <p:spPr>
          <a:xfrm>
            <a:off x="971640" y="5444640"/>
            <a:ext cx="7201440" cy="2520"/>
          </a:xfrm>
          <a:prstGeom prst="bentConnector3">
            <a:avLst>
              <a:gd name="adj1" fmla="val 499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/>
          <p:nvPr/>
        </p:nvCxnSpPr>
        <p:spPr>
          <a:xfrm>
            <a:off x="971640" y="6093000"/>
            <a:ext cx="7201440" cy="2160"/>
          </a:xfrm>
          <a:prstGeom prst="bentConnector3">
            <a:avLst>
              <a:gd name="adj1" fmla="val 499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/>
          <p:nvPr/>
        </p:nvCxnSpPr>
        <p:spPr>
          <a:xfrm>
            <a:off x="255744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/>
          <p:nvPr/>
        </p:nvCxnSpPr>
        <p:spPr>
          <a:xfrm>
            <a:off x="3149640" y="5446800"/>
            <a:ext cx="2160" cy="6307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2" name=""/>
          <p:cNvCxnSpPr/>
          <p:nvPr/>
        </p:nvCxnSpPr>
        <p:spPr>
          <a:xfrm>
            <a:off x="196380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/>
          <p:nvPr/>
        </p:nvCxnSpPr>
        <p:spPr>
          <a:xfrm>
            <a:off x="3742920" y="5446800"/>
            <a:ext cx="2520" cy="63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4" name=""/>
          <p:cNvCxnSpPr/>
          <p:nvPr/>
        </p:nvCxnSpPr>
        <p:spPr>
          <a:xfrm>
            <a:off x="53737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5" name=""/>
          <p:cNvCxnSpPr/>
          <p:nvPr/>
        </p:nvCxnSpPr>
        <p:spPr>
          <a:xfrm>
            <a:off x="59659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6" name=""/>
          <p:cNvCxnSpPr/>
          <p:nvPr/>
        </p:nvCxnSpPr>
        <p:spPr>
          <a:xfrm>
            <a:off x="655956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7" name=""/>
          <p:cNvCxnSpPr/>
          <p:nvPr/>
        </p:nvCxnSpPr>
        <p:spPr>
          <a:xfrm>
            <a:off x="7114680" y="5447880"/>
            <a:ext cx="2520" cy="63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8" name=""/>
          <p:cNvCxnSpPr/>
          <p:nvPr/>
        </p:nvCxnSpPr>
        <p:spPr>
          <a:xfrm>
            <a:off x="767088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29" name=""/>
          <p:cNvSpPr/>
          <p:nvPr/>
        </p:nvSpPr>
        <p:spPr>
          <a:xfrm>
            <a:off x="4354920" y="5502240"/>
            <a:ext cx="5342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41280" y="5502240"/>
            <a:ext cx="594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41720" y="5057640"/>
            <a:ext cx="4921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73760" y="5095800"/>
            <a:ext cx="4078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33400" y="1557360"/>
            <a:ext cx="7681680" cy="29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t x = 0, y = 1, z = 2;/* globales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t *ip;     /* ip es puntero a entero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&amp;x;    /* ip apunta al entero x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x es ahora 1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ip + 1;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/* ip apunta ahora a y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*ip + 1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y es ahora 2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ip + 1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/* ip apunta ahora a z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*ip = *ip + 1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/* z es ahora 3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29240" y="5113440"/>
            <a:ext cx="4827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1468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1880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985080" y="5114880"/>
            <a:ext cx="4824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7016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22160" y="285480"/>
            <a:ext cx="7772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Otra imagen de puntero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2908440" y="2523960"/>
            <a:ext cx="4448160" cy="1224000"/>
          </a:xfrm>
          <a:custGeom>
            <a:avLst/>
            <a:gdLst/>
            <a:ahLst/>
            <a:rect l="l" t="t" r="r" b="b"/>
            <a:pathLst>
              <a:path w="12356" h="3400">
                <a:moveTo>
                  <a:pt x="0" y="3399"/>
                </a:moveTo>
                <a:cubicBezTo>
                  <a:pt x="103" y="2678"/>
                  <a:pt x="976" y="457"/>
                  <a:pt x="1544" y="310"/>
                </a:cubicBezTo>
                <a:cubicBezTo>
                  <a:pt x="2092" y="168"/>
                  <a:pt x="2744" y="104"/>
                  <a:pt x="3294" y="104"/>
                </a:cubicBezTo>
                <a:cubicBezTo>
                  <a:pt x="3844" y="104"/>
                  <a:pt x="4324" y="104"/>
                  <a:pt x="4839" y="104"/>
                </a:cubicBezTo>
                <a:cubicBezTo>
                  <a:pt x="5385" y="104"/>
                  <a:pt x="6074" y="104"/>
                  <a:pt x="6692" y="155"/>
                </a:cubicBezTo>
                <a:cubicBezTo>
                  <a:pt x="7310" y="206"/>
                  <a:pt x="9781" y="0"/>
                  <a:pt x="10090" y="206"/>
                </a:cubicBezTo>
                <a:lnTo>
                  <a:pt x="11428" y="618"/>
                </a:lnTo>
                <a:lnTo>
                  <a:pt x="12252" y="1545"/>
                </a:lnTo>
                <a:lnTo>
                  <a:pt x="12355" y="216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/>
          <p:nvPr/>
        </p:nvCxnSpPr>
        <p:spPr>
          <a:xfrm>
            <a:off x="971640" y="3392640"/>
            <a:ext cx="7201440" cy="2160"/>
          </a:xfrm>
          <a:prstGeom prst="bentConnector3">
            <a:avLst>
              <a:gd name="adj1" fmla="val 499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/>
          <p:nvPr/>
        </p:nvCxnSpPr>
        <p:spPr>
          <a:xfrm>
            <a:off x="971640" y="4041360"/>
            <a:ext cx="7201440" cy="2520"/>
          </a:xfrm>
          <a:prstGeom prst="bentConnector3">
            <a:avLst>
              <a:gd name="adj1" fmla="val 499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/>
          <p:nvPr/>
        </p:nvCxnSpPr>
        <p:spPr>
          <a:xfrm>
            <a:off x="2557440" y="339516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4" name=""/>
          <p:cNvCxnSpPr/>
          <p:nvPr/>
        </p:nvCxnSpPr>
        <p:spPr>
          <a:xfrm>
            <a:off x="3149640" y="339372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5" name=""/>
          <p:cNvCxnSpPr/>
          <p:nvPr/>
        </p:nvCxnSpPr>
        <p:spPr>
          <a:xfrm>
            <a:off x="1963800" y="339516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6" name=""/>
          <p:cNvCxnSpPr/>
          <p:nvPr/>
        </p:nvCxnSpPr>
        <p:spPr>
          <a:xfrm>
            <a:off x="3742920" y="3393720"/>
            <a:ext cx="2520" cy="63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/>
          <p:nvPr/>
        </p:nvCxnSpPr>
        <p:spPr>
          <a:xfrm>
            <a:off x="5373720" y="339516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8" name=""/>
          <p:cNvCxnSpPr/>
          <p:nvPr/>
        </p:nvCxnSpPr>
        <p:spPr>
          <a:xfrm>
            <a:off x="5965920" y="339516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9" name=""/>
          <p:cNvCxnSpPr/>
          <p:nvPr/>
        </p:nvCxnSpPr>
        <p:spPr>
          <a:xfrm>
            <a:off x="6559560" y="339516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0" name=""/>
          <p:cNvCxnSpPr/>
          <p:nvPr/>
        </p:nvCxnSpPr>
        <p:spPr>
          <a:xfrm>
            <a:off x="7114680" y="3395160"/>
            <a:ext cx="2520" cy="63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1" name=""/>
          <p:cNvCxnSpPr/>
          <p:nvPr/>
        </p:nvCxnSpPr>
        <p:spPr>
          <a:xfrm>
            <a:off x="7670880" y="339516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2" name=""/>
          <p:cNvSpPr/>
          <p:nvPr/>
        </p:nvSpPr>
        <p:spPr>
          <a:xfrm>
            <a:off x="4354920" y="3449520"/>
            <a:ext cx="5342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41280" y="3449520"/>
            <a:ext cx="594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41720" y="3005280"/>
            <a:ext cx="4921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73760" y="3043080"/>
            <a:ext cx="4078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29240" y="3060720"/>
            <a:ext cx="4827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214680" y="356220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18800" y="356220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985080" y="3062160"/>
            <a:ext cx="4824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70160" y="356220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22160" y="285480"/>
            <a:ext cx="7772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Otra imágen de puntero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cxnSp>
        <p:nvCxnSpPr>
          <p:cNvPr id="462" name=""/>
          <p:cNvCxnSpPr/>
          <p:nvPr/>
        </p:nvCxnSpPr>
        <p:spPr>
          <a:xfrm>
            <a:off x="971640" y="3392640"/>
            <a:ext cx="7201440" cy="2160"/>
          </a:xfrm>
          <a:prstGeom prst="bentConnector3">
            <a:avLst>
              <a:gd name="adj1" fmla="val 499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3" name=""/>
          <p:cNvCxnSpPr/>
          <p:nvPr/>
        </p:nvCxnSpPr>
        <p:spPr>
          <a:xfrm>
            <a:off x="971640" y="4041360"/>
            <a:ext cx="7201440" cy="2520"/>
          </a:xfrm>
          <a:prstGeom prst="bentConnector3">
            <a:avLst>
              <a:gd name="adj1" fmla="val 499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4" name=""/>
          <p:cNvCxnSpPr/>
          <p:nvPr/>
        </p:nvCxnSpPr>
        <p:spPr>
          <a:xfrm>
            <a:off x="5373720" y="339516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5" name=""/>
          <p:cNvCxnSpPr/>
          <p:nvPr/>
        </p:nvCxnSpPr>
        <p:spPr>
          <a:xfrm>
            <a:off x="5965920" y="339516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/>
          <p:nvPr/>
        </p:nvCxnSpPr>
        <p:spPr>
          <a:xfrm>
            <a:off x="6559560" y="339516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7" name=""/>
          <p:cNvCxnSpPr/>
          <p:nvPr/>
        </p:nvCxnSpPr>
        <p:spPr>
          <a:xfrm>
            <a:off x="7114680" y="3395160"/>
            <a:ext cx="2520" cy="63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8" name=""/>
          <p:cNvCxnSpPr/>
          <p:nvPr/>
        </p:nvCxnSpPr>
        <p:spPr>
          <a:xfrm>
            <a:off x="7670880" y="339516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2093760" y="3452760"/>
            <a:ext cx="24829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742080" y="2178000"/>
            <a:ext cx="4921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73760" y="3043080"/>
            <a:ext cx="4078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29240" y="3060720"/>
            <a:ext cx="4827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214680" y="356220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318800" y="356220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985080" y="3062160"/>
            <a:ext cx="4824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70160" y="356220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948360" y="2575080"/>
            <a:ext cx="444600" cy="74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6572160" y="626760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04880" y="324000"/>
            <a:ext cx="7772400" cy="761760"/>
            <a:chOff x="704880" y="324000"/>
            <a:chExt cx="7772400" cy="761760"/>
          </a:xfrm>
        </p:grpSpPr>
        <p:sp>
          <p:nvSpPr>
            <p:cNvPr id="480" name=""/>
            <p:cNvSpPr/>
            <p:nvPr/>
          </p:nvSpPr>
          <p:spPr>
            <a:xfrm>
              <a:off x="704880" y="324000"/>
              <a:ext cx="7772400" cy="761760"/>
            </a:xfrm>
            <a:prstGeom prst="roundRect">
              <a:avLst>
                <a:gd name="adj" fmla="val 208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04880" y="383400"/>
              <a:ext cx="777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omic Sans MS"/>
                </a:rPr>
                <a:t>Intercambio sin err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704880" y="1162080"/>
            <a:ext cx="7772400" cy="5060880"/>
            <a:chOff x="704880" y="1162080"/>
            <a:chExt cx="7772400" cy="5060880"/>
          </a:xfrm>
        </p:grpSpPr>
        <p:sp>
          <p:nvSpPr>
            <p:cNvPr id="483" name=""/>
            <p:cNvSpPr/>
            <p:nvPr/>
          </p:nvSpPr>
          <p:spPr>
            <a:xfrm>
              <a:off x="704880" y="1162080"/>
              <a:ext cx="7772400" cy="5060880"/>
            </a:xfrm>
            <a:prstGeom prst="roundRect">
              <a:avLst>
                <a:gd name="adj" fmla="val 2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04880" y="1162080"/>
              <a:ext cx="7772400" cy="43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9840" indent="-339840">
                <a:lnSpc>
                  <a:spcPct val="92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#include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&lt;stdio.h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void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GB" sz="1600" spc="-1" strike="noStrike">
                  <a:solidFill>
                    <a:srgbClr val="ff0000"/>
                  </a:solidFill>
                  <a:latin typeface="Courier New"/>
                </a:rPr>
                <a:t>intercambio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int *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, 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int *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);       /* prototipo 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main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(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in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a=1,b=2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   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printf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ff0000"/>
                  </a:solidFill>
                  <a:latin typeface="Courier New"/>
                </a:rPr>
                <a:t>intercambio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(&amp;a,&amp;b);              /* llamada 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   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printf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return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0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void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GB" sz="1600" spc="-1" strike="noStrike">
                  <a:solidFill>
                    <a:srgbClr val="ff0000"/>
                  </a:solidFill>
                  <a:latin typeface="Courier New"/>
                </a:rPr>
                <a:t>intercambio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in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*x, 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in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*y){   /* declaración formal 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in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te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temp=*x;       // *x, *y son nombres alternativos de a y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*x=*y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*y=temp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72160" y="626760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04880" y="324000"/>
            <a:ext cx="7772400" cy="761760"/>
            <a:chOff x="704880" y="324000"/>
            <a:chExt cx="7772400" cy="761760"/>
          </a:xfrm>
        </p:grpSpPr>
        <p:sp>
          <p:nvSpPr>
            <p:cNvPr id="48" name=""/>
            <p:cNvSpPr/>
            <p:nvPr/>
          </p:nvSpPr>
          <p:spPr>
            <a:xfrm>
              <a:off x="704880" y="324000"/>
              <a:ext cx="7772400" cy="761760"/>
            </a:xfrm>
            <a:prstGeom prst="roundRect">
              <a:avLst>
                <a:gd name="adj" fmla="val 208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4880" y="383400"/>
              <a:ext cx="777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Comic Sans MS"/>
                </a:rPr>
                <a:t>Intercambio con error ¿porqué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704880" y="1162080"/>
            <a:ext cx="7772400" cy="5060880"/>
            <a:chOff x="704880" y="1162080"/>
            <a:chExt cx="7772400" cy="5060880"/>
          </a:xfrm>
        </p:grpSpPr>
        <p:sp>
          <p:nvSpPr>
            <p:cNvPr id="51" name=""/>
            <p:cNvSpPr/>
            <p:nvPr/>
          </p:nvSpPr>
          <p:spPr>
            <a:xfrm>
              <a:off x="704880" y="1162080"/>
              <a:ext cx="7772400" cy="5060880"/>
            </a:xfrm>
            <a:prstGeom prst="roundRect">
              <a:avLst>
                <a:gd name="adj" fmla="val 2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4880" y="1162080"/>
              <a:ext cx="7772400" cy="459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9840" indent="-339840">
                <a:lnSpc>
                  <a:spcPct val="92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#include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&lt;stdio.h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void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GB" sz="1600" spc="-1" strike="noStrike">
                  <a:solidFill>
                    <a:srgbClr val="ff0000"/>
                  </a:solidFill>
                  <a:latin typeface="Courier New"/>
                </a:rPr>
                <a:t>intercambio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in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, 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in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);       /* prototipo 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main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(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in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a=1,b=2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   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printf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ff0000"/>
                  </a:solidFill>
                  <a:latin typeface="Courier New"/>
                </a:rPr>
                <a:t>intercambio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(a,b);              /* llamada 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   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printf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("a=%d b=%d\n",a,b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return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0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void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GB" sz="1600" spc="-1" strike="noStrike">
                  <a:solidFill>
                    <a:srgbClr val="ff0000"/>
                  </a:solidFill>
                  <a:latin typeface="Courier New"/>
                </a:rPr>
                <a:t>intercambio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in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x, 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in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y){   /* declaración formal 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in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te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temp=x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x=y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y=temp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“ x=%d y=%d\n“,x,y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97000"/>
                </a:lnSpc>
                <a:spcBef>
                  <a:spcPts val="388"/>
                </a:spcBef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704960" y="2714400"/>
            <a:ext cx="6040440" cy="1981800"/>
          </a:xfrm>
          <a:prstGeom prst="roundRect">
            <a:avLst>
              <a:gd name="adj" fmla="val 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rque se pasan parámetros por valor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ución: pasar parámetros por referenci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&gt; usar punteros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63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efinición y operador &amp;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7200" y="1692360"/>
            <a:ext cx="77724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ntero es una variable cuyo contenido es la dirección de una variable. (apunta a una variable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jemplo: sea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una variable de tipo puntero y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una variable de cualquier tipo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4354560" y="5046840"/>
            <a:ext cx="10936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 = &amp;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1440" y="5692680"/>
            <a:ext cx="81921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operador unario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ntrega la dirección del objeto que le suce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3448080"/>
            <a:ext cx="3409920" cy="1204920"/>
          </a:xfrm>
          <a:custGeom>
            <a:avLst/>
            <a:gdLst/>
            <a:ahLst/>
            <a:rect l="l" t="t" r="r" b="b"/>
            <a:pathLst>
              <a:path w="9472" h="3347">
                <a:moveTo>
                  <a:pt x="0" y="3346"/>
                </a:moveTo>
                <a:cubicBezTo>
                  <a:pt x="103" y="2625"/>
                  <a:pt x="976" y="405"/>
                  <a:pt x="1544" y="258"/>
                </a:cubicBezTo>
                <a:cubicBezTo>
                  <a:pt x="2092" y="116"/>
                  <a:pt x="2744" y="52"/>
                  <a:pt x="3294" y="52"/>
                </a:cubicBezTo>
                <a:cubicBezTo>
                  <a:pt x="3844" y="52"/>
                  <a:pt x="4323" y="52"/>
                  <a:pt x="4839" y="52"/>
                </a:cubicBezTo>
                <a:cubicBezTo>
                  <a:pt x="5385" y="52"/>
                  <a:pt x="6074" y="52"/>
                  <a:pt x="6692" y="103"/>
                </a:cubicBezTo>
                <a:cubicBezTo>
                  <a:pt x="7310" y="154"/>
                  <a:pt x="7618" y="0"/>
                  <a:pt x="7927" y="206"/>
                </a:cubicBezTo>
                <a:lnTo>
                  <a:pt x="9059" y="978"/>
                </a:lnTo>
                <a:lnTo>
                  <a:pt x="9368" y="1905"/>
                </a:lnTo>
                <a:lnTo>
                  <a:pt x="9471" y="221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287360" y="3967200"/>
            <a:ext cx="7274520" cy="1004760"/>
            <a:chOff x="1287360" y="3967200"/>
            <a:chExt cx="7274520" cy="1004760"/>
          </a:xfrm>
        </p:grpSpPr>
        <p:cxnSp>
          <p:nvCxnSpPr>
            <p:cNvPr id="60" name=""/>
            <p:cNvCxnSpPr/>
            <p:nvPr/>
          </p:nvCxnSpPr>
          <p:spPr>
            <a:xfrm>
              <a:off x="1287360" y="4311720"/>
              <a:ext cx="7274880" cy="2160"/>
            </a:xfrm>
            <a:prstGeom prst="bentConnector3">
              <a:avLst>
                <a:gd name="adj1" fmla="val 4999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"/>
            <p:cNvCxnSpPr/>
            <p:nvPr/>
          </p:nvCxnSpPr>
          <p:spPr>
            <a:xfrm>
              <a:off x="2886120" y="4325400"/>
              <a:ext cx="2160" cy="631080"/>
            </a:xfrm>
            <a:prstGeom prst="bentConnector3">
              <a:avLst>
                <a:gd name="adj1" fmla="val 4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2" name=""/>
            <p:cNvCxnSpPr/>
            <p:nvPr/>
          </p:nvCxnSpPr>
          <p:spPr>
            <a:xfrm>
              <a:off x="3511080" y="4325400"/>
              <a:ext cx="2520" cy="631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" name=""/>
            <p:cNvCxnSpPr/>
            <p:nvPr/>
          </p:nvCxnSpPr>
          <p:spPr>
            <a:xfrm>
              <a:off x="2340000" y="4325400"/>
              <a:ext cx="2160" cy="631080"/>
            </a:xfrm>
            <a:prstGeom prst="bentConnector3">
              <a:avLst>
                <a:gd name="adj1" fmla="val 4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4105440" y="4325400"/>
              <a:ext cx="2160" cy="631080"/>
            </a:xfrm>
            <a:prstGeom prst="bentConnector3">
              <a:avLst>
                <a:gd name="adj1" fmla="val 4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" name=""/>
            <p:cNvCxnSpPr/>
            <p:nvPr/>
          </p:nvCxnSpPr>
          <p:spPr>
            <a:xfrm flipV="1" rot="10800000">
              <a:off x="5726880" y="4325040"/>
              <a:ext cx="8640" cy="613440"/>
            </a:xfrm>
            <a:prstGeom prst="bentConnector3">
              <a:avLst>
                <a:gd name="adj1" fmla="val 4782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" name=""/>
            <p:cNvCxnSpPr/>
            <p:nvPr/>
          </p:nvCxnSpPr>
          <p:spPr>
            <a:xfrm>
              <a:off x="6327360" y="4325400"/>
              <a:ext cx="2520" cy="631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" name=""/>
            <p:cNvCxnSpPr/>
            <p:nvPr/>
          </p:nvCxnSpPr>
          <p:spPr>
            <a:xfrm>
              <a:off x="6921000" y="4325400"/>
              <a:ext cx="2520" cy="631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" name=""/>
            <p:cNvCxnSpPr/>
            <p:nvPr/>
          </p:nvCxnSpPr>
          <p:spPr>
            <a:xfrm flipV="1" rot="10800000">
              <a:off x="7468560" y="4325400"/>
              <a:ext cx="8640" cy="646920"/>
            </a:xfrm>
            <a:prstGeom prst="bentConnector3">
              <a:avLst>
                <a:gd name="adj1" fmla="val 4782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"/>
            <p:cNvCxnSpPr/>
            <p:nvPr/>
          </p:nvCxnSpPr>
          <p:spPr>
            <a:xfrm>
              <a:off x="8032320" y="4325400"/>
              <a:ext cx="2520" cy="631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" name=""/>
            <p:cNvSpPr/>
            <p:nvPr/>
          </p:nvSpPr>
          <p:spPr>
            <a:xfrm>
              <a:off x="4716720" y="4398840"/>
              <a:ext cx="53424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3440" y="4398840"/>
              <a:ext cx="59364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9560" y="3967200"/>
              <a:ext cx="28764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p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68960" y="4005360"/>
              <a:ext cx="40788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c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/>
            <p:nvPr/>
          </p:nvCxnSpPr>
          <p:spPr>
            <a:xfrm>
              <a:off x="1287360" y="4960440"/>
              <a:ext cx="7274880" cy="2520"/>
            </a:xfrm>
            <a:prstGeom prst="bentConnector3">
              <a:avLst>
                <a:gd name="adj1" fmla="val 4999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63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Operador *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0320" y="1355400"/>
            <a:ext cx="77724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 operador unario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permite el acceso al contenido de la dirección apuntada por la variable puntero que le sucede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frece un nombre alternativo para la variable apuntad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an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dos variables enteras,  sea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una variable  puntero que “apunta a c”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"/>
          <p:cNvSpPr/>
          <p:nvPr/>
        </p:nvSpPr>
        <p:spPr>
          <a:xfrm>
            <a:off x="4210200" y="5046840"/>
            <a:ext cx="10936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*p = 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30400" y="5886360"/>
            <a:ext cx="34113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 lo mismo que:  c = 2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 = c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3448080"/>
            <a:ext cx="3409920" cy="1204920"/>
          </a:xfrm>
          <a:custGeom>
            <a:avLst/>
            <a:gdLst/>
            <a:ahLst/>
            <a:rect l="l" t="t" r="r" b="b"/>
            <a:pathLst>
              <a:path w="9472" h="3347">
                <a:moveTo>
                  <a:pt x="0" y="3346"/>
                </a:moveTo>
                <a:cubicBezTo>
                  <a:pt x="103" y="2625"/>
                  <a:pt x="976" y="405"/>
                  <a:pt x="1544" y="258"/>
                </a:cubicBezTo>
                <a:cubicBezTo>
                  <a:pt x="2092" y="116"/>
                  <a:pt x="2744" y="52"/>
                  <a:pt x="3294" y="52"/>
                </a:cubicBezTo>
                <a:cubicBezTo>
                  <a:pt x="3844" y="52"/>
                  <a:pt x="4323" y="52"/>
                  <a:pt x="4839" y="52"/>
                </a:cubicBezTo>
                <a:cubicBezTo>
                  <a:pt x="5385" y="52"/>
                  <a:pt x="6074" y="52"/>
                  <a:pt x="6692" y="103"/>
                </a:cubicBezTo>
                <a:cubicBezTo>
                  <a:pt x="7310" y="154"/>
                  <a:pt x="7618" y="0"/>
                  <a:pt x="7927" y="206"/>
                </a:cubicBezTo>
                <a:lnTo>
                  <a:pt x="9059" y="978"/>
                </a:lnTo>
                <a:lnTo>
                  <a:pt x="9368" y="1905"/>
                </a:lnTo>
                <a:lnTo>
                  <a:pt x="9471" y="221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287360" y="4311720"/>
            <a:ext cx="7274520" cy="660240"/>
            <a:chOff x="1287360" y="4311720"/>
            <a:chExt cx="7274520" cy="660240"/>
          </a:xfrm>
        </p:grpSpPr>
        <p:cxnSp>
          <p:nvCxnSpPr>
            <p:cNvPr id="81" name=""/>
            <p:cNvCxnSpPr/>
            <p:nvPr/>
          </p:nvCxnSpPr>
          <p:spPr>
            <a:xfrm>
              <a:off x="1287360" y="4311720"/>
              <a:ext cx="7274880" cy="2160"/>
            </a:xfrm>
            <a:prstGeom prst="bentConnector3">
              <a:avLst>
                <a:gd name="adj1" fmla="val 4999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" name=""/>
            <p:cNvCxnSpPr/>
            <p:nvPr/>
          </p:nvCxnSpPr>
          <p:spPr>
            <a:xfrm>
              <a:off x="2886120" y="4325400"/>
              <a:ext cx="2160" cy="631080"/>
            </a:xfrm>
            <a:prstGeom prst="bentConnector3">
              <a:avLst>
                <a:gd name="adj1" fmla="val 4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" name=""/>
            <p:cNvCxnSpPr/>
            <p:nvPr/>
          </p:nvCxnSpPr>
          <p:spPr>
            <a:xfrm>
              <a:off x="3511080" y="4325400"/>
              <a:ext cx="2520" cy="631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" name=""/>
            <p:cNvCxnSpPr/>
            <p:nvPr/>
          </p:nvCxnSpPr>
          <p:spPr>
            <a:xfrm>
              <a:off x="2340000" y="4325400"/>
              <a:ext cx="2160" cy="631080"/>
            </a:xfrm>
            <a:prstGeom prst="bentConnector3">
              <a:avLst>
                <a:gd name="adj1" fmla="val 4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" name=""/>
            <p:cNvCxnSpPr/>
            <p:nvPr/>
          </p:nvCxnSpPr>
          <p:spPr>
            <a:xfrm>
              <a:off x="4105440" y="4325400"/>
              <a:ext cx="2160" cy="631080"/>
            </a:xfrm>
            <a:prstGeom prst="bentConnector3">
              <a:avLst>
                <a:gd name="adj1" fmla="val 4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" name=""/>
            <p:cNvCxnSpPr/>
            <p:nvPr/>
          </p:nvCxnSpPr>
          <p:spPr>
            <a:xfrm flipV="1" rot="10800000">
              <a:off x="5726880" y="4325040"/>
              <a:ext cx="8640" cy="613440"/>
            </a:xfrm>
            <a:prstGeom prst="bentConnector3">
              <a:avLst>
                <a:gd name="adj1" fmla="val 4782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" name=""/>
            <p:cNvCxnSpPr/>
            <p:nvPr/>
          </p:nvCxnSpPr>
          <p:spPr>
            <a:xfrm>
              <a:off x="6327360" y="4325400"/>
              <a:ext cx="2520" cy="631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" name=""/>
            <p:cNvCxnSpPr/>
            <p:nvPr/>
          </p:nvCxnSpPr>
          <p:spPr>
            <a:xfrm>
              <a:off x="6921000" y="4325400"/>
              <a:ext cx="2520" cy="631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" name=""/>
            <p:cNvCxnSpPr/>
            <p:nvPr/>
          </p:nvCxnSpPr>
          <p:spPr>
            <a:xfrm flipV="1" rot="10800000">
              <a:off x="7468560" y="4325400"/>
              <a:ext cx="8640" cy="646920"/>
            </a:xfrm>
            <a:prstGeom prst="bentConnector3">
              <a:avLst>
                <a:gd name="adj1" fmla="val 4782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" name=""/>
            <p:cNvCxnSpPr/>
            <p:nvPr/>
          </p:nvCxnSpPr>
          <p:spPr>
            <a:xfrm>
              <a:off x="8032320" y="4325400"/>
              <a:ext cx="2520" cy="631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1" name=""/>
            <p:cNvSpPr/>
            <p:nvPr/>
          </p:nvSpPr>
          <p:spPr>
            <a:xfrm>
              <a:off x="4716720" y="4398840"/>
              <a:ext cx="53424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03440" y="4398840"/>
              <a:ext cx="59364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/>
            <p:nvPr/>
          </p:nvCxnSpPr>
          <p:spPr>
            <a:xfrm>
              <a:off x="1287360" y="4960440"/>
              <a:ext cx="7274880" cy="2520"/>
            </a:xfrm>
            <a:prstGeom prst="bentConnector3">
              <a:avLst>
                <a:gd name="adj1" fmla="val 4999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94" name=""/>
          <p:cNvSpPr/>
          <p:nvPr/>
        </p:nvSpPr>
        <p:spPr>
          <a:xfrm>
            <a:off x="6558120" y="4451400"/>
            <a:ext cx="3729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18520" y="4006800"/>
            <a:ext cx="1882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2920" y="5442120"/>
            <a:ext cx="1467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 =*p + 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74120" y="4451400"/>
            <a:ext cx="3729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29080" y="4006800"/>
            <a:ext cx="2217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74160" y="4006800"/>
            <a:ext cx="2383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jemplo 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019160" y="1816200"/>
            <a:ext cx="713304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t x = 1, y =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t *ip; /* ip es puntero a entero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&amp;x; /* ip apunta al entero x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 = *ip; /* y es ahora 1   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0; /* x es ahora 0          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553080" y="624852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jemplo (cont.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cxnSp>
        <p:nvCxnSpPr>
          <p:cNvPr id="104" name=""/>
          <p:cNvCxnSpPr/>
          <p:nvPr/>
        </p:nvCxnSpPr>
        <p:spPr>
          <a:xfrm>
            <a:off x="899640" y="6093000"/>
            <a:ext cx="727308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" name=""/>
          <p:cNvCxnSpPr/>
          <p:nvPr/>
        </p:nvCxnSpPr>
        <p:spPr>
          <a:xfrm>
            <a:off x="255744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/>
          <p:nvPr/>
        </p:nvCxnSpPr>
        <p:spPr>
          <a:xfrm>
            <a:off x="3149640" y="5446800"/>
            <a:ext cx="2160" cy="6307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/>
          <p:nvPr/>
        </p:nvCxnSpPr>
        <p:spPr>
          <a:xfrm>
            <a:off x="196380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"/>
          <p:cNvCxnSpPr/>
          <p:nvPr/>
        </p:nvCxnSpPr>
        <p:spPr>
          <a:xfrm>
            <a:off x="3742920" y="5446800"/>
            <a:ext cx="2520" cy="63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" name=""/>
          <p:cNvCxnSpPr/>
          <p:nvPr/>
        </p:nvCxnSpPr>
        <p:spPr>
          <a:xfrm>
            <a:off x="53737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" name=""/>
          <p:cNvCxnSpPr/>
          <p:nvPr/>
        </p:nvCxnSpPr>
        <p:spPr>
          <a:xfrm>
            <a:off x="59659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/>
          <p:nvPr/>
        </p:nvCxnSpPr>
        <p:spPr>
          <a:xfrm>
            <a:off x="655956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"/>
          <p:cNvCxnSpPr/>
          <p:nvPr/>
        </p:nvCxnSpPr>
        <p:spPr>
          <a:xfrm>
            <a:off x="7114680" y="5447880"/>
            <a:ext cx="2520" cy="63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/>
          <p:nvPr/>
        </p:nvCxnSpPr>
        <p:spPr>
          <a:xfrm>
            <a:off x="767088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4354920" y="5502240"/>
            <a:ext cx="5342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41280" y="5502240"/>
            <a:ext cx="594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73760" y="5095800"/>
            <a:ext cx="4078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19160" y="1816200"/>
            <a:ext cx="713304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nt x = 1, y =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t *ip; /* ip es puntero a entero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&amp;x; /* ip apunta al entero x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 = *ip; /* y es ahora 1   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0; /* x es ahora 0          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85080" y="5076720"/>
            <a:ext cx="4824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112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1880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/>
          <p:nvPr/>
        </p:nvCxnSpPr>
        <p:spPr>
          <a:xfrm>
            <a:off x="899640" y="5444640"/>
            <a:ext cx="72730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553080" y="624852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/>
          <p:nvPr/>
        </p:nvCxnSpPr>
        <p:spPr>
          <a:xfrm>
            <a:off x="826560" y="5444640"/>
            <a:ext cx="720180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" name=""/>
          <p:cNvCxnSpPr/>
          <p:nvPr/>
        </p:nvCxnSpPr>
        <p:spPr>
          <a:xfrm>
            <a:off x="255744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" name=""/>
          <p:cNvCxnSpPr/>
          <p:nvPr/>
        </p:nvCxnSpPr>
        <p:spPr>
          <a:xfrm>
            <a:off x="3149640" y="5446800"/>
            <a:ext cx="2160" cy="6307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" name=""/>
          <p:cNvCxnSpPr/>
          <p:nvPr/>
        </p:nvCxnSpPr>
        <p:spPr>
          <a:xfrm>
            <a:off x="196380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>
            <a:off x="3742920" y="5446800"/>
            <a:ext cx="2520" cy="63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/>
          <p:nvPr/>
        </p:nvCxnSpPr>
        <p:spPr>
          <a:xfrm>
            <a:off x="53737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" name=""/>
          <p:cNvCxnSpPr/>
          <p:nvPr/>
        </p:nvCxnSpPr>
        <p:spPr>
          <a:xfrm>
            <a:off x="59659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/>
          <p:nvPr/>
        </p:nvCxnSpPr>
        <p:spPr>
          <a:xfrm>
            <a:off x="655956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/>
          <p:nvPr/>
        </p:nvCxnSpPr>
        <p:spPr>
          <a:xfrm>
            <a:off x="7114680" y="5447880"/>
            <a:ext cx="2520" cy="63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/>
          <p:nvPr/>
        </p:nvCxnSpPr>
        <p:spPr>
          <a:xfrm>
            <a:off x="767088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4354920" y="5502240"/>
            <a:ext cx="5342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41280" y="5502240"/>
            <a:ext cx="594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41720" y="5057640"/>
            <a:ext cx="4921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73760" y="5095800"/>
            <a:ext cx="4078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55520" y="1816200"/>
            <a:ext cx="713304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t x = 1, y =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int *ip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/* ip es puntero a entero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p = &amp;x; /* ip apunta al entero x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 = *ip; /* y es ahora 1   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0; /* x es ahora 0          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85080" y="5076720"/>
            <a:ext cx="4824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112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1880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97200" y="5632560"/>
            <a:ext cx="2221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4880" y="323640"/>
            <a:ext cx="7772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jemplo (cont.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cxnSp>
        <p:nvCxnSpPr>
          <p:cNvPr id="143" name=""/>
          <p:cNvCxnSpPr/>
          <p:nvPr/>
        </p:nvCxnSpPr>
        <p:spPr>
          <a:xfrm>
            <a:off x="826560" y="6093000"/>
            <a:ext cx="72018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553080" y="624852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71720" y="4595760"/>
            <a:ext cx="3409920" cy="1204920"/>
          </a:xfrm>
          <a:custGeom>
            <a:avLst/>
            <a:gdLst/>
            <a:ahLst/>
            <a:rect l="l" t="t" r="r" b="b"/>
            <a:pathLst>
              <a:path w="9472" h="3347">
                <a:moveTo>
                  <a:pt x="0" y="3346"/>
                </a:moveTo>
                <a:cubicBezTo>
                  <a:pt x="103" y="2625"/>
                  <a:pt x="976" y="405"/>
                  <a:pt x="1544" y="258"/>
                </a:cubicBezTo>
                <a:cubicBezTo>
                  <a:pt x="2092" y="116"/>
                  <a:pt x="2744" y="52"/>
                  <a:pt x="3294" y="52"/>
                </a:cubicBezTo>
                <a:cubicBezTo>
                  <a:pt x="3844" y="52"/>
                  <a:pt x="4323" y="52"/>
                  <a:pt x="4839" y="52"/>
                </a:cubicBezTo>
                <a:cubicBezTo>
                  <a:pt x="5385" y="52"/>
                  <a:pt x="6074" y="52"/>
                  <a:pt x="6692" y="103"/>
                </a:cubicBezTo>
                <a:cubicBezTo>
                  <a:pt x="7310" y="154"/>
                  <a:pt x="7618" y="0"/>
                  <a:pt x="7927" y="206"/>
                </a:cubicBezTo>
                <a:lnTo>
                  <a:pt x="9059" y="978"/>
                </a:lnTo>
                <a:lnTo>
                  <a:pt x="9368" y="1905"/>
                </a:lnTo>
                <a:lnTo>
                  <a:pt x="9471" y="2213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/>
          <p:nvPr/>
        </p:nvCxnSpPr>
        <p:spPr>
          <a:xfrm>
            <a:off x="971640" y="5444640"/>
            <a:ext cx="7130160" cy="2520"/>
          </a:xfrm>
          <a:prstGeom prst="bentConnector3">
            <a:avLst>
              <a:gd name="adj1" fmla="val 499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"/>
          <p:cNvCxnSpPr/>
          <p:nvPr/>
        </p:nvCxnSpPr>
        <p:spPr>
          <a:xfrm>
            <a:off x="255744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"/>
          <p:cNvCxnSpPr/>
          <p:nvPr/>
        </p:nvCxnSpPr>
        <p:spPr>
          <a:xfrm>
            <a:off x="3149640" y="5446800"/>
            <a:ext cx="2160" cy="6307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"/>
          <p:cNvCxnSpPr/>
          <p:nvPr/>
        </p:nvCxnSpPr>
        <p:spPr>
          <a:xfrm>
            <a:off x="196380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"/>
          <p:cNvCxnSpPr/>
          <p:nvPr/>
        </p:nvCxnSpPr>
        <p:spPr>
          <a:xfrm>
            <a:off x="3742920" y="5446800"/>
            <a:ext cx="2520" cy="63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" name=""/>
          <p:cNvCxnSpPr/>
          <p:nvPr/>
        </p:nvCxnSpPr>
        <p:spPr>
          <a:xfrm>
            <a:off x="53737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" name=""/>
          <p:cNvCxnSpPr/>
          <p:nvPr/>
        </p:nvCxnSpPr>
        <p:spPr>
          <a:xfrm>
            <a:off x="596592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" name=""/>
          <p:cNvCxnSpPr/>
          <p:nvPr/>
        </p:nvCxnSpPr>
        <p:spPr>
          <a:xfrm>
            <a:off x="655956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" name=""/>
          <p:cNvCxnSpPr/>
          <p:nvPr/>
        </p:nvCxnSpPr>
        <p:spPr>
          <a:xfrm>
            <a:off x="7114680" y="5447880"/>
            <a:ext cx="2520" cy="63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" name=""/>
          <p:cNvCxnSpPr/>
          <p:nvPr/>
        </p:nvCxnSpPr>
        <p:spPr>
          <a:xfrm>
            <a:off x="7670880" y="5447880"/>
            <a:ext cx="2160" cy="6310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4354920" y="5502240"/>
            <a:ext cx="5342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41280" y="5502240"/>
            <a:ext cx="594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41720" y="5057640"/>
            <a:ext cx="4921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73760" y="5095800"/>
            <a:ext cx="4078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19160" y="1816200"/>
            <a:ext cx="713304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t x = 1, y =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t *ip;  /* ip es puntero a entero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ip = &amp;x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/* ip apunta al entero x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 = *ip; /* y es ahora 1         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*ip = 0; /* x es ahora 0          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85080" y="5076720"/>
            <a:ext cx="4824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112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18800" y="5614920"/>
            <a:ext cx="153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4880" y="323640"/>
            <a:ext cx="77724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Ejemplo (cont.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cxnSp>
        <p:nvCxnSpPr>
          <p:cNvPr id="165" name=""/>
          <p:cNvCxnSpPr/>
          <p:nvPr/>
        </p:nvCxnSpPr>
        <p:spPr>
          <a:xfrm>
            <a:off x="971640" y="6093000"/>
            <a:ext cx="7130160" cy="2160"/>
          </a:xfrm>
          <a:prstGeom prst="bentConnector3">
            <a:avLst>
              <a:gd name="adj1" fmla="val 49997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unteros</dc:title>
</cp:coreProperties>
</file>